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10.jpeg" ContentType="image/jpeg"/>
  <Override PartName="/ppt/media/image8.jpeg" ContentType="image/jpeg"/>
  <Override PartName="/ppt/media/image16.jpeg" ContentType="image/jpeg"/>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5.wmf" ContentType="image/x-wmf"/>
  <Override PartName="/ppt/media/image7.png" ContentType="image/png"/>
  <Override PartName="/ppt/media/image11.wmf" ContentType="image/x-wmf"/>
  <Override PartName="/ppt/media/image12.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42F03-2AD8-4AF9-9BF7-5DDBEDEC5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73D9A-8F48-48EE-9C36-CC1007A32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C1A09-A7EE-48DC-B0B8-F73196981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E5D6B-E7ED-407F-A5C3-FF7A3494D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69858-4819-4198-9D15-3A5D0C36D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EEA69-3D6F-4E4C-8632-336CE44F5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0370D-514E-45D1-AD83-5AF907F33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C1FD-6E82-45EB-AEA0-3BE09413D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D9BEC-F084-4909-9AE7-D2D28CE1F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2B8F-567F-43BA-A28E-56D6AEEF4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7ED3C-7BB5-41C7-AEF9-AB1021798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03150-ED3F-4BAD-8ABE-58433E1F2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4D41-30A2-4D2C-B554-B71752678B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ms of a Finite and Infinite Geometric Sequences</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43" name=""/>
          <p:cNvGraphicFramePr/>
          <p:nvPr/>
        </p:nvGraphicFramePr>
        <p:xfrm>
          <a:off x="990720" y="3733920"/>
          <a:ext cx="3886200" cy="1780920"/>
        </p:xfrm>
        <a:graphic>
          <a:graphicData uri="http://schemas.openxmlformats.org/presentationml/2006/ole">
            <p:oleObj r:id="rId1" spid="">
              <p:embed/>
              <p:pic>
                <p:nvPicPr>
                  <p:cNvPr id="44" name="" descr=""/>
                  <p:cNvPicPr/>
                  <p:nvPr/>
                </p:nvPicPr>
                <p:blipFill>
                  <a:blip r:embed="rId2"/>
                  <a:stretch/>
                </p:blipFill>
                <p:spPr>
                  <a:xfrm>
                    <a:off x="990720" y="3733920"/>
                    <a:ext cx="3886200" cy="1780920"/>
                  </a:xfrm>
                  <a:prstGeom prst="rect">
                    <a:avLst/>
                  </a:prstGeom>
                  <a:ln w="0">
                    <a:noFill/>
                  </a:ln>
                </p:spPr>
              </p:pic>
            </p:oleObj>
          </a:graphicData>
        </a:graphic>
      </p:graphicFrame>
      <p:graphicFrame>
        <p:nvGraphicFramePr>
          <p:cNvPr id="45" name=""/>
          <p:cNvGraphicFramePr/>
          <p:nvPr/>
        </p:nvGraphicFramePr>
        <p:xfrm>
          <a:off x="5943600" y="4114800"/>
          <a:ext cx="1752480" cy="1208160"/>
        </p:xfrm>
        <a:graphic>
          <a:graphicData uri="http://schemas.openxmlformats.org/presentationml/2006/ole">
            <p:oleObj r:id="rId3" spid="">
              <p:embed/>
              <p:pic>
                <p:nvPicPr>
                  <p:cNvPr id="46" name="" descr=""/>
                  <p:cNvPicPr/>
                  <p:nvPr/>
                </p:nvPicPr>
                <p:blipFill>
                  <a:blip r:embed="rId4"/>
                  <a:stretch/>
                </p:blipFill>
                <p:spPr>
                  <a:xfrm>
                    <a:off x="5943600" y="4114800"/>
                    <a:ext cx="1752480" cy="12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um of an infinite geometric sequence</a:t>
            </a:r>
            <a:endParaRPr b="0" lang="en-US" sz="4000" spc="-1" strike="noStrike">
              <a:solidFill>
                <a:srgbClr val="e3ebf1"/>
              </a:solidFill>
              <a:latin typeface="Arial"/>
            </a:endParaRPr>
          </a:p>
        </p:txBody>
      </p:sp>
      <p:graphicFrame>
        <p:nvGraphicFramePr>
          <p:cNvPr id="130" name=""/>
          <p:cNvGraphicFramePr/>
          <p:nvPr/>
        </p:nvGraphicFramePr>
        <p:xfrm>
          <a:off x="3200400" y="2057400"/>
          <a:ext cx="2666880" cy="1836720"/>
        </p:xfrm>
        <a:graphic>
          <a:graphicData uri="http://schemas.openxmlformats.org/presentationml/2006/ole">
            <p:oleObj r:id="rId1" spid="">
              <p:embed/>
              <p:pic>
                <p:nvPicPr>
                  <p:cNvPr id="131" name="" descr=""/>
                  <p:cNvPicPr/>
                  <p:nvPr/>
                </p:nvPicPr>
                <p:blipFill>
                  <a:blip r:embed="rId2"/>
                  <a:stretch/>
                </p:blipFill>
                <p:spPr>
                  <a:xfrm>
                    <a:off x="3200400" y="2057400"/>
                    <a:ext cx="2666880" cy="1836720"/>
                  </a:xfrm>
                  <a:prstGeom prst="rect">
                    <a:avLst/>
                  </a:prstGeom>
                  <a:ln w="0">
                    <a:noFill/>
                  </a:ln>
                </p:spPr>
              </p:pic>
            </p:oleObj>
          </a:graphicData>
        </a:graphic>
      </p:graphicFrame>
      <p:sp>
        <p:nvSpPr>
          <p:cNvPr id="132" name=""/>
          <p:cNvSpPr/>
          <p:nvPr/>
        </p:nvSpPr>
        <p:spPr>
          <a:xfrm>
            <a:off x="4224240" y="3106800"/>
            <a:ext cx="231840" cy="652320"/>
          </a:xfrm>
          <a:custGeom>
            <a:avLst/>
            <a:gdLst/>
            <a:ahLst/>
            <a:rect l="l" t="t" r="r" b="b"/>
            <a:pathLst>
              <a:path w="646" h="1812">
                <a:moveTo>
                  <a:pt x="12378" y="8632"/>
                </a:moveTo>
                <a:cubicBezTo>
                  <a:pt x="12313" y="8640"/>
                  <a:pt x="12238" y="8674"/>
                  <a:pt x="12204" y="8731"/>
                </a:cubicBezTo>
                <a:cubicBezTo>
                  <a:pt x="12141" y="8836"/>
                  <a:pt x="12057" y="8921"/>
                  <a:pt x="11981" y="9029"/>
                </a:cubicBezTo>
                <a:cubicBezTo>
                  <a:pt x="11906" y="9136"/>
                  <a:pt x="11821" y="9251"/>
                  <a:pt x="11782" y="9376"/>
                </a:cubicBezTo>
                <a:cubicBezTo>
                  <a:pt x="11741" y="9505"/>
                  <a:pt x="11733" y="9613"/>
                  <a:pt x="11733" y="9748"/>
                </a:cubicBezTo>
                <a:cubicBezTo>
                  <a:pt x="11733" y="9854"/>
                  <a:pt x="11757" y="9975"/>
                  <a:pt x="11807" y="10071"/>
                </a:cubicBezTo>
                <a:cubicBezTo>
                  <a:pt x="11851" y="10155"/>
                  <a:pt x="11921" y="10271"/>
                  <a:pt x="11981" y="10344"/>
                </a:cubicBezTo>
                <a:cubicBezTo>
                  <a:pt x="12026" y="10400"/>
                  <a:pt x="12084" y="10413"/>
                  <a:pt x="12154" y="1044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554800" y="3160800"/>
            <a:ext cx="249120" cy="644400"/>
          </a:xfrm>
          <a:custGeom>
            <a:avLst/>
            <a:gdLst/>
            <a:ahLst/>
            <a:rect l="l" t="t" r="r" b="b"/>
            <a:pathLst>
              <a:path w="695" h="1787">
                <a:moveTo>
                  <a:pt x="15429" y="8781"/>
                </a:moveTo>
                <a:cubicBezTo>
                  <a:pt x="15560" y="8890"/>
                  <a:pt x="15687" y="9008"/>
                  <a:pt x="15776" y="9153"/>
                </a:cubicBezTo>
                <a:cubicBezTo>
                  <a:pt x="15877" y="9317"/>
                  <a:pt x="15947" y="9500"/>
                  <a:pt x="16024" y="9674"/>
                </a:cubicBezTo>
                <a:cubicBezTo>
                  <a:pt x="16093" y="9831"/>
                  <a:pt x="16109" y="9955"/>
                  <a:pt x="16098" y="10120"/>
                </a:cubicBezTo>
                <a:cubicBezTo>
                  <a:pt x="16091" y="10219"/>
                  <a:pt x="16065" y="10282"/>
                  <a:pt x="16024" y="10368"/>
                </a:cubicBezTo>
                <a:cubicBezTo>
                  <a:pt x="15986" y="10448"/>
                  <a:pt x="15925" y="10496"/>
                  <a:pt x="15850" y="10517"/>
                </a:cubicBezTo>
                <a:cubicBezTo>
                  <a:pt x="15776" y="10537"/>
                  <a:pt x="15803" y="10483"/>
                  <a:pt x="15776" y="1056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d the sum:                  </a:t>
            </a:r>
            <a:endParaRPr b="0" lang="en-US" sz="4400" spc="-1" strike="noStrike">
              <a:solidFill>
                <a:srgbClr val="e3ebf1"/>
              </a:solidFill>
              <a:latin typeface="Arial"/>
            </a:endParaRPr>
          </a:p>
        </p:txBody>
      </p:sp>
      <p:graphicFrame>
        <p:nvGraphicFramePr>
          <p:cNvPr id="135" name=""/>
          <p:cNvGraphicFramePr/>
          <p:nvPr/>
        </p:nvGraphicFramePr>
        <p:xfrm>
          <a:off x="762120" y="1600200"/>
          <a:ext cx="2361960" cy="1544760"/>
        </p:xfrm>
        <a:graphic>
          <a:graphicData uri="http://schemas.openxmlformats.org/presentationml/2006/ole">
            <p:oleObj r:id="rId1" spid="">
              <p:embed/>
              <p:pic>
                <p:nvPicPr>
                  <p:cNvPr id="136" name="" descr=""/>
                  <p:cNvPicPr/>
                  <p:nvPr/>
                </p:nvPicPr>
                <p:blipFill>
                  <a:blip r:embed="rId2"/>
                  <a:stretch/>
                </p:blipFill>
                <p:spPr>
                  <a:xfrm>
                    <a:off x="762120" y="1600200"/>
                    <a:ext cx="2361960" cy="1544760"/>
                  </a:xfrm>
                  <a:prstGeom prst="rect">
                    <a:avLst/>
                  </a:prstGeom>
                  <a:ln w="0">
                    <a:noFill/>
                  </a:ln>
                </p:spPr>
              </p:pic>
            </p:oleObj>
          </a:graphicData>
        </a:graphic>
      </p:graphicFrame>
      <p:sp>
        <p:nvSpPr>
          <p:cNvPr id="137" name=""/>
          <p:cNvSpPr/>
          <p:nvPr/>
        </p:nvSpPr>
        <p:spPr>
          <a:xfrm>
            <a:off x="4214880" y="1490760"/>
            <a:ext cx="2340000" cy="1009440"/>
          </a:xfrm>
          <a:custGeom>
            <a:avLst/>
            <a:gdLst/>
            <a:ahLst/>
            <a:rect l="l" t="t" r="r" b="b"/>
            <a:pathLst>
              <a:path w="6500" h="2804">
                <a:moveTo>
                  <a:pt x="12998" y="4490"/>
                </a:moveTo>
                <a:cubicBezTo>
                  <a:pt x="12989" y="4557"/>
                  <a:pt x="12993" y="4536"/>
                  <a:pt x="12973" y="4589"/>
                </a:cubicBezTo>
                <a:cubicBezTo>
                  <a:pt x="12936" y="4562"/>
                  <a:pt x="12931" y="4552"/>
                  <a:pt x="12898" y="4514"/>
                </a:cubicBezTo>
                <a:cubicBezTo>
                  <a:pt x="12848" y="4457"/>
                  <a:pt x="12799" y="4395"/>
                  <a:pt x="12725" y="4390"/>
                </a:cubicBezTo>
                <a:cubicBezTo>
                  <a:pt x="12619" y="4382"/>
                  <a:pt x="12528" y="4404"/>
                  <a:pt x="12427" y="4415"/>
                </a:cubicBezTo>
                <a:cubicBezTo>
                  <a:pt x="12315" y="4428"/>
                  <a:pt x="12271" y="4454"/>
                  <a:pt x="12179" y="4514"/>
                </a:cubicBezTo>
                <a:cubicBezTo>
                  <a:pt x="12100" y="4566"/>
                  <a:pt x="12013" y="4609"/>
                  <a:pt x="11956" y="4688"/>
                </a:cubicBezTo>
                <a:cubicBezTo>
                  <a:pt x="11906" y="4758"/>
                  <a:pt x="11869" y="4795"/>
                  <a:pt x="11881" y="4887"/>
                </a:cubicBezTo>
                <a:cubicBezTo>
                  <a:pt x="11888" y="4941"/>
                  <a:pt x="11990" y="5014"/>
                  <a:pt x="12030" y="5035"/>
                </a:cubicBezTo>
                <a:cubicBezTo>
                  <a:pt x="12110" y="5077"/>
                  <a:pt x="12221" y="5128"/>
                  <a:pt x="12303" y="5159"/>
                </a:cubicBezTo>
                <a:cubicBezTo>
                  <a:pt x="12462" y="5219"/>
                  <a:pt x="12584" y="5288"/>
                  <a:pt x="12725" y="5383"/>
                </a:cubicBezTo>
                <a:cubicBezTo>
                  <a:pt x="12837" y="5458"/>
                  <a:pt x="12903" y="5514"/>
                  <a:pt x="12973" y="5631"/>
                </a:cubicBezTo>
                <a:cubicBezTo>
                  <a:pt x="13022" y="5713"/>
                  <a:pt x="13021" y="5748"/>
                  <a:pt x="12998" y="5829"/>
                </a:cubicBezTo>
                <a:cubicBezTo>
                  <a:pt x="12969" y="5928"/>
                  <a:pt x="12880" y="5943"/>
                  <a:pt x="12799" y="5978"/>
                </a:cubicBezTo>
                <a:cubicBezTo>
                  <a:pt x="12687" y="6027"/>
                  <a:pt x="12598" y="6028"/>
                  <a:pt x="12477" y="6028"/>
                </a:cubicBezTo>
                <a:cubicBezTo>
                  <a:pt x="12347" y="6028"/>
                  <a:pt x="12231" y="6016"/>
                  <a:pt x="12105" y="6003"/>
                </a:cubicBezTo>
                <a:cubicBezTo>
                  <a:pt x="12011" y="5994"/>
                  <a:pt x="11922" y="5967"/>
                  <a:pt x="11832" y="5953"/>
                </a:cubicBezTo>
                <a:cubicBezTo>
                  <a:pt x="11771" y="5943"/>
                  <a:pt x="11760" y="5927"/>
                  <a:pt x="11708" y="5904"/>
                </a:cubicBezTo>
              </a:path>
              <a:path w="6500" h="2804">
                <a:moveTo>
                  <a:pt x="12948" y="6003"/>
                </a:moveTo>
                <a:cubicBezTo>
                  <a:pt x="12948" y="6081"/>
                  <a:pt x="12953" y="6116"/>
                  <a:pt x="12973" y="6176"/>
                </a:cubicBezTo>
                <a:cubicBezTo>
                  <a:pt x="12973" y="6201"/>
                  <a:pt x="12973" y="6209"/>
                  <a:pt x="12973" y="6226"/>
                </a:cubicBezTo>
                <a:cubicBezTo>
                  <a:pt x="13011" y="6213"/>
                  <a:pt x="12998" y="6197"/>
                  <a:pt x="12998" y="6152"/>
                </a:cubicBezTo>
                <a:cubicBezTo>
                  <a:pt x="12998" y="6091"/>
                  <a:pt x="12987" y="6032"/>
                  <a:pt x="13022" y="5978"/>
                </a:cubicBezTo>
                <a:cubicBezTo>
                  <a:pt x="13048" y="5939"/>
                  <a:pt x="13074" y="5898"/>
                  <a:pt x="13122" y="5879"/>
                </a:cubicBezTo>
                <a:cubicBezTo>
                  <a:pt x="13147" y="5869"/>
                  <a:pt x="13230" y="5896"/>
                  <a:pt x="13246" y="5904"/>
                </a:cubicBezTo>
                <a:cubicBezTo>
                  <a:pt x="13297" y="5928"/>
                  <a:pt x="13299" y="5988"/>
                  <a:pt x="13320" y="6028"/>
                </a:cubicBezTo>
                <a:cubicBezTo>
                  <a:pt x="13350" y="6083"/>
                  <a:pt x="13365" y="6140"/>
                  <a:pt x="13370" y="6201"/>
                </a:cubicBezTo>
                <a:cubicBezTo>
                  <a:pt x="13374" y="6247"/>
                  <a:pt x="13386" y="6228"/>
                  <a:pt x="13395" y="6201"/>
                </a:cubicBezTo>
              </a:path>
              <a:path w="6500" h="2804">
                <a:moveTo>
                  <a:pt x="13791" y="5507"/>
                </a:moveTo>
                <a:cubicBezTo>
                  <a:pt x="13873" y="5525"/>
                  <a:pt x="13912" y="5531"/>
                  <a:pt x="13990" y="5531"/>
                </a:cubicBezTo>
                <a:cubicBezTo>
                  <a:pt x="14015" y="5531"/>
                  <a:pt x="14023" y="5531"/>
                  <a:pt x="14015" y="5556"/>
                </a:cubicBezTo>
              </a:path>
              <a:path w="6500" h="2804">
                <a:moveTo>
                  <a:pt x="13767" y="5755"/>
                </a:moveTo>
                <a:cubicBezTo>
                  <a:pt x="13831" y="5755"/>
                  <a:pt x="13857" y="5755"/>
                  <a:pt x="13915" y="5730"/>
                </a:cubicBezTo>
              </a:path>
              <a:path w="6500" h="2804">
                <a:moveTo>
                  <a:pt x="14684" y="5482"/>
                </a:moveTo>
                <a:cubicBezTo>
                  <a:pt x="14751" y="5527"/>
                  <a:pt x="14692" y="5457"/>
                  <a:pt x="14684" y="5432"/>
                </a:cubicBezTo>
                <a:cubicBezTo>
                  <a:pt x="14669" y="5387"/>
                  <a:pt x="14679" y="5329"/>
                  <a:pt x="14660" y="5283"/>
                </a:cubicBezTo>
                <a:cubicBezTo>
                  <a:pt x="14640" y="5234"/>
                  <a:pt x="14618" y="5171"/>
                  <a:pt x="14585" y="5135"/>
                </a:cubicBezTo>
                <a:cubicBezTo>
                  <a:pt x="14547" y="5093"/>
                  <a:pt x="14502" y="5103"/>
                  <a:pt x="14461" y="5135"/>
                </a:cubicBezTo>
                <a:cubicBezTo>
                  <a:pt x="14376" y="5201"/>
                  <a:pt x="14340" y="5248"/>
                  <a:pt x="14288" y="5358"/>
                </a:cubicBezTo>
                <a:cubicBezTo>
                  <a:pt x="14242" y="5455"/>
                  <a:pt x="14240" y="5558"/>
                  <a:pt x="14213" y="5655"/>
                </a:cubicBezTo>
                <a:cubicBezTo>
                  <a:pt x="14191" y="5735"/>
                  <a:pt x="14174" y="5782"/>
                  <a:pt x="14213" y="5854"/>
                </a:cubicBezTo>
                <a:cubicBezTo>
                  <a:pt x="14246" y="5915"/>
                  <a:pt x="14279" y="5943"/>
                  <a:pt x="14337" y="5904"/>
                </a:cubicBezTo>
                <a:cubicBezTo>
                  <a:pt x="14379" y="5876"/>
                  <a:pt x="14413" y="5798"/>
                  <a:pt x="14436" y="5755"/>
                </a:cubicBezTo>
                <a:cubicBezTo>
                  <a:pt x="14472" y="5687"/>
                  <a:pt x="14488" y="5624"/>
                  <a:pt x="14511" y="5556"/>
                </a:cubicBezTo>
                <a:cubicBezTo>
                  <a:pt x="14519" y="5540"/>
                  <a:pt x="14528" y="5523"/>
                  <a:pt x="14536" y="5507"/>
                </a:cubicBezTo>
                <a:cubicBezTo>
                  <a:pt x="14536" y="5466"/>
                  <a:pt x="14536" y="5540"/>
                  <a:pt x="14536" y="5581"/>
                </a:cubicBezTo>
                <a:cubicBezTo>
                  <a:pt x="14536" y="5671"/>
                  <a:pt x="14525" y="5769"/>
                  <a:pt x="14560" y="5854"/>
                </a:cubicBezTo>
                <a:cubicBezTo>
                  <a:pt x="14571" y="5881"/>
                  <a:pt x="14655" y="5961"/>
                  <a:pt x="14684" y="5953"/>
                </a:cubicBezTo>
                <a:cubicBezTo>
                  <a:pt x="14701" y="5945"/>
                  <a:pt x="14717" y="5936"/>
                  <a:pt x="14734" y="5928"/>
                </a:cubicBezTo>
              </a:path>
              <a:path w="6500" h="2804">
                <a:moveTo>
                  <a:pt x="14908" y="5829"/>
                </a:moveTo>
                <a:cubicBezTo>
                  <a:pt x="14893" y="5906"/>
                  <a:pt x="14858" y="5998"/>
                  <a:pt x="14858" y="6077"/>
                </a:cubicBezTo>
                <a:cubicBezTo>
                  <a:pt x="14858" y="6102"/>
                  <a:pt x="14858" y="6110"/>
                  <a:pt x="14858" y="6127"/>
                </a:cubicBezTo>
              </a:path>
              <a:path w="6500" h="2804">
                <a:moveTo>
                  <a:pt x="15677" y="4217"/>
                </a:moveTo>
                <a:cubicBezTo>
                  <a:pt x="15611" y="4357"/>
                  <a:pt x="15525" y="4517"/>
                  <a:pt x="15478" y="4663"/>
                </a:cubicBezTo>
                <a:cubicBezTo>
                  <a:pt x="15423" y="4836"/>
                  <a:pt x="15358" y="5009"/>
                  <a:pt x="15304" y="5184"/>
                </a:cubicBezTo>
                <a:cubicBezTo>
                  <a:pt x="15238" y="5397"/>
                  <a:pt x="15177" y="5611"/>
                  <a:pt x="15131" y="5829"/>
                </a:cubicBezTo>
                <a:cubicBezTo>
                  <a:pt x="15096" y="5998"/>
                  <a:pt x="15087" y="6202"/>
                  <a:pt x="15106" y="6375"/>
                </a:cubicBezTo>
                <a:cubicBezTo>
                  <a:pt x="15117" y="6474"/>
                  <a:pt x="15121" y="6637"/>
                  <a:pt x="15180" y="6722"/>
                </a:cubicBezTo>
                <a:cubicBezTo>
                  <a:pt x="15259" y="6835"/>
                  <a:pt x="15310" y="6788"/>
                  <a:pt x="15429" y="6747"/>
                </a:cubicBezTo>
              </a:path>
              <a:path w="6500" h="2804">
                <a:moveTo>
                  <a:pt x="15999" y="4465"/>
                </a:moveTo>
                <a:cubicBezTo>
                  <a:pt x="15981" y="4614"/>
                  <a:pt x="15964" y="4764"/>
                  <a:pt x="15949" y="4911"/>
                </a:cubicBezTo>
                <a:cubicBezTo>
                  <a:pt x="15940" y="5005"/>
                  <a:pt x="15914" y="5095"/>
                  <a:pt x="15900" y="5184"/>
                </a:cubicBezTo>
                <a:cubicBezTo>
                  <a:pt x="15890" y="5248"/>
                  <a:pt x="15867" y="5303"/>
                  <a:pt x="15850" y="5358"/>
                </a:cubicBezTo>
                <a:cubicBezTo>
                  <a:pt x="15850" y="5366"/>
                  <a:pt x="15850" y="5375"/>
                  <a:pt x="15850" y="5383"/>
                </a:cubicBezTo>
              </a:path>
              <a:path w="6500" h="2804">
                <a:moveTo>
                  <a:pt x="16173" y="4911"/>
                </a:moveTo>
                <a:cubicBezTo>
                  <a:pt x="16256" y="4911"/>
                  <a:pt x="16318" y="4891"/>
                  <a:pt x="16396" y="4887"/>
                </a:cubicBezTo>
                <a:cubicBezTo>
                  <a:pt x="16413" y="4887"/>
                  <a:pt x="16429" y="4887"/>
                  <a:pt x="16446" y="4887"/>
                </a:cubicBezTo>
              </a:path>
              <a:path w="6500" h="2804">
                <a:moveTo>
                  <a:pt x="16669" y="4887"/>
                </a:moveTo>
                <a:cubicBezTo>
                  <a:pt x="16675" y="5004"/>
                  <a:pt x="16694" y="5094"/>
                  <a:pt x="16694" y="5209"/>
                </a:cubicBezTo>
                <a:cubicBezTo>
                  <a:pt x="16694" y="5242"/>
                  <a:pt x="16694" y="5258"/>
                  <a:pt x="16694" y="5283"/>
                </a:cubicBezTo>
                <a:cubicBezTo>
                  <a:pt x="16694" y="5171"/>
                  <a:pt x="16671" y="5037"/>
                  <a:pt x="16718" y="4936"/>
                </a:cubicBezTo>
                <a:cubicBezTo>
                  <a:pt x="16744" y="4882"/>
                  <a:pt x="16792" y="4821"/>
                  <a:pt x="16842" y="4787"/>
                </a:cubicBezTo>
                <a:cubicBezTo>
                  <a:pt x="16884" y="4759"/>
                  <a:pt x="16927" y="4745"/>
                  <a:pt x="16966" y="4713"/>
                </a:cubicBezTo>
              </a:path>
              <a:path w="6500" h="2804">
                <a:moveTo>
                  <a:pt x="17140" y="4366"/>
                </a:moveTo>
                <a:cubicBezTo>
                  <a:pt x="17140" y="4473"/>
                  <a:pt x="17140" y="4581"/>
                  <a:pt x="17140" y="4688"/>
                </a:cubicBezTo>
                <a:cubicBezTo>
                  <a:pt x="17140" y="4639"/>
                  <a:pt x="17157" y="4602"/>
                  <a:pt x="17165" y="4564"/>
                </a:cubicBezTo>
                <a:cubicBezTo>
                  <a:pt x="17174" y="4518"/>
                  <a:pt x="17189" y="4457"/>
                  <a:pt x="17214" y="4415"/>
                </a:cubicBezTo>
                <a:cubicBezTo>
                  <a:pt x="17249" y="4356"/>
                  <a:pt x="17292" y="4364"/>
                  <a:pt x="17338" y="4341"/>
                </a:cubicBezTo>
                <a:cubicBezTo>
                  <a:pt x="17399" y="4310"/>
                  <a:pt x="17397" y="4360"/>
                  <a:pt x="17438" y="4415"/>
                </a:cubicBezTo>
                <a:cubicBezTo>
                  <a:pt x="17483" y="4476"/>
                  <a:pt x="17455" y="4552"/>
                  <a:pt x="17487" y="4614"/>
                </a:cubicBezTo>
                <a:cubicBezTo>
                  <a:pt x="17498" y="4636"/>
                  <a:pt x="17548" y="4714"/>
                  <a:pt x="17537" y="4738"/>
                </a:cubicBezTo>
                <a:cubicBezTo>
                  <a:pt x="17514" y="4760"/>
                  <a:pt x="17506" y="4765"/>
                  <a:pt x="17512" y="4787"/>
                </a:cubicBezTo>
              </a:path>
              <a:path w="6500" h="2804">
                <a:moveTo>
                  <a:pt x="15429" y="5655"/>
                </a:moveTo>
                <a:cubicBezTo>
                  <a:pt x="15590" y="5677"/>
                  <a:pt x="15738" y="5680"/>
                  <a:pt x="15900" y="5680"/>
                </a:cubicBezTo>
                <a:cubicBezTo>
                  <a:pt x="16150" y="5680"/>
                  <a:pt x="16396" y="5691"/>
                  <a:pt x="16644" y="5705"/>
                </a:cubicBezTo>
                <a:cubicBezTo>
                  <a:pt x="16845" y="5716"/>
                  <a:pt x="17041" y="5707"/>
                  <a:pt x="17239" y="5730"/>
                </a:cubicBezTo>
                <a:cubicBezTo>
                  <a:pt x="17295" y="5737"/>
                  <a:pt x="17344" y="5709"/>
                  <a:pt x="17264" y="5705"/>
                </a:cubicBezTo>
                <a:cubicBezTo>
                  <a:pt x="17239" y="5705"/>
                  <a:pt x="17215" y="5705"/>
                  <a:pt x="17190" y="5705"/>
                </a:cubicBezTo>
              </a:path>
              <a:path w="6500" h="2804">
                <a:moveTo>
                  <a:pt x="15701" y="5904"/>
                </a:moveTo>
                <a:cubicBezTo>
                  <a:pt x="15721" y="6064"/>
                  <a:pt x="15707" y="6151"/>
                  <a:pt x="15701" y="6300"/>
                </a:cubicBezTo>
                <a:cubicBezTo>
                  <a:pt x="15698" y="6387"/>
                  <a:pt x="15677" y="6458"/>
                  <a:pt x="15677" y="6548"/>
                </a:cubicBezTo>
                <a:cubicBezTo>
                  <a:pt x="15677" y="6606"/>
                  <a:pt x="15677" y="6664"/>
                  <a:pt x="15677" y="6722"/>
                </a:cubicBezTo>
              </a:path>
              <a:path w="6500" h="2804">
                <a:moveTo>
                  <a:pt x="15925" y="6375"/>
                </a:moveTo>
                <a:cubicBezTo>
                  <a:pt x="16001" y="6352"/>
                  <a:pt x="16045" y="6350"/>
                  <a:pt x="16123" y="6350"/>
                </a:cubicBezTo>
                <a:cubicBezTo>
                  <a:pt x="16178" y="6350"/>
                  <a:pt x="16218" y="6332"/>
                  <a:pt x="16272" y="6325"/>
                </a:cubicBezTo>
              </a:path>
              <a:path w="6500" h="2804">
                <a:moveTo>
                  <a:pt x="16495" y="6350"/>
                </a:moveTo>
                <a:cubicBezTo>
                  <a:pt x="16475" y="6424"/>
                  <a:pt x="16470" y="6472"/>
                  <a:pt x="16470" y="6548"/>
                </a:cubicBezTo>
                <a:cubicBezTo>
                  <a:pt x="16470" y="6558"/>
                  <a:pt x="16470" y="6712"/>
                  <a:pt x="16470" y="6648"/>
                </a:cubicBezTo>
                <a:cubicBezTo>
                  <a:pt x="16470" y="6574"/>
                  <a:pt x="16483" y="6517"/>
                  <a:pt x="16495" y="6449"/>
                </a:cubicBezTo>
                <a:cubicBezTo>
                  <a:pt x="16507" y="6382"/>
                  <a:pt x="16533" y="6323"/>
                  <a:pt x="16594" y="6276"/>
                </a:cubicBezTo>
                <a:cubicBezTo>
                  <a:pt x="16644" y="6238"/>
                  <a:pt x="16734" y="6211"/>
                  <a:pt x="16793" y="6201"/>
                </a:cubicBezTo>
                <a:cubicBezTo>
                  <a:pt x="16840" y="6193"/>
                  <a:pt x="16894" y="6201"/>
                  <a:pt x="16942" y="6201"/>
                </a:cubicBezTo>
              </a:path>
              <a:path w="6500" h="2804">
                <a:moveTo>
                  <a:pt x="17884" y="4142"/>
                </a:moveTo>
                <a:cubicBezTo>
                  <a:pt x="17974" y="4348"/>
                  <a:pt x="18083" y="4566"/>
                  <a:pt x="18132" y="4787"/>
                </a:cubicBezTo>
                <a:cubicBezTo>
                  <a:pt x="18204" y="5116"/>
                  <a:pt x="18225" y="5470"/>
                  <a:pt x="18207" y="5804"/>
                </a:cubicBezTo>
                <a:cubicBezTo>
                  <a:pt x="18196" y="6000"/>
                  <a:pt x="18137" y="6196"/>
                  <a:pt x="18058" y="6375"/>
                </a:cubicBezTo>
                <a:cubicBezTo>
                  <a:pt x="18000" y="6506"/>
                  <a:pt x="17908" y="6621"/>
                  <a:pt x="17810" y="6722"/>
                </a:cubicBezTo>
                <a:cubicBezTo>
                  <a:pt x="17745" y="6789"/>
                  <a:pt x="17663" y="6866"/>
                  <a:pt x="17587" y="6921"/>
                </a:cubicBezTo>
                <a:cubicBezTo>
                  <a:pt x="17519" y="6970"/>
                  <a:pt x="17517" y="6933"/>
                  <a:pt x="17462" y="692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6215040" y="3510000"/>
            <a:ext cx="258840" cy="428760"/>
          </a:xfrm>
          <a:custGeom>
            <a:avLst/>
            <a:gdLst/>
            <a:ahLst/>
            <a:rect l="l" t="t" r="r" b="b"/>
            <a:pathLst>
              <a:path w="720" h="1192">
                <a:moveTo>
                  <a:pt x="17711" y="9748"/>
                </a:moveTo>
                <a:cubicBezTo>
                  <a:pt x="17727" y="9771"/>
                  <a:pt x="17813" y="9856"/>
                  <a:pt x="17835" y="9897"/>
                </a:cubicBezTo>
                <a:cubicBezTo>
                  <a:pt x="17886" y="9991"/>
                  <a:pt x="17925" y="10092"/>
                  <a:pt x="17959" y="10195"/>
                </a:cubicBezTo>
                <a:cubicBezTo>
                  <a:pt x="17991" y="10292"/>
                  <a:pt x="18005" y="10420"/>
                  <a:pt x="17959" y="10517"/>
                </a:cubicBezTo>
                <a:cubicBezTo>
                  <a:pt x="17890" y="10661"/>
                  <a:pt x="17867" y="10682"/>
                  <a:pt x="17735" y="10765"/>
                </a:cubicBezTo>
                <a:cubicBezTo>
                  <a:pt x="17638" y="10826"/>
                  <a:pt x="17543" y="10846"/>
                  <a:pt x="17438" y="10889"/>
                </a:cubicBezTo>
                <a:cubicBezTo>
                  <a:pt x="17380" y="10913"/>
                  <a:pt x="17313" y="10914"/>
                  <a:pt x="17264" y="10939"/>
                </a:cubicBezTo>
                <a:cubicBezTo>
                  <a:pt x="17272" y="10939"/>
                  <a:pt x="17281" y="10939"/>
                  <a:pt x="17289" y="1093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973080" y="3251160"/>
            <a:ext cx="1233720" cy="419040"/>
          </a:xfrm>
          <a:custGeom>
            <a:avLst/>
            <a:gdLst/>
            <a:ahLst/>
            <a:rect l="l" t="t" r="r" b="b"/>
            <a:pathLst>
              <a:path w="3424" h="1167">
                <a:moveTo>
                  <a:pt x="2704" y="9029"/>
                </a:moveTo>
                <a:cubicBezTo>
                  <a:pt x="2704" y="9266"/>
                  <a:pt x="2680" y="9522"/>
                  <a:pt x="2729" y="9748"/>
                </a:cubicBezTo>
                <a:cubicBezTo>
                  <a:pt x="2740" y="9798"/>
                  <a:pt x="2742" y="9909"/>
                  <a:pt x="2704" y="9922"/>
                </a:cubicBezTo>
              </a:path>
              <a:path w="3424" h="1167">
                <a:moveTo>
                  <a:pt x="2952" y="9897"/>
                </a:moveTo>
                <a:cubicBezTo>
                  <a:pt x="2975" y="9920"/>
                  <a:pt x="2983" y="9931"/>
                  <a:pt x="2977" y="9897"/>
                </a:cubicBezTo>
              </a:path>
              <a:path w="3424" h="1167">
                <a:moveTo>
                  <a:pt x="3225" y="9302"/>
                </a:moveTo>
                <a:cubicBezTo>
                  <a:pt x="3242" y="9263"/>
                  <a:pt x="3264" y="9175"/>
                  <a:pt x="3299" y="9153"/>
                </a:cubicBezTo>
                <a:cubicBezTo>
                  <a:pt x="3333" y="9132"/>
                  <a:pt x="3318" y="9097"/>
                  <a:pt x="3373" y="9079"/>
                </a:cubicBezTo>
                <a:cubicBezTo>
                  <a:pt x="3449" y="9054"/>
                  <a:pt x="3558" y="9083"/>
                  <a:pt x="3621" y="9103"/>
                </a:cubicBezTo>
                <a:cubicBezTo>
                  <a:pt x="3648" y="9112"/>
                  <a:pt x="3700" y="9186"/>
                  <a:pt x="3696" y="9227"/>
                </a:cubicBezTo>
                <a:cubicBezTo>
                  <a:pt x="3691" y="9278"/>
                  <a:pt x="3668" y="9361"/>
                  <a:pt x="3646" y="9401"/>
                </a:cubicBezTo>
                <a:cubicBezTo>
                  <a:pt x="3612" y="9465"/>
                  <a:pt x="3606" y="9531"/>
                  <a:pt x="3572" y="9599"/>
                </a:cubicBezTo>
                <a:cubicBezTo>
                  <a:pt x="3541" y="9661"/>
                  <a:pt x="3489" y="9787"/>
                  <a:pt x="3473" y="9823"/>
                </a:cubicBezTo>
                <a:cubicBezTo>
                  <a:pt x="3449" y="9877"/>
                  <a:pt x="3399" y="9944"/>
                  <a:pt x="3373" y="9971"/>
                </a:cubicBezTo>
                <a:cubicBezTo>
                  <a:pt x="3343" y="10001"/>
                  <a:pt x="3387" y="9945"/>
                  <a:pt x="3423" y="9922"/>
                </a:cubicBezTo>
                <a:cubicBezTo>
                  <a:pt x="3477" y="9887"/>
                  <a:pt x="3499" y="9956"/>
                  <a:pt x="3522" y="9971"/>
                </a:cubicBezTo>
                <a:cubicBezTo>
                  <a:pt x="3581" y="10010"/>
                  <a:pt x="3798" y="9971"/>
                  <a:pt x="3870" y="9971"/>
                </a:cubicBezTo>
              </a:path>
              <a:path w="3424" h="1167">
                <a:moveTo>
                  <a:pt x="4068" y="9897"/>
                </a:moveTo>
                <a:cubicBezTo>
                  <a:pt x="4082" y="9953"/>
                  <a:pt x="4119" y="10059"/>
                  <a:pt x="4093" y="10120"/>
                </a:cubicBezTo>
                <a:cubicBezTo>
                  <a:pt x="4063" y="10150"/>
                  <a:pt x="4052" y="10164"/>
                  <a:pt x="4043" y="10195"/>
                </a:cubicBezTo>
              </a:path>
              <a:path w="3424" h="1167">
                <a:moveTo>
                  <a:pt x="4688" y="10071"/>
                </a:moveTo>
                <a:lnTo>
                  <a:pt x="4688" y="10071"/>
                </a:lnTo>
              </a:path>
              <a:path w="3424" h="1167">
                <a:moveTo>
                  <a:pt x="5110" y="9153"/>
                </a:moveTo>
                <a:cubicBezTo>
                  <a:pt x="5143" y="9138"/>
                  <a:pt x="5281" y="9063"/>
                  <a:pt x="5333" y="9103"/>
                </a:cubicBezTo>
                <a:cubicBezTo>
                  <a:pt x="5395" y="9151"/>
                  <a:pt x="5363" y="9153"/>
                  <a:pt x="5457" y="9153"/>
                </a:cubicBezTo>
              </a:path>
              <a:path w="3424" h="1167">
                <a:moveTo>
                  <a:pt x="5507" y="9302"/>
                </a:moveTo>
                <a:cubicBezTo>
                  <a:pt x="5452" y="9370"/>
                  <a:pt x="5408" y="9417"/>
                  <a:pt x="5333" y="9451"/>
                </a:cubicBezTo>
                <a:cubicBezTo>
                  <a:pt x="5297" y="9467"/>
                  <a:pt x="5247" y="9494"/>
                  <a:pt x="5234" y="9500"/>
                </a:cubicBezTo>
                <a:cubicBezTo>
                  <a:pt x="5179" y="9528"/>
                  <a:pt x="5183" y="9472"/>
                  <a:pt x="5234" y="9500"/>
                </a:cubicBezTo>
                <a:cubicBezTo>
                  <a:pt x="5272" y="9521"/>
                  <a:pt x="5311" y="9538"/>
                  <a:pt x="5358" y="9550"/>
                </a:cubicBezTo>
                <a:cubicBezTo>
                  <a:pt x="5433" y="9569"/>
                  <a:pt x="5430" y="9628"/>
                  <a:pt x="5482" y="9674"/>
                </a:cubicBezTo>
                <a:cubicBezTo>
                  <a:pt x="5508" y="9697"/>
                  <a:pt x="5555" y="9764"/>
                  <a:pt x="5531" y="9823"/>
                </a:cubicBezTo>
                <a:cubicBezTo>
                  <a:pt x="5503" y="9851"/>
                  <a:pt x="5495" y="9864"/>
                  <a:pt x="5507" y="9897"/>
                </a:cubicBezTo>
                <a:cubicBezTo>
                  <a:pt x="5430" y="9908"/>
                  <a:pt x="5412" y="9950"/>
                  <a:pt x="5358" y="9971"/>
                </a:cubicBezTo>
                <a:cubicBezTo>
                  <a:pt x="5297" y="9995"/>
                  <a:pt x="5252" y="9942"/>
                  <a:pt x="5209" y="9922"/>
                </a:cubicBezTo>
                <a:cubicBezTo>
                  <a:pt x="5159" y="9897"/>
                  <a:pt x="5143" y="9889"/>
                  <a:pt x="5135" y="9847"/>
                </a:cubicBezTo>
              </a:path>
              <a:path w="3424" h="1167">
                <a:moveTo>
                  <a:pt x="5755" y="9178"/>
                </a:moveTo>
                <a:cubicBezTo>
                  <a:pt x="5775" y="9192"/>
                  <a:pt x="5797" y="9257"/>
                  <a:pt x="5779" y="9302"/>
                </a:cubicBezTo>
                <a:cubicBezTo>
                  <a:pt x="5755" y="9362"/>
                  <a:pt x="5719" y="9405"/>
                  <a:pt x="5705" y="9475"/>
                </a:cubicBezTo>
                <a:cubicBezTo>
                  <a:pt x="5686" y="9572"/>
                  <a:pt x="5680" y="9652"/>
                  <a:pt x="5680" y="9748"/>
                </a:cubicBezTo>
                <a:cubicBezTo>
                  <a:pt x="5680" y="9840"/>
                  <a:pt x="5711" y="9848"/>
                  <a:pt x="5755" y="9922"/>
                </a:cubicBezTo>
                <a:cubicBezTo>
                  <a:pt x="5796" y="9991"/>
                  <a:pt x="5826" y="9971"/>
                  <a:pt x="5904" y="9971"/>
                </a:cubicBezTo>
                <a:cubicBezTo>
                  <a:pt x="5999" y="9971"/>
                  <a:pt x="6023" y="9988"/>
                  <a:pt x="6077" y="9922"/>
                </a:cubicBezTo>
                <a:cubicBezTo>
                  <a:pt x="6108" y="9884"/>
                  <a:pt x="6150" y="9829"/>
                  <a:pt x="6127" y="9773"/>
                </a:cubicBezTo>
                <a:cubicBezTo>
                  <a:pt x="6121" y="9759"/>
                  <a:pt x="6043" y="9682"/>
                  <a:pt x="6028" y="9674"/>
                </a:cubicBezTo>
                <a:cubicBezTo>
                  <a:pt x="5968" y="9640"/>
                  <a:pt x="5955" y="9727"/>
                  <a:pt x="5928" y="9748"/>
                </a:cubicBezTo>
                <a:cubicBezTo>
                  <a:pt x="5854" y="9806"/>
                  <a:pt x="5881" y="9880"/>
                  <a:pt x="5904" y="9971"/>
                </a:cubicBezTo>
              </a:path>
              <a:path w="3424" h="1167">
                <a:moveTo>
                  <a:pt x="5407" y="9327"/>
                </a:moveTo>
                <a:cubicBezTo>
                  <a:pt x="5391" y="9343"/>
                  <a:pt x="5374" y="9360"/>
                  <a:pt x="5358" y="937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714840" y="2678040"/>
            <a:ext cx="2955960" cy="1152720"/>
          </a:xfrm>
          <a:custGeom>
            <a:avLst/>
            <a:gdLst/>
            <a:ahLst/>
            <a:rect l="l" t="t" r="r" b="b"/>
            <a:pathLst>
              <a:path w="8211" h="3201">
                <a:moveTo>
                  <a:pt x="11410" y="8062"/>
                </a:moveTo>
                <a:cubicBezTo>
                  <a:pt x="11410" y="8029"/>
                  <a:pt x="11420" y="8043"/>
                  <a:pt x="11410" y="8012"/>
                </a:cubicBezTo>
                <a:cubicBezTo>
                  <a:pt x="11400" y="7980"/>
                  <a:pt x="11365" y="7936"/>
                  <a:pt x="11336" y="7913"/>
                </a:cubicBezTo>
                <a:cubicBezTo>
                  <a:pt x="11287" y="7873"/>
                  <a:pt x="11224" y="7806"/>
                  <a:pt x="11162" y="7789"/>
                </a:cubicBezTo>
                <a:cubicBezTo>
                  <a:pt x="11089" y="7769"/>
                  <a:pt x="11017" y="7764"/>
                  <a:pt x="10939" y="7764"/>
                </a:cubicBezTo>
                <a:cubicBezTo>
                  <a:pt x="10839" y="7764"/>
                  <a:pt x="10737" y="7768"/>
                  <a:pt x="10641" y="7789"/>
                </a:cubicBezTo>
                <a:cubicBezTo>
                  <a:pt x="10556" y="7807"/>
                  <a:pt x="10482" y="7860"/>
                  <a:pt x="10418" y="7913"/>
                </a:cubicBezTo>
                <a:cubicBezTo>
                  <a:pt x="10384" y="7941"/>
                  <a:pt x="10331" y="7998"/>
                  <a:pt x="10319" y="8037"/>
                </a:cubicBezTo>
                <a:cubicBezTo>
                  <a:pt x="10303" y="8089"/>
                  <a:pt x="10337" y="8147"/>
                  <a:pt x="10368" y="8186"/>
                </a:cubicBezTo>
                <a:cubicBezTo>
                  <a:pt x="10416" y="8246"/>
                  <a:pt x="10475" y="8277"/>
                  <a:pt x="10542" y="8310"/>
                </a:cubicBezTo>
                <a:cubicBezTo>
                  <a:pt x="10623" y="8350"/>
                  <a:pt x="10687" y="8359"/>
                  <a:pt x="10765" y="8409"/>
                </a:cubicBezTo>
                <a:cubicBezTo>
                  <a:pt x="10856" y="8467"/>
                  <a:pt x="10913" y="8500"/>
                  <a:pt x="10988" y="8558"/>
                </a:cubicBezTo>
                <a:cubicBezTo>
                  <a:pt x="11059" y="8612"/>
                  <a:pt x="11102" y="8662"/>
                  <a:pt x="11162" y="8731"/>
                </a:cubicBezTo>
                <a:cubicBezTo>
                  <a:pt x="11216" y="8793"/>
                  <a:pt x="11255" y="8851"/>
                  <a:pt x="11261" y="8930"/>
                </a:cubicBezTo>
                <a:cubicBezTo>
                  <a:pt x="11265" y="8983"/>
                  <a:pt x="11263" y="9057"/>
                  <a:pt x="11237" y="9103"/>
                </a:cubicBezTo>
                <a:cubicBezTo>
                  <a:pt x="11187" y="9192"/>
                  <a:pt x="11010" y="9153"/>
                  <a:pt x="10939" y="9153"/>
                </a:cubicBezTo>
                <a:cubicBezTo>
                  <a:pt x="10815" y="9153"/>
                  <a:pt x="10750" y="9157"/>
                  <a:pt x="10641" y="9103"/>
                </a:cubicBezTo>
                <a:cubicBezTo>
                  <a:pt x="10580" y="9073"/>
                  <a:pt x="10507" y="9022"/>
                  <a:pt x="10443" y="9004"/>
                </a:cubicBezTo>
                <a:cubicBezTo>
                  <a:pt x="10369" y="8983"/>
                  <a:pt x="10412" y="8992"/>
                  <a:pt x="10418" y="8954"/>
                </a:cubicBezTo>
              </a:path>
              <a:path w="8211" h="3201">
                <a:moveTo>
                  <a:pt x="11534" y="9103"/>
                </a:moveTo>
                <a:cubicBezTo>
                  <a:pt x="11534" y="9185"/>
                  <a:pt x="11556" y="9230"/>
                  <a:pt x="11559" y="9302"/>
                </a:cubicBezTo>
                <a:cubicBezTo>
                  <a:pt x="11562" y="9363"/>
                  <a:pt x="11531" y="9606"/>
                  <a:pt x="11584" y="9624"/>
                </a:cubicBezTo>
              </a:path>
              <a:path w="8211" h="3201">
                <a:moveTo>
                  <a:pt x="11708" y="9227"/>
                </a:moveTo>
                <a:cubicBezTo>
                  <a:pt x="11718" y="9162"/>
                  <a:pt x="11715" y="9153"/>
                  <a:pt x="11782" y="9153"/>
                </a:cubicBezTo>
                <a:cubicBezTo>
                  <a:pt x="11826" y="9153"/>
                  <a:pt x="11896" y="9141"/>
                  <a:pt x="11931" y="9178"/>
                </a:cubicBezTo>
                <a:cubicBezTo>
                  <a:pt x="11967" y="9217"/>
                  <a:pt x="11991" y="9245"/>
                  <a:pt x="12005" y="9302"/>
                </a:cubicBezTo>
                <a:cubicBezTo>
                  <a:pt x="12019" y="9362"/>
                  <a:pt x="11957" y="9411"/>
                  <a:pt x="11931" y="9451"/>
                </a:cubicBezTo>
                <a:cubicBezTo>
                  <a:pt x="11906" y="9489"/>
                  <a:pt x="11844" y="9571"/>
                  <a:pt x="11807" y="9599"/>
                </a:cubicBezTo>
                <a:cubicBezTo>
                  <a:pt x="11788" y="9614"/>
                  <a:pt x="11739" y="9600"/>
                  <a:pt x="11733" y="9624"/>
                </a:cubicBezTo>
                <a:cubicBezTo>
                  <a:pt x="11733" y="9641"/>
                  <a:pt x="11733" y="9657"/>
                  <a:pt x="11733" y="9674"/>
                </a:cubicBezTo>
                <a:cubicBezTo>
                  <a:pt x="11786" y="9674"/>
                  <a:pt x="11807" y="9690"/>
                  <a:pt x="11857" y="9699"/>
                </a:cubicBezTo>
                <a:cubicBezTo>
                  <a:pt x="11957" y="9717"/>
                  <a:pt x="12059" y="9692"/>
                  <a:pt x="12154" y="9674"/>
                </a:cubicBezTo>
                <a:cubicBezTo>
                  <a:pt x="12162" y="9674"/>
                  <a:pt x="12171" y="9674"/>
                  <a:pt x="12179" y="9674"/>
                </a:cubicBezTo>
              </a:path>
              <a:path w="8211" h="3201">
                <a:moveTo>
                  <a:pt x="12254" y="8781"/>
                </a:moveTo>
                <a:cubicBezTo>
                  <a:pt x="12344" y="8781"/>
                  <a:pt x="12417" y="8801"/>
                  <a:pt x="12502" y="8806"/>
                </a:cubicBezTo>
                <a:cubicBezTo>
                  <a:pt x="12543" y="8808"/>
                  <a:pt x="12585" y="8806"/>
                  <a:pt x="12626" y="8806"/>
                </a:cubicBezTo>
              </a:path>
              <a:path w="8211" h="3201">
                <a:moveTo>
                  <a:pt x="12278" y="9079"/>
                </a:moveTo>
                <a:cubicBezTo>
                  <a:pt x="12381" y="9086"/>
                  <a:pt x="12472" y="9103"/>
                  <a:pt x="12576" y="9103"/>
                </a:cubicBezTo>
                <a:cubicBezTo>
                  <a:pt x="12593" y="9103"/>
                  <a:pt x="12609" y="9103"/>
                  <a:pt x="12626" y="9103"/>
                </a:cubicBezTo>
              </a:path>
              <a:path w="8211" h="3201">
                <a:moveTo>
                  <a:pt x="13419" y="8012"/>
                </a:moveTo>
                <a:cubicBezTo>
                  <a:pt x="13419" y="8148"/>
                  <a:pt x="13409" y="8277"/>
                  <a:pt x="13395" y="8409"/>
                </a:cubicBezTo>
                <a:cubicBezTo>
                  <a:pt x="13376" y="8582"/>
                  <a:pt x="13390" y="8763"/>
                  <a:pt x="13370" y="8930"/>
                </a:cubicBezTo>
                <a:cubicBezTo>
                  <a:pt x="13362" y="8995"/>
                  <a:pt x="13389" y="9050"/>
                  <a:pt x="13345" y="9079"/>
                </a:cubicBezTo>
              </a:path>
              <a:path w="8211" h="3201">
                <a:moveTo>
                  <a:pt x="13643" y="9079"/>
                </a:moveTo>
                <a:lnTo>
                  <a:pt x="13643" y="9079"/>
                </a:lnTo>
              </a:path>
              <a:path w="8211" h="3201">
                <a:moveTo>
                  <a:pt x="13915" y="8285"/>
                </a:moveTo>
                <a:cubicBezTo>
                  <a:pt x="13952" y="8223"/>
                  <a:pt x="13966" y="8161"/>
                  <a:pt x="14039" y="8136"/>
                </a:cubicBezTo>
                <a:cubicBezTo>
                  <a:pt x="14077" y="8123"/>
                  <a:pt x="14127" y="8093"/>
                  <a:pt x="14163" y="8086"/>
                </a:cubicBezTo>
                <a:cubicBezTo>
                  <a:pt x="14206" y="8077"/>
                  <a:pt x="14279" y="8091"/>
                  <a:pt x="14312" y="8111"/>
                </a:cubicBezTo>
                <a:cubicBezTo>
                  <a:pt x="14363" y="8142"/>
                  <a:pt x="14347" y="8167"/>
                  <a:pt x="14362" y="8210"/>
                </a:cubicBezTo>
                <a:cubicBezTo>
                  <a:pt x="14394" y="8300"/>
                  <a:pt x="14356" y="8354"/>
                  <a:pt x="14312" y="8434"/>
                </a:cubicBezTo>
                <a:cubicBezTo>
                  <a:pt x="14274" y="8502"/>
                  <a:pt x="14214" y="8564"/>
                  <a:pt x="14163" y="8632"/>
                </a:cubicBezTo>
                <a:cubicBezTo>
                  <a:pt x="14124" y="8685"/>
                  <a:pt x="14032" y="8756"/>
                  <a:pt x="14015" y="8781"/>
                </a:cubicBezTo>
                <a:cubicBezTo>
                  <a:pt x="13987" y="8823"/>
                  <a:pt x="13968" y="8898"/>
                  <a:pt x="13940" y="8930"/>
                </a:cubicBezTo>
                <a:cubicBezTo>
                  <a:pt x="13917" y="8956"/>
                  <a:pt x="13952" y="8993"/>
                  <a:pt x="14015" y="9004"/>
                </a:cubicBezTo>
                <a:cubicBezTo>
                  <a:pt x="14112" y="9020"/>
                  <a:pt x="14374" y="9004"/>
                  <a:pt x="14387" y="9004"/>
                </a:cubicBezTo>
                <a:cubicBezTo>
                  <a:pt x="14395" y="9004"/>
                  <a:pt x="14404" y="9004"/>
                  <a:pt x="14412" y="9004"/>
                </a:cubicBezTo>
              </a:path>
              <a:path w="8211" h="3201">
                <a:moveTo>
                  <a:pt x="15627" y="7789"/>
                </a:moveTo>
                <a:cubicBezTo>
                  <a:pt x="15589" y="7801"/>
                  <a:pt x="15597" y="7810"/>
                  <a:pt x="15577" y="7838"/>
                </a:cubicBezTo>
                <a:cubicBezTo>
                  <a:pt x="15536" y="7895"/>
                  <a:pt x="15515" y="7955"/>
                  <a:pt x="15478" y="8012"/>
                </a:cubicBezTo>
                <a:cubicBezTo>
                  <a:pt x="15419" y="8102"/>
                  <a:pt x="15396" y="8183"/>
                  <a:pt x="15354" y="8285"/>
                </a:cubicBezTo>
                <a:cubicBezTo>
                  <a:pt x="15303" y="8409"/>
                  <a:pt x="15295" y="8511"/>
                  <a:pt x="15304" y="8632"/>
                </a:cubicBezTo>
                <a:cubicBezTo>
                  <a:pt x="15311" y="8728"/>
                  <a:pt x="15348" y="8794"/>
                  <a:pt x="15379" y="8855"/>
                </a:cubicBezTo>
                <a:cubicBezTo>
                  <a:pt x="15415" y="8927"/>
                  <a:pt x="15424" y="8962"/>
                  <a:pt x="15478" y="9004"/>
                </a:cubicBezTo>
                <a:cubicBezTo>
                  <a:pt x="15501" y="9027"/>
                  <a:pt x="15509" y="9038"/>
                  <a:pt x="15503" y="9004"/>
                </a:cubicBezTo>
              </a:path>
              <a:path w="8211" h="3201">
                <a:moveTo>
                  <a:pt x="18455" y="7863"/>
                </a:moveTo>
                <a:cubicBezTo>
                  <a:pt x="18466" y="7910"/>
                  <a:pt x="18497" y="7960"/>
                  <a:pt x="18504" y="8012"/>
                </a:cubicBezTo>
                <a:cubicBezTo>
                  <a:pt x="18518" y="8120"/>
                  <a:pt x="18529" y="8222"/>
                  <a:pt x="18529" y="8334"/>
                </a:cubicBezTo>
                <a:cubicBezTo>
                  <a:pt x="18529" y="8439"/>
                  <a:pt x="18529" y="8536"/>
                  <a:pt x="18479" y="8632"/>
                </a:cubicBezTo>
                <a:cubicBezTo>
                  <a:pt x="18448" y="8692"/>
                  <a:pt x="18358" y="8811"/>
                  <a:pt x="18306" y="8855"/>
                </a:cubicBezTo>
                <a:cubicBezTo>
                  <a:pt x="18253" y="8900"/>
                  <a:pt x="18215" y="8902"/>
                  <a:pt x="18157" y="8930"/>
                </a:cubicBezTo>
                <a:cubicBezTo>
                  <a:pt x="18119" y="8948"/>
                  <a:pt x="18105" y="8954"/>
                  <a:pt x="18058" y="8954"/>
                </a:cubicBezTo>
              </a:path>
              <a:path w="8211" h="3201">
                <a:moveTo>
                  <a:pt x="15577" y="9153"/>
                </a:moveTo>
                <a:cubicBezTo>
                  <a:pt x="15648" y="9180"/>
                  <a:pt x="15730" y="9222"/>
                  <a:pt x="15801" y="9227"/>
                </a:cubicBezTo>
                <a:cubicBezTo>
                  <a:pt x="16179" y="9253"/>
                  <a:pt x="16565" y="9234"/>
                  <a:pt x="16942" y="9252"/>
                </a:cubicBezTo>
                <a:cubicBezTo>
                  <a:pt x="17164" y="9263"/>
                  <a:pt x="17370" y="9293"/>
                  <a:pt x="17587" y="9302"/>
                </a:cubicBezTo>
                <a:cubicBezTo>
                  <a:pt x="17718" y="9307"/>
                  <a:pt x="17851" y="9302"/>
                  <a:pt x="17983" y="9302"/>
                </a:cubicBezTo>
                <a:cubicBezTo>
                  <a:pt x="17875" y="9219"/>
                  <a:pt x="18037" y="9281"/>
                  <a:pt x="17835" y="9252"/>
                </a:cubicBezTo>
              </a:path>
              <a:path w="8211" h="3201">
                <a:moveTo>
                  <a:pt x="15354" y="9475"/>
                </a:moveTo>
                <a:cubicBezTo>
                  <a:pt x="15305" y="9545"/>
                  <a:pt x="15245" y="9589"/>
                  <a:pt x="15205" y="9674"/>
                </a:cubicBezTo>
                <a:cubicBezTo>
                  <a:pt x="15161" y="9768"/>
                  <a:pt x="15095" y="9816"/>
                  <a:pt x="15056" y="9922"/>
                </a:cubicBezTo>
                <a:cubicBezTo>
                  <a:pt x="15011" y="10046"/>
                  <a:pt x="15045" y="10142"/>
                  <a:pt x="15056" y="10269"/>
                </a:cubicBezTo>
                <a:cubicBezTo>
                  <a:pt x="15065" y="10372"/>
                  <a:pt x="15132" y="10396"/>
                  <a:pt x="15180" y="10492"/>
                </a:cubicBezTo>
                <a:cubicBezTo>
                  <a:pt x="15205" y="10542"/>
                  <a:pt x="15284" y="10624"/>
                  <a:pt x="15354" y="10641"/>
                </a:cubicBezTo>
                <a:cubicBezTo>
                  <a:pt x="15387" y="10641"/>
                  <a:pt x="15420" y="10641"/>
                  <a:pt x="15453" y="10641"/>
                </a:cubicBezTo>
              </a:path>
              <a:path w="8211" h="3201">
                <a:moveTo>
                  <a:pt x="15974" y="7789"/>
                </a:moveTo>
                <a:cubicBezTo>
                  <a:pt x="16006" y="7872"/>
                  <a:pt x="16021" y="7973"/>
                  <a:pt x="16024" y="8062"/>
                </a:cubicBezTo>
                <a:cubicBezTo>
                  <a:pt x="16028" y="8155"/>
                  <a:pt x="16049" y="8240"/>
                  <a:pt x="16049" y="8334"/>
                </a:cubicBezTo>
                <a:cubicBezTo>
                  <a:pt x="16049" y="8436"/>
                  <a:pt x="16073" y="8528"/>
                  <a:pt x="16073" y="8632"/>
                </a:cubicBezTo>
                <a:cubicBezTo>
                  <a:pt x="16073" y="8682"/>
                  <a:pt x="16073" y="8731"/>
                  <a:pt x="16073" y="8781"/>
                </a:cubicBezTo>
                <a:cubicBezTo>
                  <a:pt x="16073" y="8752"/>
                  <a:pt x="16072" y="8659"/>
                  <a:pt x="16049" y="8731"/>
                </a:cubicBezTo>
              </a:path>
              <a:path w="8211" h="3201">
                <a:moveTo>
                  <a:pt x="16396" y="8334"/>
                </a:moveTo>
                <a:cubicBezTo>
                  <a:pt x="16500" y="8334"/>
                  <a:pt x="16597" y="8335"/>
                  <a:pt x="16694" y="8310"/>
                </a:cubicBezTo>
                <a:cubicBezTo>
                  <a:pt x="16759" y="8293"/>
                  <a:pt x="16827" y="8266"/>
                  <a:pt x="16892" y="8260"/>
                </a:cubicBezTo>
                <a:cubicBezTo>
                  <a:pt x="16941" y="8255"/>
                  <a:pt x="16923" y="8223"/>
                  <a:pt x="16942" y="8260"/>
                </a:cubicBezTo>
                <a:cubicBezTo>
                  <a:pt x="16898" y="8260"/>
                  <a:pt x="16902" y="8259"/>
                  <a:pt x="16867" y="8285"/>
                </a:cubicBezTo>
              </a:path>
              <a:path w="8211" h="3201">
                <a:moveTo>
                  <a:pt x="16966" y="8781"/>
                </a:moveTo>
                <a:cubicBezTo>
                  <a:pt x="16966" y="8789"/>
                  <a:pt x="16966" y="8798"/>
                  <a:pt x="16966" y="8806"/>
                </a:cubicBezTo>
              </a:path>
              <a:path w="8211" h="3201">
                <a:moveTo>
                  <a:pt x="17190" y="7987"/>
                </a:moveTo>
                <a:cubicBezTo>
                  <a:pt x="17259" y="7874"/>
                  <a:pt x="17254" y="7882"/>
                  <a:pt x="17363" y="7838"/>
                </a:cubicBezTo>
                <a:cubicBezTo>
                  <a:pt x="17422" y="7814"/>
                  <a:pt x="17448" y="7813"/>
                  <a:pt x="17512" y="7813"/>
                </a:cubicBezTo>
                <a:cubicBezTo>
                  <a:pt x="17544" y="7813"/>
                  <a:pt x="17598" y="7849"/>
                  <a:pt x="17587" y="7888"/>
                </a:cubicBezTo>
                <a:cubicBezTo>
                  <a:pt x="17575" y="7932"/>
                  <a:pt x="17545" y="8031"/>
                  <a:pt x="17512" y="8062"/>
                </a:cubicBezTo>
                <a:cubicBezTo>
                  <a:pt x="17468" y="8102"/>
                  <a:pt x="17434" y="8141"/>
                  <a:pt x="17388" y="8186"/>
                </a:cubicBezTo>
                <a:cubicBezTo>
                  <a:pt x="17354" y="8219"/>
                  <a:pt x="17331" y="8271"/>
                  <a:pt x="17314" y="8235"/>
                </a:cubicBezTo>
                <a:cubicBezTo>
                  <a:pt x="17365" y="8235"/>
                  <a:pt x="17400" y="8226"/>
                  <a:pt x="17438" y="8260"/>
                </a:cubicBezTo>
                <a:cubicBezTo>
                  <a:pt x="17463" y="8283"/>
                  <a:pt x="17527" y="8315"/>
                  <a:pt x="17537" y="8334"/>
                </a:cubicBezTo>
                <a:cubicBezTo>
                  <a:pt x="17568" y="8393"/>
                  <a:pt x="17607" y="8437"/>
                  <a:pt x="17611" y="8508"/>
                </a:cubicBezTo>
                <a:cubicBezTo>
                  <a:pt x="17615" y="8576"/>
                  <a:pt x="17596" y="8647"/>
                  <a:pt x="17562" y="8706"/>
                </a:cubicBezTo>
                <a:cubicBezTo>
                  <a:pt x="17527" y="8767"/>
                  <a:pt x="17444" y="8829"/>
                  <a:pt x="17388" y="8855"/>
                </a:cubicBezTo>
                <a:cubicBezTo>
                  <a:pt x="17326" y="8884"/>
                  <a:pt x="17281" y="8880"/>
                  <a:pt x="17214" y="8880"/>
                </a:cubicBezTo>
                <a:cubicBezTo>
                  <a:pt x="17155" y="8880"/>
                  <a:pt x="17147" y="8850"/>
                  <a:pt x="17140" y="8806"/>
                </a:cubicBezTo>
              </a:path>
              <a:path w="8211" h="3201">
                <a:moveTo>
                  <a:pt x="17711" y="7615"/>
                </a:moveTo>
                <a:cubicBezTo>
                  <a:pt x="17732" y="7670"/>
                  <a:pt x="17775" y="7739"/>
                  <a:pt x="17785" y="7789"/>
                </a:cubicBezTo>
                <a:cubicBezTo>
                  <a:pt x="17798" y="7855"/>
                  <a:pt x="17795" y="7881"/>
                  <a:pt x="17785" y="7938"/>
                </a:cubicBezTo>
                <a:cubicBezTo>
                  <a:pt x="17785" y="7946"/>
                  <a:pt x="17785" y="7954"/>
                  <a:pt x="17785" y="7962"/>
                </a:cubicBezTo>
              </a:path>
              <a:path w="8211" h="3201">
                <a:moveTo>
                  <a:pt x="17909" y="7466"/>
                </a:moveTo>
                <a:cubicBezTo>
                  <a:pt x="17939" y="7444"/>
                  <a:pt x="17991" y="7420"/>
                  <a:pt x="18033" y="7441"/>
                </a:cubicBezTo>
                <a:cubicBezTo>
                  <a:pt x="18087" y="7468"/>
                  <a:pt x="18102" y="7476"/>
                  <a:pt x="18107" y="7541"/>
                </a:cubicBezTo>
                <a:cubicBezTo>
                  <a:pt x="18113" y="7616"/>
                  <a:pt x="18089" y="7673"/>
                  <a:pt x="18058" y="7739"/>
                </a:cubicBezTo>
                <a:cubicBezTo>
                  <a:pt x="18037" y="7784"/>
                  <a:pt x="17988" y="7817"/>
                  <a:pt x="17983" y="7863"/>
                </a:cubicBezTo>
                <a:cubicBezTo>
                  <a:pt x="17983" y="7888"/>
                  <a:pt x="17983" y="7896"/>
                  <a:pt x="17983" y="7913"/>
                </a:cubicBezTo>
                <a:cubicBezTo>
                  <a:pt x="18058" y="7913"/>
                  <a:pt x="18132" y="7913"/>
                  <a:pt x="18207" y="791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5670720" y="3456000"/>
            <a:ext cx="633240" cy="322200"/>
          </a:xfrm>
          <a:custGeom>
            <a:avLst/>
            <a:gdLst/>
            <a:ahLst/>
            <a:rect l="l" t="t" r="r" b="b"/>
            <a:pathLst>
              <a:path w="1762" h="894">
                <a:moveTo>
                  <a:pt x="15751" y="9624"/>
                </a:moveTo>
                <a:cubicBezTo>
                  <a:pt x="15759" y="9741"/>
                  <a:pt x="15776" y="9854"/>
                  <a:pt x="15776" y="9971"/>
                </a:cubicBezTo>
                <a:cubicBezTo>
                  <a:pt x="15776" y="10125"/>
                  <a:pt x="15779" y="10269"/>
                  <a:pt x="15751" y="10418"/>
                </a:cubicBezTo>
                <a:cubicBezTo>
                  <a:pt x="15751" y="10451"/>
                  <a:pt x="15751" y="10467"/>
                  <a:pt x="15751" y="10492"/>
                </a:cubicBezTo>
                <a:cubicBezTo>
                  <a:pt x="15781" y="10462"/>
                  <a:pt x="15721" y="10436"/>
                  <a:pt x="15776" y="10418"/>
                </a:cubicBezTo>
              </a:path>
              <a:path w="1762" h="894">
                <a:moveTo>
                  <a:pt x="16197" y="10120"/>
                </a:moveTo>
                <a:cubicBezTo>
                  <a:pt x="16334" y="10120"/>
                  <a:pt x="16416" y="10103"/>
                  <a:pt x="16545" y="10071"/>
                </a:cubicBezTo>
                <a:cubicBezTo>
                  <a:pt x="16618" y="10053"/>
                  <a:pt x="16659" y="10062"/>
                  <a:pt x="16669" y="10120"/>
                </a:cubicBezTo>
              </a:path>
              <a:path w="1762" h="894">
                <a:moveTo>
                  <a:pt x="16942" y="10443"/>
                </a:moveTo>
                <a:cubicBezTo>
                  <a:pt x="16942" y="10484"/>
                  <a:pt x="16950" y="10500"/>
                  <a:pt x="16917" y="10492"/>
                </a:cubicBezTo>
              </a:path>
              <a:path w="1762" h="894">
                <a:moveTo>
                  <a:pt x="17090" y="9699"/>
                </a:moveTo>
                <a:cubicBezTo>
                  <a:pt x="17155" y="9670"/>
                  <a:pt x="17218" y="9604"/>
                  <a:pt x="17289" y="9599"/>
                </a:cubicBezTo>
                <a:cubicBezTo>
                  <a:pt x="17373" y="9593"/>
                  <a:pt x="17432" y="9582"/>
                  <a:pt x="17462" y="9674"/>
                </a:cubicBezTo>
                <a:cubicBezTo>
                  <a:pt x="17482" y="9736"/>
                  <a:pt x="17444" y="9796"/>
                  <a:pt x="17413" y="9823"/>
                </a:cubicBezTo>
                <a:cubicBezTo>
                  <a:pt x="17375" y="9856"/>
                  <a:pt x="17331" y="9875"/>
                  <a:pt x="17314" y="9922"/>
                </a:cubicBezTo>
                <a:cubicBezTo>
                  <a:pt x="17314" y="9938"/>
                  <a:pt x="17314" y="9955"/>
                  <a:pt x="17314" y="9971"/>
                </a:cubicBezTo>
                <a:cubicBezTo>
                  <a:pt x="17331" y="9869"/>
                  <a:pt x="17342" y="9941"/>
                  <a:pt x="17388" y="9971"/>
                </a:cubicBezTo>
                <a:cubicBezTo>
                  <a:pt x="17441" y="10005"/>
                  <a:pt x="17450" y="9957"/>
                  <a:pt x="17487" y="10046"/>
                </a:cubicBezTo>
                <a:cubicBezTo>
                  <a:pt x="17518" y="10121"/>
                  <a:pt x="17512" y="10190"/>
                  <a:pt x="17512" y="10269"/>
                </a:cubicBezTo>
                <a:cubicBezTo>
                  <a:pt x="17512" y="10309"/>
                  <a:pt x="17477" y="10426"/>
                  <a:pt x="17438" y="10443"/>
                </a:cubicBezTo>
                <a:cubicBezTo>
                  <a:pt x="17390" y="10464"/>
                  <a:pt x="17370" y="10492"/>
                  <a:pt x="17314" y="10492"/>
                </a:cubicBezTo>
                <a:cubicBezTo>
                  <a:pt x="17241" y="10492"/>
                  <a:pt x="17144" y="10522"/>
                  <a:pt x="17115" y="10443"/>
                </a:cubicBezTo>
                <a:cubicBezTo>
                  <a:pt x="17115" y="10435"/>
                  <a:pt x="17115" y="10426"/>
                  <a:pt x="17115" y="1041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724800" y="2963880"/>
            <a:ext cx="1365120" cy="492120"/>
          </a:xfrm>
          <a:custGeom>
            <a:avLst/>
            <a:gdLst/>
            <a:ahLst/>
            <a:rect l="l" t="t" r="r" b="b"/>
            <a:pathLst>
              <a:path w="3796" h="1365">
                <a:moveTo>
                  <a:pt x="18852" y="9103"/>
                </a:moveTo>
                <a:cubicBezTo>
                  <a:pt x="18943" y="9103"/>
                  <a:pt x="19310" y="9050"/>
                  <a:pt x="19348" y="9153"/>
                </a:cubicBezTo>
                <a:cubicBezTo>
                  <a:pt x="19354" y="9169"/>
                  <a:pt x="19311" y="9208"/>
                  <a:pt x="19298" y="9227"/>
                </a:cubicBezTo>
              </a:path>
              <a:path w="3796" h="1365">
                <a:moveTo>
                  <a:pt x="18876" y="9451"/>
                </a:moveTo>
                <a:cubicBezTo>
                  <a:pt x="18980" y="9451"/>
                  <a:pt x="19021" y="9415"/>
                  <a:pt x="19100" y="9401"/>
                </a:cubicBezTo>
                <a:cubicBezTo>
                  <a:pt x="19174" y="9388"/>
                  <a:pt x="19271" y="9376"/>
                  <a:pt x="19348" y="9376"/>
                </a:cubicBezTo>
                <a:cubicBezTo>
                  <a:pt x="19403" y="9376"/>
                  <a:pt x="19341" y="9424"/>
                  <a:pt x="19323" y="9451"/>
                </a:cubicBezTo>
              </a:path>
              <a:path w="3796" h="1365">
                <a:moveTo>
                  <a:pt x="19993" y="8409"/>
                </a:moveTo>
                <a:cubicBezTo>
                  <a:pt x="19993" y="8641"/>
                  <a:pt x="19989" y="8852"/>
                  <a:pt x="19968" y="9079"/>
                </a:cubicBezTo>
                <a:cubicBezTo>
                  <a:pt x="19959" y="9180"/>
                  <a:pt x="19929" y="9276"/>
                  <a:pt x="19918" y="9376"/>
                </a:cubicBezTo>
                <a:cubicBezTo>
                  <a:pt x="19909" y="9461"/>
                  <a:pt x="19890" y="9459"/>
                  <a:pt x="19869" y="9525"/>
                </a:cubicBezTo>
                <a:cubicBezTo>
                  <a:pt x="19869" y="9558"/>
                  <a:pt x="19869" y="9574"/>
                  <a:pt x="19869" y="9599"/>
                </a:cubicBezTo>
              </a:path>
              <a:path w="3796" h="1365">
                <a:moveTo>
                  <a:pt x="20241" y="9451"/>
                </a:moveTo>
                <a:cubicBezTo>
                  <a:pt x="20241" y="9480"/>
                  <a:pt x="20229" y="9529"/>
                  <a:pt x="20241" y="9500"/>
                </a:cubicBezTo>
                <a:cubicBezTo>
                  <a:pt x="20241" y="9492"/>
                  <a:pt x="20241" y="9483"/>
                  <a:pt x="20241" y="9475"/>
                </a:cubicBezTo>
              </a:path>
              <a:path w="3796" h="1365">
                <a:moveTo>
                  <a:pt x="20513" y="8582"/>
                </a:moveTo>
                <a:cubicBezTo>
                  <a:pt x="20513" y="8599"/>
                  <a:pt x="20513" y="8615"/>
                  <a:pt x="20513" y="8632"/>
                </a:cubicBezTo>
                <a:cubicBezTo>
                  <a:pt x="20494" y="8573"/>
                  <a:pt x="20489" y="8547"/>
                  <a:pt x="20489" y="8483"/>
                </a:cubicBezTo>
                <a:cubicBezTo>
                  <a:pt x="20574" y="8483"/>
                  <a:pt x="20621" y="8454"/>
                  <a:pt x="20687" y="8434"/>
                </a:cubicBezTo>
                <a:cubicBezTo>
                  <a:pt x="20748" y="8416"/>
                  <a:pt x="20874" y="8417"/>
                  <a:pt x="20935" y="8409"/>
                </a:cubicBezTo>
                <a:cubicBezTo>
                  <a:pt x="20983" y="8403"/>
                  <a:pt x="21036" y="8409"/>
                  <a:pt x="21084" y="8409"/>
                </a:cubicBezTo>
                <a:cubicBezTo>
                  <a:pt x="21058" y="8452"/>
                  <a:pt x="21048" y="8476"/>
                  <a:pt x="21034" y="8508"/>
                </a:cubicBezTo>
                <a:cubicBezTo>
                  <a:pt x="21008" y="8566"/>
                  <a:pt x="20993" y="8666"/>
                  <a:pt x="20985" y="8731"/>
                </a:cubicBezTo>
                <a:cubicBezTo>
                  <a:pt x="20966" y="8889"/>
                  <a:pt x="21062" y="9364"/>
                  <a:pt x="20960" y="9451"/>
                </a:cubicBezTo>
                <a:cubicBezTo>
                  <a:pt x="20952" y="9459"/>
                  <a:pt x="20943" y="9467"/>
                  <a:pt x="20935" y="9475"/>
                </a:cubicBezTo>
              </a:path>
              <a:path w="3796" h="1365">
                <a:moveTo>
                  <a:pt x="18678" y="9178"/>
                </a:moveTo>
                <a:cubicBezTo>
                  <a:pt x="18704" y="9135"/>
                  <a:pt x="18693" y="9085"/>
                  <a:pt x="18752" y="9079"/>
                </a:cubicBezTo>
                <a:cubicBezTo>
                  <a:pt x="18792" y="9075"/>
                  <a:pt x="18795" y="9045"/>
                  <a:pt x="18827" y="9029"/>
                </a:cubicBezTo>
                <a:cubicBezTo>
                  <a:pt x="18862" y="9047"/>
                  <a:pt x="18890" y="9060"/>
                  <a:pt x="18926" y="9079"/>
                </a:cubicBezTo>
                <a:cubicBezTo>
                  <a:pt x="18969" y="9102"/>
                  <a:pt x="19013" y="9132"/>
                  <a:pt x="19050" y="9153"/>
                </a:cubicBezTo>
                <a:cubicBezTo>
                  <a:pt x="19092" y="9177"/>
                  <a:pt x="19106" y="9218"/>
                  <a:pt x="19149" y="9227"/>
                </a:cubicBezTo>
                <a:cubicBezTo>
                  <a:pt x="19224" y="9243"/>
                  <a:pt x="19258" y="9227"/>
                  <a:pt x="19298" y="9178"/>
                </a:cubicBezTo>
                <a:cubicBezTo>
                  <a:pt x="19328" y="9148"/>
                  <a:pt x="19339" y="9134"/>
                  <a:pt x="19348" y="9103"/>
                </a:cubicBezTo>
              </a:path>
              <a:path w="3796" h="1365">
                <a:moveTo>
                  <a:pt x="18802" y="9401"/>
                </a:moveTo>
                <a:cubicBezTo>
                  <a:pt x="18855" y="9378"/>
                  <a:pt x="18872" y="9376"/>
                  <a:pt x="18926" y="9376"/>
                </a:cubicBezTo>
                <a:cubicBezTo>
                  <a:pt x="18979" y="9376"/>
                  <a:pt x="19012" y="9365"/>
                  <a:pt x="19050" y="9401"/>
                </a:cubicBezTo>
                <a:cubicBezTo>
                  <a:pt x="19090" y="9438"/>
                  <a:pt x="19127" y="9460"/>
                  <a:pt x="19174" y="9475"/>
                </a:cubicBezTo>
                <a:cubicBezTo>
                  <a:pt x="19226" y="9492"/>
                  <a:pt x="19283" y="9462"/>
                  <a:pt x="19323" y="9451"/>
                </a:cubicBezTo>
                <a:cubicBezTo>
                  <a:pt x="19348" y="9451"/>
                  <a:pt x="19356" y="9451"/>
                  <a:pt x="19372" y="9451"/>
                </a:cubicBezTo>
                <a:cubicBezTo>
                  <a:pt x="19380" y="9396"/>
                  <a:pt x="19389" y="9382"/>
                  <a:pt x="19397" y="9327"/>
                </a:cubicBezTo>
              </a:path>
              <a:path w="3796" h="1365">
                <a:moveTo>
                  <a:pt x="21555" y="8409"/>
                </a:moveTo>
                <a:cubicBezTo>
                  <a:pt x="21571" y="8457"/>
                  <a:pt x="21580" y="8475"/>
                  <a:pt x="21580" y="8558"/>
                </a:cubicBezTo>
                <a:cubicBezTo>
                  <a:pt x="21580" y="8767"/>
                  <a:pt x="21587" y="8974"/>
                  <a:pt x="21555" y="9178"/>
                </a:cubicBezTo>
                <a:cubicBezTo>
                  <a:pt x="21543" y="9253"/>
                  <a:pt x="21514" y="9390"/>
                  <a:pt x="21506" y="9475"/>
                </a:cubicBezTo>
                <a:cubicBezTo>
                  <a:pt x="21505" y="9488"/>
                  <a:pt x="21474" y="9574"/>
                  <a:pt x="21456" y="9550"/>
                </a:cubicBezTo>
                <a:cubicBezTo>
                  <a:pt x="21456" y="9542"/>
                  <a:pt x="21456" y="9533"/>
                  <a:pt x="21456" y="9525"/>
                </a:cubicBezTo>
              </a:path>
              <a:path w="3796" h="1365">
                <a:moveTo>
                  <a:pt x="22101" y="8260"/>
                </a:moveTo>
                <a:cubicBezTo>
                  <a:pt x="22101" y="8326"/>
                  <a:pt x="22098" y="8424"/>
                  <a:pt x="22076" y="8483"/>
                </a:cubicBezTo>
                <a:cubicBezTo>
                  <a:pt x="22061" y="8524"/>
                  <a:pt x="22029" y="8552"/>
                  <a:pt x="22027" y="8582"/>
                </a:cubicBezTo>
                <a:cubicBezTo>
                  <a:pt x="22022" y="8655"/>
                  <a:pt x="22002" y="8620"/>
                  <a:pt x="22002" y="8706"/>
                </a:cubicBezTo>
                <a:cubicBezTo>
                  <a:pt x="22084" y="8706"/>
                  <a:pt x="22155" y="8717"/>
                  <a:pt x="22225" y="8731"/>
                </a:cubicBezTo>
                <a:cubicBezTo>
                  <a:pt x="22303" y="8747"/>
                  <a:pt x="22407" y="8724"/>
                  <a:pt x="22448" y="8706"/>
                </a:cubicBezTo>
                <a:cubicBezTo>
                  <a:pt x="22456" y="8706"/>
                  <a:pt x="22465" y="8706"/>
                  <a:pt x="22473" y="8706"/>
                </a:cubicBezTo>
              </a:path>
              <a:path w="3796" h="1365">
                <a:moveTo>
                  <a:pt x="22473" y="8235"/>
                </a:moveTo>
                <a:cubicBezTo>
                  <a:pt x="22446" y="8419"/>
                  <a:pt x="22443" y="8598"/>
                  <a:pt x="22423" y="8781"/>
                </a:cubicBezTo>
                <a:cubicBezTo>
                  <a:pt x="22407" y="8934"/>
                  <a:pt x="22399" y="9072"/>
                  <a:pt x="22399" y="9227"/>
                </a:cubicBezTo>
                <a:cubicBezTo>
                  <a:pt x="22399" y="9314"/>
                  <a:pt x="22398" y="9397"/>
                  <a:pt x="22374" y="9475"/>
                </a:cubicBezTo>
                <a:cubicBezTo>
                  <a:pt x="22346" y="9532"/>
                  <a:pt x="22335" y="9555"/>
                  <a:pt x="22324" y="959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955800" y="3973680"/>
            <a:ext cx="839520" cy="384120"/>
          </a:xfrm>
          <a:custGeom>
            <a:avLst/>
            <a:gdLst/>
            <a:ahLst/>
            <a:rect l="l" t="t" r="r" b="b"/>
            <a:pathLst>
              <a:path w="2333" h="1068">
                <a:moveTo>
                  <a:pt x="2679" y="11237"/>
                </a:moveTo>
                <a:cubicBezTo>
                  <a:pt x="2679" y="11419"/>
                  <a:pt x="2679" y="11600"/>
                  <a:pt x="2679" y="11782"/>
                </a:cubicBezTo>
                <a:cubicBezTo>
                  <a:pt x="2647" y="11740"/>
                  <a:pt x="2654" y="11714"/>
                  <a:pt x="2654" y="11658"/>
                </a:cubicBezTo>
                <a:cubicBezTo>
                  <a:pt x="2654" y="11553"/>
                  <a:pt x="2651" y="11452"/>
                  <a:pt x="2679" y="11361"/>
                </a:cubicBezTo>
                <a:cubicBezTo>
                  <a:pt x="2702" y="11285"/>
                  <a:pt x="2697" y="11283"/>
                  <a:pt x="2753" y="11237"/>
                </a:cubicBezTo>
                <a:cubicBezTo>
                  <a:pt x="2807" y="11193"/>
                  <a:pt x="2815" y="11208"/>
                  <a:pt x="2877" y="11187"/>
                </a:cubicBezTo>
                <a:cubicBezTo>
                  <a:pt x="2931" y="11169"/>
                  <a:pt x="2946" y="11162"/>
                  <a:pt x="3001" y="11162"/>
                </a:cubicBezTo>
                <a:cubicBezTo>
                  <a:pt x="3009" y="11162"/>
                  <a:pt x="3018" y="11162"/>
                  <a:pt x="3026" y="11162"/>
                </a:cubicBezTo>
              </a:path>
              <a:path w="2333" h="1068">
                <a:moveTo>
                  <a:pt x="3026" y="11361"/>
                </a:moveTo>
                <a:cubicBezTo>
                  <a:pt x="3103" y="11361"/>
                  <a:pt x="3137" y="11355"/>
                  <a:pt x="3200" y="11336"/>
                </a:cubicBezTo>
                <a:cubicBezTo>
                  <a:pt x="3233" y="11336"/>
                  <a:pt x="3249" y="11336"/>
                  <a:pt x="3274" y="11336"/>
                </a:cubicBezTo>
              </a:path>
              <a:path w="2333" h="1068">
                <a:moveTo>
                  <a:pt x="3001" y="11559"/>
                </a:moveTo>
                <a:cubicBezTo>
                  <a:pt x="3068" y="11559"/>
                  <a:pt x="3088" y="11580"/>
                  <a:pt x="3150" y="11584"/>
                </a:cubicBezTo>
                <a:cubicBezTo>
                  <a:pt x="3216" y="11588"/>
                  <a:pt x="3283" y="11584"/>
                  <a:pt x="3349" y="11584"/>
                </a:cubicBezTo>
              </a:path>
              <a:path w="2333" h="1068">
                <a:moveTo>
                  <a:pt x="3696" y="11733"/>
                </a:moveTo>
                <a:cubicBezTo>
                  <a:pt x="3696" y="11791"/>
                  <a:pt x="3681" y="11770"/>
                  <a:pt x="3721" y="11757"/>
                </a:cubicBezTo>
              </a:path>
              <a:path w="2333" h="1068">
                <a:moveTo>
                  <a:pt x="3919" y="11137"/>
                </a:moveTo>
                <a:cubicBezTo>
                  <a:pt x="3953" y="11079"/>
                  <a:pt x="3971" y="11045"/>
                  <a:pt x="4043" y="11038"/>
                </a:cubicBezTo>
                <a:cubicBezTo>
                  <a:pt x="4081" y="11034"/>
                  <a:pt x="4191" y="11032"/>
                  <a:pt x="4217" y="11063"/>
                </a:cubicBezTo>
                <a:cubicBezTo>
                  <a:pt x="4234" y="11084"/>
                  <a:pt x="4258" y="11156"/>
                  <a:pt x="4242" y="11187"/>
                </a:cubicBezTo>
                <a:cubicBezTo>
                  <a:pt x="4222" y="11228"/>
                  <a:pt x="4134" y="11306"/>
                  <a:pt x="4093" y="11311"/>
                </a:cubicBezTo>
                <a:cubicBezTo>
                  <a:pt x="4073" y="11313"/>
                  <a:pt x="4024" y="11336"/>
                  <a:pt x="4068" y="11336"/>
                </a:cubicBezTo>
                <a:cubicBezTo>
                  <a:pt x="4105" y="11336"/>
                  <a:pt x="4140" y="11343"/>
                  <a:pt x="4167" y="11361"/>
                </a:cubicBezTo>
                <a:cubicBezTo>
                  <a:pt x="4213" y="11391"/>
                  <a:pt x="4270" y="11435"/>
                  <a:pt x="4291" y="11485"/>
                </a:cubicBezTo>
                <a:cubicBezTo>
                  <a:pt x="4311" y="11532"/>
                  <a:pt x="4316" y="11580"/>
                  <a:pt x="4316" y="11633"/>
                </a:cubicBezTo>
                <a:cubicBezTo>
                  <a:pt x="4316" y="11713"/>
                  <a:pt x="4272" y="11719"/>
                  <a:pt x="4217" y="11757"/>
                </a:cubicBezTo>
                <a:cubicBezTo>
                  <a:pt x="4172" y="11789"/>
                  <a:pt x="4137" y="11785"/>
                  <a:pt x="4093" y="11757"/>
                </a:cubicBezTo>
                <a:cubicBezTo>
                  <a:pt x="4064" y="11738"/>
                  <a:pt x="4051" y="11688"/>
                  <a:pt x="4043" y="11658"/>
                </a:cubicBezTo>
              </a:path>
              <a:path w="2333" h="1068">
                <a:moveTo>
                  <a:pt x="4514" y="11112"/>
                </a:moveTo>
                <a:cubicBezTo>
                  <a:pt x="4531" y="11206"/>
                  <a:pt x="4522" y="11245"/>
                  <a:pt x="4490" y="11336"/>
                </a:cubicBezTo>
                <a:cubicBezTo>
                  <a:pt x="4462" y="11418"/>
                  <a:pt x="4444" y="11499"/>
                  <a:pt x="4440" y="11584"/>
                </a:cubicBezTo>
                <a:cubicBezTo>
                  <a:pt x="4437" y="11640"/>
                  <a:pt x="4465" y="11722"/>
                  <a:pt x="4514" y="11757"/>
                </a:cubicBezTo>
                <a:cubicBezTo>
                  <a:pt x="4560" y="11790"/>
                  <a:pt x="4632" y="11845"/>
                  <a:pt x="4688" y="11857"/>
                </a:cubicBezTo>
                <a:cubicBezTo>
                  <a:pt x="4764" y="11874"/>
                  <a:pt x="4824" y="11824"/>
                  <a:pt x="4862" y="11782"/>
                </a:cubicBezTo>
                <a:cubicBezTo>
                  <a:pt x="4893" y="11747"/>
                  <a:pt x="4937" y="11713"/>
                  <a:pt x="4911" y="11658"/>
                </a:cubicBezTo>
                <a:cubicBezTo>
                  <a:pt x="4895" y="11625"/>
                  <a:pt x="4845" y="11586"/>
                  <a:pt x="4812" y="11584"/>
                </a:cubicBezTo>
                <a:cubicBezTo>
                  <a:pt x="4745" y="11579"/>
                  <a:pt x="4734" y="11588"/>
                  <a:pt x="4688" y="11633"/>
                </a:cubicBezTo>
                <a:cubicBezTo>
                  <a:pt x="4639" y="11681"/>
                  <a:pt x="4638" y="11718"/>
                  <a:pt x="4638" y="11782"/>
                </a:cubicBezTo>
                <a:cubicBezTo>
                  <a:pt x="4638" y="11848"/>
                  <a:pt x="4638" y="11881"/>
                  <a:pt x="4638" y="11931"/>
                </a:cubicBezTo>
              </a:path>
              <a:path w="2333" h="1068">
                <a:moveTo>
                  <a:pt x="3522" y="12005"/>
                </a:moveTo>
                <a:cubicBezTo>
                  <a:pt x="3616" y="12033"/>
                  <a:pt x="3719" y="12052"/>
                  <a:pt x="3820" y="12055"/>
                </a:cubicBezTo>
                <a:cubicBezTo>
                  <a:pt x="4003" y="12061"/>
                  <a:pt x="4185" y="12068"/>
                  <a:pt x="4366" y="12080"/>
                </a:cubicBezTo>
                <a:cubicBezTo>
                  <a:pt x="4550" y="12093"/>
                  <a:pt x="4734" y="12075"/>
                  <a:pt x="4911" y="12105"/>
                </a:cubicBezTo>
                <a:cubicBezTo>
                  <a:pt x="4979" y="12116"/>
                  <a:pt x="5006" y="12098"/>
                  <a:pt x="4936" y="1208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366920" y="4375080"/>
            <a:ext cx="339480" cy="277920"/>
          </a:xfrm>
          <a:custGeom>
            <a:avLst/>
            <a:gdLst/>
            <a:ahLst/>
            <a:rect l="l" t="t" r="r" b="b"/>
            <a:pathLst>
              <a:path w="944" h="770">
                <a:moveTo>
                  <a:pt x="3820" y="12154"/>
                </a:moveTo>
                <a:cubicBezTo>
                  <a:pt x="3820" y="12323"/>
                  <a:pt x="3818" y="12486"/>
                  <a:pt x="3795" y="12650"/>
                </a:cubicBezTo>
                <a:cubicBezTo>
                  <a:pt x="3785" y="12725"/>
                  <a:pt x="3804" y="12781"/>
                  <a:pt x="3820" y="12849"/>
                </a:cubicBezTo>
                <a:cubicBezTo>
                  <a:pt x="3825" y="12870"/>
                  <a:pt x="3820" y="12901"/>
                  <a:pt x="3820" y="12923"/>
                </a:cubicBezTo>
              </a:path>
              <a:path w="944" h="770">
                <a:moveTo>
                  <a:pt x="4018" y="12774"/>
                </a:moveTo>
                <a:cubicBezTo>
                  <a:pt x="4018" y="12791"/>
                  <a:pt x="4018" y="12807"/>
                  <a:pt x="4018" y="12824"/>
                </a:cubicBezTo>
              </a:path>
              <a:path w="944" h="770">
                <a:moveTo>
                  <a:pt x="4242" y="12378"/>
                </a:moveTo>
                <a:cubicBezTo>
                  <a:pt x="4351" y="12319"/>
                  <a:pt x="4335" y="12301"/>
                  <a:pt x="4415" y="12328"/>
                </a:cubicBezTo>
                <a:cubicBezTo>
                  <a:pt x="4442" y="12337"/>
                  <a:pt x="4504" y="12366"/>
                  <a:pt x="4514" y="12402"/>
                </a:cubicBezTo>
                <a:cubicBezTo>
                  <a:pt x="4533" y="12469"/>
                  <a:pt x="4500" y="12547"/>
                  <a:pt x="4490" y="12601"/>
                </a:cubicBezTo>
                <a:cubicBezTo>
                  <a:pt x="4478" y="12662"/>
                  <a:pt x="4461" y="12700"/>
                  <a:pt x="4415" y="12750"/>
                </a:cubicBezTo>
                <a:cubicBezTo>
                  <a:pt x="4396" y="12771"/>
                  <a:pt x="4344" y="12817"/>
                  <a:pt x="4341" y="12824"/>
                </a:cubicBezTo>
                <a:cubicBezTo>
                  <a:pt x="4341" y="12832"/>
                  <a:pt x="4341" y="12841"/>
                  <a:pt x="4341" y="12849"/>
                </a:cubicBezTo>
                <a:cubicBezTo>
                  <a:pt x="4350" y="12876"/>
                  <a:pt x="4359" y="12894"/>
                  <a:pt x="4390" y="12898"/>
                </a:cubicBezTo>
                <a:cubicBezTo>
                  <a:pt x="4435" y="12903"/>
                  <a:pt x="4479" y="12916"/>
                  <a:pt x="4514" y="12923"/>
                </a:cubicBezTo>
                <a:cubicBezTo>
                  <a:pt x="4592" y="12939"/>
                  <a:pt x="4666" y="12918"/>
                  <a:pt x="4738" y="1289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1857240" y="4394160"/>
            <a:ext cx="98640" cy="88920"/>
          </a:xfrm>
          <a:custGeom>
            <a:avLst/>
            <a:gdLst/>
            <a:ahLst/>
            <a:rect l="l" t="t" r="r" b="b"/>
            <a:pathLst>
              <a:path w="274" h="249">
                <a:moveTo>
                  <a:pt x="5159" y="12204"/>
                </a:moveTo>
                <a:cubicBezTo>
                  <a:pt x="5261" y="12209"/>
                  <a:pt x="5337" y="12229"/>
                  <a:pt x="5432" y="12229"/>
                </a:cubicBezTo>
              </a:path>
              <a:path w="274" h="249">
                <a:moveTo>
                  <a:pt x="5234" y="12427"/>
                </a:moveTo>
                <a:cubicBezTo>
                  <a:pt x="5293" y="12449"/>
                  <a:pt x="5319" y="12452"/>
                  <a:pt x="5383" y="12452"/>
                </a:cubicBezTo>
              </a:path>
            </a:pathLst>
          </a:custGeom>
          <a:noFill/>
          <a:ln cap="rnd" w="3492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46" name=""/>
          <p:cNvSpPr/>
          <p:nvPr/>
        </p:nvSpPr>
        <p:spPr>
          <a:xfrm>
            <a:off x="2089080" y="4402080"/>
            <a:ext cx="9720" cy="9720"/>
          </a:xfrm>
          <a:custGeom>
            <a:avLst/>
            <a:gdLst/>
            <a:ahLst/>
            <a:rect l="l" t="t" r="r" b="b"/>
            <a:pathLst>
              <a:path w="26" h="26">
                <a:moveTo>
                  <a:pt x="5804" y="12254"/>
                </a:moveTo>
                <a:cubicBezTo>
                  <a:pt x="5829" y="12254"/>
                  <a:pt x="5837" y="12254"/>
                  <a:pt x="5829" y="12229"/>
                </a:cubicBezTo>
              </a:path>
            </a:pathLst>
          </a:custGeom>
          <a:noFill/>
          <a:ln cap="rnd" w="34920">
            <a:solidFill>
              <a:srgbClr val="ffffff"/>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7" name=""/>
          <p:cNvSpPr/>
          <p:nvPr/>
        </p:nvSpPr>
        <p:spPr>
          <a:xfrm>
            <a:off x="2170080" y="4089240"/>
            <a:ext cx="223920" cy="322560"/>
          </a:xfrm>
          <a:custGeom>
            <a:avLst/>
            <a:gdLst/>
            <a:ahLst/>
            <a:rect l="l" t="t" r="r" b="b"/>
            <a:pathLst>
              <a:path w="621" h="894">
                <a:moveTo>
                  <a:pt x="6028" y="11534"/>
                </a:moveTo>
                <a:cubicBezTo>
                  <a:pt x="6074" y="11441"/>
                  <a:pt x="6097" y="11444"/>
                  <a:pt x="6176" y="11385"/>
                </a:cubicBezTo>
                <a:cubicBezTo>
                  <a:pt x="6228" y="11346"/>
                  <a:pt x="6292" y="11352"/>
                  <a:pt x="6350" y="11385"/>
                </a:cubicBezTo>
                <a:cubicBezTo>
                  <a:pt x="6402" y="11414"/>
                  <a:pt x="6445" y="11451"/>
                  <a:pt x="6449" y="11509"/>
                </a:cubicBezTo>
                <a:cubicBezTo>
                  <a:pt x="6454" y="11577"/>
                  <a:pt x="6446" y="11587"/>
                  <a:pt x="6400" y="11633"/>
                </a:cubicBezTo>
                <a:cubicBezTo>
                  <a:pt x="6362" y="11671"/>
                  <a:pt x="6366" y="11672"/>
                  <a:pt x="6325" y="11708"/>
                </a:cubicBezTo>
                <a:cubicBezTo>
                  <a:pt x="6317" y="11716"/>
                  <a:pt x="6308" y="11725"/>
                  <a:pt x="6300" y="11733"/>
                </a:cubicBezTo>
                <a:cubicBezTo>
                  <a:pt x="6339" y="11742"/>
                  <a:pt x="6356" y="11757"/>
                  <a:pt x="6400" y="11757"/>
                </a:cubicBezTo>
                <a:cubicBezTo>
                  <a:pt x="6443" y="11757"/>
                  <a:pt x="6494" y="11779"/>
                  <a:pt x="6524" y="11807"/>
                </a:cubicBezTo>
                <a:cubicBezTo>
                  <a:pt x="6573" y="11853"/>
                  <a:pt x="6632" y="11912"/>
                  <a:pt x="6648" y="11981"/>
                </a:cubicBezTo>
                <a:cubicBezTo>
                  <a:pt x="6661" y="12040"/>
                  <a:pt x="6654" y="12128"/>
                  <a:pt x="6623" y="12179"/>
                </a:cubicBezTo>
                <a:cubicBezTo>
                  <a:pt x="6589" y="12235"/>
                  <a:pt x="6534" y="12251"/>
                  <a:pt x="6474" y="12254"/>
                </a:cubicBezTo>
                <a:cubicBezTo>
                  <a:pt x="6425" y="12257"/>
                  <a:pt x="6344" y="12231"/>
                  <a:pt x="6300" y="12204"/>
                </a:cubicBezTo>
                <a:cubicBezTo>
                  <a:pt x="6252" y="12174"/>
                  <a:pt x="6221" y="12174"/>
                  <a:pt x="6176" y="12129"/>
                </a:cubicBezTo>
                <a:cubicBezTo>
                  <a:pt x="6154" y="12107"/>
                  <a:pt x="6149" y="12099"/>
                  <a:pt x="6127" y="1210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d the sum</a:t>
            </a:r>
            <a:endParaRPr b="0" lang="en-US" sz="4400" spc="-1" strike="noStrike">
              <a:solidFill>
                <a:srgbClr val="e3ebf1"/>
              </a:solidFill>
              <a:latin typeface="Arial"/>
            </a:endParaRPr>
          </a:p>
        </p:txBody>
      </p:sp>
      <p:graphicFrame>
        <p:nvGraphicFramePr>
          <p:cNvPr id="149" name=""/>
          <p:cNvGraphicFramePr/>
          <p:nvPr/>
        </p:nvGraphicFramePr>
        <p:xfrm>
          <a:off x="838080" y="1676520"/>
          <a:ext cx="1524240" cy="877680"/>
        </p:xfrm>
        <a:graphic>
          <a:graphicData uri="http://schemas.openxmlformats.org/presentationml/2006/ole">
            <p:oleObj r:id="rId1" spid="">
              <p:embed/>
              <p:pic>
                <p:nvPicPr>
                  <p:cNvPr id="150" name="" descr=""/>
                  <p:cNvPicPr/>
                  <p:nvPr/>
                </p:nvPicPr>
                <p:blipFill>
                  <a:blip r:embed="rId2"/>
                  <a:stretch/>
                </p:blipFill>
                <p:spPr>
                  <a:xfrm>
                    <a:off x="838080" y="1676520"/>
                    <a:ext cx="1524240" cy="877680"/>
                  </a:xfrm>
                  <a:prstGeom prst="rect">
                    <a:avLst/>
                  </a:prstGeom>
                  <a:ln w="0">
                    <a:noFill/>
                  </a:ln>
                </p:spPr>
              </p:pic>
            </p:oleObj>
          </a:graphicData>
        </a:graphic>
      </p:graphicFrame>
      <p:sp>
        <p:nvSpPr>
          <p:cNvPr id="151" name=""/>
          <p:cNvSpPr/>
          <p:nvPr/>
        </p:nvSpPr>
        <p:spPr>
          <a:xfrm>
            <a:off x="1133640" y="2517840"/>
            <a:ext cx="4554360" cy="1179360"/>
          </a:xfrm>
          <a:custGeom>
            <a:avLst/>
            <a:gdLst/>
            <a:ahLst/>
            <a:rect l="l" t="t" r="r" b="b"/>
            <a:pathLst>
              <a:path w="12652" h="3275">
                <a:moveTo>
                  <a:pt x="4266" y="7516"/>
                </a:moveTo>
                <a:cubicBezTo>
                  <a:pt x="4275" y="7550"/>
                  <a:pt x="4277" y="7609"/>
                  <a:pt x="4291" y="7640"/>
                </a:cubicBezTo>
                <a:cubicBezTo>
                  <a:pt x="4291" y="7665"/>
                  <a:pt x="4291" y="7673"/>
                  <a:pt x="4316" y="7665"/>
                </a:cubicBezTo>
                <a:cubicBezTo>
                  <a:pt x="4316" y="7632"/>
                  <a:pt x="4324" y="7647"/>
                  <a:pt x="4316" y="7615"/>
                </a:cubicBezTo>
                <a:cubicBezTo>
                  <a:pt x="4301" y="7551"/>
                  <a:pt x="4275" y="7529"/>
                  <a:pt x="4217" y="7491"/>
                </a:cubicBezTo>
                <a:cubicBezTo>
                  <a:pt x="4157" y="7452"/>
                  <a:pt x="4091" y="7403"/>
                  <a:pt x="4018" y="7392"/>
                </a:cubicBezTo>
                <a:cubicBezTo>
                  <a:pt x="3924" y="7378"/>
                  <a:pt x="3831" y="7407"/>
                  <a:pt x="3746" y="7417"/>
                </a:cubicBezTo>
                <a:cubicBezTo>
                  <a:pt x="3658" y="7428"/>
                  <a:pt x="3551" y="7439"/>
                  <a:pt x="3473" y="7491"/>
                </a:cubicBezTo>
                <a:cubicBezTo>
                  <a:pt x="3390" y="7547"/>
                  <a:pt x="3263" y="7613"/>
                  <a:pt x="3225" y="7714"/>
                </a:cubicBezTo>
                <a:cubicBezTo>
                  <a:pt x="3209" y="7757"/>
                  <a:pt x="3217" y="7879"/>
                  <a:pt x="3249" y="7913"/>
                </a:cubicBezTo>
                <a:cubicBezTo>
                  <a:pt x="3268" y="7934"/>
                  <a:pt x="3397" y="8023"/>
                  <a:pt x="3423" y="8037"/>
                </a:cubicBezTo>
                <a:cubicBezTo>
                  <a:pt x="3522" y="8089"/>
                  <a:pt x="3644" y="8139"/>
                  <a:pt x="3746" y="8186"/>
                </a:cubicBezTo>
                <a:cubicBezTo>
                  <a:pt x="3835" y="8226"/>
                  <a:pt x="3943" y="8276"/>
                  <a:pt x="4018" y="8334"/>
                </a:cubicBezTo>
                <a:cubicBezTo>
                  <a:pt x="4097" y="8395"/>
                  <a:pt x="4173" y="8541"/>
                  <a:pt x="4217" y="8632"/>
                </a:cubicBezTo>
                <a:cubicBezTo>
                  <a:pt x="4257" y="8714"/>
                  <a:pt x="4244" y="8775"/>
                  <a:pt x="4217" y="8855"/>
                </a:cubicBezTo>
                <a:cubicBezTo>
                  <a:pt x="4173" y="8987"/>
                  <a:pt x="4143" y="8972"/>
                  <a:pt x="4043" y="9029"/>
                </a:cubicBezTo>
                <a:cubicBezTo>
                  <a:pt x="3932" y="9092"/>
                  <a:pt x="3850" y="9079"/>
                  <a:pt x="3721" y="9079"/>
                </a:cubicBezTo>
                <a:cubicBezTo>
                  <a:pt x="3646" y="9079"/>
                  <a:pt x="3465" y="9038"/>
                  <a:pt x="3398" y="9004"/>
                </a:cubicBezTo>
                <a:cubicBezTo>
                  <a:pt x="3325" y="8967"/>
                  <a:pt x="3257" y="8918"/>
                  <a:pt x="3200" y="8880"/>
                </a:cubicBezTo>
                <a:cubicBezTo>
                  <a:pt x="3177" y="8857"/>
                  <a:pt x="3173" y="8849"/>
                  <a:pt x="3150" y="8855"/>
                </a:cubicBezTo>
              </a:path>
              <a:path w="12652" h="3275">
                <a:moveTo>
                  <a:pt x="4614" y="8434"/>
                </a:moveTo>
                <a:cubicBezTo>
                  <a:pt x="4742" y="8434"/>
                  <a:pt x="5015" y="8381"/>
                  <a:pt x="5085" y="8483"/>
                </a:cubicBezTo>
              </a:path>
              <a:path w="12652" h="3275">
                <a:moveTo>
                  <a:pt x="4539" y="8632"/>
                </a:moveTo>
                <a:cubicBezTo>
                  <a:pt x="4663" y="8632"/>
                  <a:pt x="4787" y="8632"/>
                  <a:pt x="4911" y="8632"/>
                </a:cubicBezTo>
              </a:path>
              <a:path w="12652" h="3275">
                <a:moveTo>
                  <a:pt x="6846" y="7689"/>
                </a:moveTo>
                <a:cubicBezTo>
                  <a:pt x="6832" y="7726"/>
                  <a:pt x="6835" y="7780"/>
                  <a:pt x="6821" y="7813"/>
                </a:cubicBezTo>
                <a:cubicBezTo>
                  <a:pt x="6821" y="7838"/>
                  <a:pt x="6821" y="7846"/>
                  <a:pt x="6796" y="7838"/>
                </a:cubicBezTo>
                <a:cubicBezTo>
                  <a:pt x="6796" y="7758"/>
                  <a:pt x="6803" y="7689"/>
                  <a:pt x="6772" y="7615"/>
                </a:cubicBezTo>
                <a:cubicBezTo>
                  <a:pt x="6745" y="7550"/>
                  <a:pt x="6747" y="7495"/>
                  <a:pt x="6697" y="7441"/>
                </a:cubicBezTo>
                <a:cubicBezTo>
                  <a:pt x="6646" y="7386"/>
                  <a:pt x="6621" y="7346"/>
                  <a:pt x="6548" y="7342"/>
                </a:cubicBezTo>
                <a:cubicBezTo>
                  <a:pt x="6476" y="7338"/>
                  <a:pt x="6439" y="7346"/>
                  <a:pt x="6375" y="7367"/>
                </a:cubicBezTo>
                <a:cubicBezTo>
                  <a:pt x="6305" y="7390"/>
                  <a:pt x="6215" y="7471"/>
                  <a:pt x="6176" y="7541"/>
                </a:cubicBezTo>
                <a:cubicBezTo>
                  <a:pt x="6132" y="7619"/>
                  <a:pt x="6071" y="7723"/>
                  <a:pt x="6052" y="7813"/>
                </a:cubicBezTo>
                <a:cubicBezTo>
                  <a:pt x="6032" y="7904"/>
                  <a:pt x="5979" y="8061"/>
                  <a:pt x="6003" y="8161"/>
                </a:cubicBezTo>
                <a:cubicBezTo>
                  <a:pt x="6010" y="8190"/>
                  <a:pt x="6069" y="8276"/>
                  <a:pt x="6102" y="8285"/>
                </a:cubicBezTo>
                <a:cubicBezTo>
                  <a:pt x="6175" y="8306"/>
                  <a:pt x="6218" y="8266"/>
                  <a:pt x="6276" y="8235"/>
                </a:cubicBezTo>
                <a:cubicBezTo>
                  <a:pt x="6339" y="8201"/>
                  <a:pt x="6408" y="8146"/>
                  <a:pt x="6449" y="8086"/>
                </a:cubicBezTo>
                <a:cubicBezTo>
                  <a:pt x="6502" y="8008"/>
                  <a:pt x="6520" y="7921"/>
                  <a:pt x="6548" y="7838"/>
                </a:cubicBezTo>
                <a:cubicBezTo>
                  <a:pt x="6548" y="7810"/>
                  <a:pt x="6550" y="7799"/>
                  <a:pt x="6573" y="7789"/>
                </a:cubicBezTo>
                <a:cubicBezTo>
                  <a:pt x="6566" y="7842"/>
                  <a:pt x="6551" y="7884"/>
                  <a:pt x="6548" y="7938"/>
                </a:cubicBezTo>
                <a:cubicBezTo>
                  <a:pt x="6544" y="8002"/>
                  <a:pt x="6572" y="8079"/>
                  <a:pt x="6598" y="8136"/>
                </a:cubicBezTo>
                <a:cubicBezTo>
                  <a:pt x="6639" y="8228"/>
                  <a:pt x="6689" y="8224"/>
                  <a:pt x="6772" y="8235"/>
                </a:cubicBezTo>
                <a:cubicBezTo>
                  <a:pt x="6780" y="8235"/>
                  <a:pt x="6788" y="8235"/>
                  <a:pt x="6796" y="8235"/>
                </a:cubicBezTo>
              </a:path>
              <a:path w="12652" h="3275">
                <a:moveTo>
                  <a:pt x="7119" y="8062"/>
                </a:moveTo>
                <a:cubicBezTo>
                  <a:pt x="7119" y="8178"/>
                  <a:pt x="7119" y="8293"/>
                  <a:pt x="7119" y="8409"/>
                </a:cubicBezTo>
              </a:path>
              <a:path w="12652" h="3275">
                <a:moveTo>
                  <a:pt x="5829" y="8632"/>
                </a:moveTo>
                <a:cubicBezTo>
                  <a:pt x="5924" y="8632"/>
                  <a:pt x="5942" y="8602"/>
                  <a:pt x="6028" y="8582"/>
                </a:cubicBezTo>
                <a:cubicBezTo>
                  <a:pt x="6316" y="8515"/>
                  <a:pt x="6688" y="8611"/>
                  <a:pt x="6970" y="8632"/>
                </a:cubicBezTo>
                <a:cubicBezTo>
                  <a:pt x="7057" y="8639"/>
                  <a:pt x="7731" y="8673"/>
                  <a:pt x="7714" y="8582"/>
                </a:cubicBezTo>
                <a:cubicBezTo>
                  <a:pt x="7706" y="8574"/>
                  <a:pt x="7697" y="8566"/>
                  <a:pt x="7689" y="8558"/>
                </a:cubicBezTo>
              </a:path>
              <a:path w="12652" h="3275">
                <a:moveTo>
                  <a:pt x="5953" y="8930"/>
                </a:moveTo>
                <a:cubicBezTo>
                  <a:pt x="5926" y="9018"/>
                  <a:pt x="5928" y="9085"/>
                  <a:pt x="5928" y="9178"/>
                </a:cubicBezTo>
                <a:cubicBezTo>
                  <a:pt x="5928" y="9289"/>
                  <a:pt x="5908" y="9393"/>
                  <a:pt x="5904" y="9500"/>
                </a:cubicBezTo>
                <a:cubicBezTo>
                  <a:pt x="5899" y="9660"/>
                  <a:pt x="5901" y="9816"/>
                  <a:pt x="5928" y="9971"/>
                </a:cubicBezTo>
                <a:cubicBezTo>
                  <a:pt x="5938" y="10027"/>
                  <a:pt x="5937" y="10061"/>
                  <a:pt x="5953" y="10120"/>
                </a:cubicBezTo>
              </a:path>
              <a:path w="12652" h="3275">
                <a:moveTo>
                  <a:pt x="6300" y="9525"/>
                </a:moveTo>
                <a:cubicBezTo>
                  <a:pt x="6416" y="9525"/>
                  <a:pt x="6532" y="9525"/>
                  <a:pt x="6648" y="9525"/>
                </a:cubicBezTo>
              </a:path>
              <a:path w="12652" h="3275">
                <a:moveTo>
                  <a:pt x="7094" y="9500"/>
                </a:moveTo>
                <a:cubicBezTo>
                  <a:pt x="7075" y="9613"/>
                  <a:pt x="7069" y="9709"/>
                  <a:pt x="7069" y="9823"/>
                </a:cubicBezTo>
                <a:cubicBezTo>
                  <a:pt x="7069" y="9897"/>
                  <a:pt x="7069" y="9972"/>
                  <a:pt x="7069" y="10046"/>
                </a:cubicBezTo>
                <a:cubicBezTo>
                  <a:pt x="7128" y="10006"/>
                  <a:pt x="7073" y="9984"/>
                  <a:pt x="7069" y="9922"/>
                </a:cubicBezTo>
                <a:cubicBezTo>
                  <a:pt x="7065" y="9865"/>
                  <a:pt x="7029" y="9670"/>
                  <a:pt x="7045" y="9599"/>
                </a:cubicBezTo>
                <a:cubicBezTo>
                  <a:pt x="7059" y="9540"/>
                  <a:pt x="7069" y="9444"/>
                  <a:pt x="7119" y="9401"/>
                </a:cubicBezTo>
                <a:cubicBezTo>
                  <a:pt x="7178" y="9350"/>
                  <a:pt x="7269" y="9413"/>
                  <a:pt x="7317" y="9376"/>
                </a:cubicBezTo>
                <a:cubicBezTo>
                  <a:pt x="7370" y="9336"/>
                  <a:pt x="7368" y="9330"/>
                  <a:pt x="7441" y="9302"/>
                </a:cubicBezTo>
              </a:path>
              <a:path w="12652" h="3275">
                <a:moveTo>
                  <a:pt x="8235" y="8483"/>
                </a:moveTo>
                <a:cubicBezTo>
                  <a:pt x="8343" y="8483"/>
                  <a:pt x="8450" y="8483"/>
                  <a:pt x="8558" y="8483"/>
                </a:cubicBezTo>
              </a:path>
              <a:path w="12652" h="3275">
                <a:moveTo>
                  <a:pt x="8359" y="8706"/>
                </a:moveTo>
                <a:cubicBezTo>
                  <a:pt x="8487" y="8802"/>
                  <a:pt x="8478" y="8781"/>
                  <a:pt x="8657" y="8781"/>
                </a:cubicBezTo>
              </a:path>
              <a:path w="12652" h="3275">
                <a:moveTo>
                  <a:pt x="10195" y="7193"/>
                </a:moveTo>
                <a:cubicBezTo>
                  <a:pt x="10266" y="7217"/>
                  <a:pt x="10168" y="7309"/>
                  <a:pt x="10145" y="7367"/>
                </a:cubicBezTo>
                <a:cubicBezTo>
                  <a:pt x="10115" y="7440"/>
                  <a:pt x="10066" y="7498"/>
                  <a:pt x="10046" y="7565"/>
                </a:cubicBezTo>
                <a:cubicBezTo>
                  <a:pt x="10046" y="7593"/>
                  <a:pt x="10044" y="7604"/>
                  <a:pt x="10021" y="7615"/>
                </a:cubicBezTo>
                <a:cubicBezTo>
                  <a:pt x="10078" y="7586"/>
                  <a:pt x="10063" y="7621"/>
                  <a:pt x="10120" y="7640"/>
                </a:cubicBezTo>
                <a:cubicBezTo>
                  <a:pt x="10188" y="7663"/>
                  <a:pt x="10244" y="7665"/>
                  <a:pt x="10319" y="7665"/>
                </a:cubicBezTo>
                <a:cubicBezTo>
                  <a:pt x="10433" y="7665"/>
                  <a:pt x="10509" y="7637"/>
                  <a:pt x="10616" y="7615"/>
                </a:cubicBezTo>
              </a:path>
              <a:path w="12652" h="3275">
                <a:moveTo>
                  <a:pt x="10592" y="6995"/>
                </a:moveTo>
                <a:cubicBezTo>
                  <a:pt x="10584" y="7092"/>
                  <a:pt x="10582" y="7196"/>
                  <a:pt x="10567" y="7293"/>
                </a:cubicBezTo>
                <a:cubicBezTo>
                  <a:pt x="10546" y="7426"/>
                  <a:pt x="10517" y="7529"/>
                  <a:pt x="10517" y="7665"/>
                </a:cubicBezTo>
                <a:cubicBezTo>
                  <a:pt x="10517" y="7764"/>
                  <a:pt x="10486" y="7841"/>
                  <a:pt x="10517" y="7938"/>
                </a:cubicBezTo>
                <a:cubicBezTo>
                  <a:pt x="10535" y="7995"/>
                  <a:pt x="10532" y="8067"/>
                  <a:pt x="10567" y="8111"/>
                </a:cubicBezTo>
                <a:cubicBezTo>
                  <a:pt x="10575" y="8119"/>
                  <a:pt x="10584" y="8128"/>
                  <a:pt x="10592" y="8136"/>
                </a:cubicBezTo>
              </a:path>
              <a:path w="12652" h="3275">
                <a:moveTo>
                  <a:pt x="9302" y="8409"/>
                </a:moveTo>
                <a:cubicBezTo>
                  <a:pt x="9408" y="8432"/>
                  <a:pt x="9514" y="8446"/>
                  <a:pt x="9624" y="8434"/>
                </a:cubicBezTo>
                <a:cubicBezTo>
                  <a:pt x="9849" y="8409"/>
                  <a:pt x="10067" y="8409"/>
                  <a:pt x="10294" y="8409"/>
                </a:cubicBezTo>
                <a:cubicBezTo>
                  <a:pt x="10661" y="8409"/>
                  <a:pt x="11020" y="8419"/>
                  <a:pt x="11385" y="8434"/>
                </a:cubicBezTo>
                <a:cubicBezTo>
                  <a:pt x="11623" y="8444"/>
                  <a:pt x="11846" y="8473"/>
                  <a:pt x="12080" y="8483"/>
                </a:cubicBezTo>
                <a:cubicBezTo>
                  <a:pt x="12230" y="8490"/>
                  <a:pt x="12331" y="8468"/>
                  <a:pt x="12452" y="8434"/>
                </a:cubicBezTo>
                <a:cubicBezTo>
                  <a:pt x="12557" y="8405"/>
                  <a:pt x="12489" y="8428"/>
                  <a:pt x="12502" y="8409"/>
                </a:cubicBezTo>
              </a:path>
              <a:path w="12652" h="3275">
                <a:moveTo>
                  <a:pt x="10071" y="8880"/>
                </a:moveTo>
                <a:cubicBezTo>
                  <a:pt x="10088" y="8994"/>
                  <a:pt x="10108" y="9114"/>
                  <a:pt x="10120" y="9227"/>
                </a:cubicBezTo>
                <a:cubicBezTo>
                  <a:pt x="10130" y="9317"/>
                  <a:pt x="10136" y="9416"/>
                  <a:pt x="10145" y="9500"/>
                </a:cubicBezTo>
                <a:cubicBezTo>
                  <a:pt x="10155" y="9596"/>
                  <a:pt x="10156" y="9680"/>
                  <a:pt x="10170" y="9773"/>
                </a:cubicBezTo>
                <a:cubicBezTo>
                  <a:pt x="10177" y="9822"/>
                  <a:pt x="10192" y="9875"/>
                  <a:pt x="10195" y="9922"/>
                </a:cubicBezTo>
                <a:cubicBezTo>
                  <a:pt x="10195" y="9963"/>
                  <a:pt x="10187" y="9979"/>
                  <a:pt x="10220" y="9971"/>
                </a:cubicBezTo>
              </a:path>
              <a:path w="12652" h="3275">
                <a:moveTo>
                  <a:pt x="10368" y="9500"/>
                </a:moveTo>
                <a:cubicBezTo>
                  <a:pt x="10492" y="9500"/>
                  <a:pt x="10616" y="9500"/>
                  <a:pt x="10740" y="9500"/>
                </a:cubicBezTo>
              </a:path>
              <a:path w="12652" h="3275">
                <a:moveTo>
                  <a:pt x="11137" y="9847"/>
                </a:moveTo>
                <a:cubicBezTo>
                  <a:pt x="11183" y="9878"/>
                  <a:pt x="11162" y="9920"/>
                  <a:pt x="11162" y="9823"/>
                </a:cubicBezTo>
              </a:path>
              <a:path w="12652" h="3275">
                <a:moveTo>
                  <a:pt x="11559" y="9004"/>
                </a:moveTo>
                <a:cubicBezTo>
                  <a:pt x="11554" y="9069"/>
                  <a:pt x="11554" y="9092"/>
                  <a:pt x="11534" y="9153"/>
                </a:cubicBezTo>
                <a:cubicBezTo>
                  <a:pt x="11508" y="9231"/>
                  <a:pt x="11468" y="9291"/>
                  <a:pt x="11460" y="9376"/>
                </a:cubicBezTo>
                <a:cubicBezTo>
                  <a:pt x="11454" y="9438"/>
                  <a:pt x="11420" y="9540"/>
                  <a:pt x="11435" y="9599"/>
                </a:cubicBezTo>
                <a:cubicBezTo>
                  <a:pt x="11446" y="9642"/>
                  <a:pt x="11505" y="9740"/>
                  <a:pt x="11534" y="9773"/>
                </a:cubicBezTo>
                <a:cubicBezTo>
                  <a:pt x="11559" y="9801"/>
                  <a:pt x="11675" y="9887"/>
                  <a:pt x="11708" y="9897"/>
                </a:cubicBezTo>
                <a:cubicBezTo>
                  <a:pt x="11801" y="9925"/>
                  <a:pt x="11864" y="9887"/>
                  <a:pt x="11931" y="9847"/>
                </a:cubicBezTo>
                <a:cubicBezTo>
                  <a:pt x="12023" y="9792"/>
                  <a:pt x="12035" y="9798"/>
                  <a:pt x="12105" y="9699"/>
                </a:cubicBezTo>
                <a:cubicBezTo>
                  <a:pt x="12145" y="9643"/>
                  <a:pt x="12116" y="9585"/>
                  <a:pt x="12080" y="9525"/>
                </a:cubicBezTo>
                <a:cubicBezTo>
                  <a:pt x="12064" y="9499"/>
                  <a:pt x="12033" y="9472"/>
                  <a:pt x="11981" y="9475"/>
                </a:cubicBezTo>
                <a:cubicBezTo>
                  <a:pt x="11910" y="9479"/>
                  <a:pt x="11867" y="9533"/>
                  <a:pt x="11857" y="9599"/>
                </a:cubicBezTo>
                <a:cubicBezTo>
                  <a:pt x="11841" y="9701"/>
                  <a:pt x="11872" y="9739"/>
                  <a:pt x="11906" y="9823"/>
                </a:cubicBezTo>
                <a:cubicBezTo>
                  <a:pt x="11940" y="9907"/>
                  <a:pt x="11983" y="9945"/>
                  <a:pt x="12055" y="9996"/>
                </a:cubicBezTo>
              </a:path>
              <a:path w="12652" h="3275">
                <a:moveTo>
                  <a:pt x="9798" y="8706"/>
                </a:moveTo>
                <a:cubicBezTo>
                  <a:pt x="9740" y="8743"/>
                  <a:pt x="9674" y="8793"/>
                  <a:pt x="9624" y="8855"/>
                </a:cubicBezTo>
                <a:cubicBezTo>
                  <a:pt x="9532" y="8970"/>
                  <a:pt x="9445" y="9111"/>
                  <a:pt x="9401" y="9252"/>
                </a:cubicBezTo>
                <a:cubicBezTo>
                  <a:pt x="9352" y="9408"/>
                  <a:pt x="9352" y="9517"/>
                  <a:pt x="9401" y="9674"/>
                </a:cubicBezTo>
                <a:cubicBezTo>
                  <a:pt x="9465" y="9880"/>
                  <a:pt x="9572" y="9934"/>
                  <a:pt x="9748" y="10046"/>
                </a:cubicBezTo>
              </a:path>
              <a:path w="12652" h="3275">
                <a:moveTo>
                  <a:pt x="11981" y="8781"/>
                </a:moveTo>
                <a:cubicBezTo>
                  <a:pt x="12091" y="8928"/>
                  <a:pt x="12212" y="9064"/>
                  <a:pt x="12303" y="9227"/>
                </a:cubicBezTo>
                <a:cubicBezTo>
                  <a:pt x="12390" y="9382"/>
                  <a:pt x="12506" y="9527"/>
                  <a:pt x="12551" y="9699"/>
                </a:cubicBezTo>
                <a:cubicBezTo>
                  <a:pt x="12578" y="9803"/>
                  <a:pt x="12607" y="9971"/>
                  <a:pt x="12551" y="10071"/>
                </a:cubicBezTo>
                <a:cubicBezTo>
                  <a:pt x="12509" y="10145"/>
                  <a:pt x="12413" y="10241"/>
                  <a:pt x="12328" y="10269"/>
                </a:cubicBezTo>
                <a:cubicBezTo>
                  <a:pt x="12270" y="10269"/>
                  <a:pt x="12245" y="10269"/>
                  <a:pt x="12204" y="10269"/>
                </a:cubicBezTo>
              </a:path>
              <a:path w="12652" h="3275">
                <a:moveTo>
                  <a:pt x="13146" y="8483"/>
                </a:moveTo>
                <a:cubicBezTo>
                  <a:pt x="13275" y="8398"/>
                  <a:pt x="13302" y="8455"/>
                  <a:pt x="13444" y="8483"/>
                </a:cubicBezTo>
                <a:cubicBezTo>
                  <a:pt x="13527" y="8483"/>
                  <a:pt x="13560" y="8483"/>
                  <a:pt x="13618" y="8483"/>
                </a:cubicBezTo>
              </a:path>
              <a:path w="12652" h="3275">
                <a:moveTo>
                  <a:pt x="13419" y="8855"/>
                </a:moveTo>
                <a:lnTo>
                  <a:pt x="13419" y="8855"/>
                </a:lnTo>
              </a:path>
              <a:path w="12652" h="3275">
                <a:moveTo>
                  <a:pt x="13146" y="8855"/>
                </a:moveTo>
                <a:cubicBezTo>
                  <a:pt x="13314" y="8855"/>
                  <a:pt x="13483" y="8854"/>
                  <a:pt x="13643" y="8880"/>
                </a:cubicBezTo>
                <a:cubicBezTo>
                  <a:pt x="13734" y="8895"/>
                  <a:pt x="13768" y="8918"/>
                  <a:pt x="13841" y="8930"/>
                </a:cubicBezTo>
                <a:cubicBezTo>
                  <a:pt x="13866" y="8930"/>
                  <a:pt x="13874" y="8930"/>
                  <a:pt x="13891" y="8930"/>
                </a:cubicBezTo>
                <a:cubicBezTo>
                  <a:pt x="13847" y="8908"/>
                  <a:pt x="13850" y="8880"/>
                  <a:pt x="13791" y="8880"/>
                </a:cubicBezTo>
                <a:cubicBezTo>
                  <a:pt x="13716" y="8880"/>
                  <a:pt x="13662" y="8860"/>
                  <a:pt x="13593" y="8855"/>
                </a:cubicBezTo>
                <a:cubicBezTo>
                  <a:pt x="13462" y="8846"/>
                  <a:pt x="13328" y="8855"/>
                  <a:pt x="13196" y="8855"/>
                </a:cubicBezTo>
              </a:path>
              <a:path w="12652" h="3275">
                <a:moveTo>
                  <a:pt x="12998" y="8483"/>
                </a:moveTo>
                <a:cubicBezTo>
                  <a:pt x="13243" y="8483"/>
                  <a:pt x="13544" y="8440"/>
                  <a:pt x="13767" y="8508"/>
                </a:cubicBezTo>
                <a:cubicBezTo>
                  <a:pt x="13775" y="8508"/>
                  <a:pt x="13783" y="8508"/>
                  <a:pt x="13791" y="8508"/>
                </a:cubicBezTo>
              </a:path>
              <a:path w="12652" h="3275">
                <a:moveTo>
                  <a:pt x="14461" y="7838"/>
                </a:moveTo>
                <a:cubicBezTo>
                  <a:pt x="14461" y="7991"/>
                  <a:pt x="14454" y="8135"/>
                  <a:pt x="14436" y="8285"/>
                </a:cubicBezTo>
                <a:cubicBezTo>
                  <a:pt x="14422" y="8399"/>
                  <a:pt x="14415" y="8517"/>
                  <a:pt x="14412" y="8632"/>
                </a:cubicBezTo>
                <a:cubicBezTo>
                  <a:pt x="14409" y="8736"/>
                  <a:pt x="14398" y="8830"/>
                  <a:pt x="14387" y="8930"/>
                </a:cubicBezTo>
                <a:cubicBezTo>
                  <a:pt x="14376" y="9026"/>
                  <a:pt x="14387" y="9130"/>
                  <a:pt x="14387" y="9227"/>
                </a:cubicBezTo>
                <a:cubicBezTo>
                  <a:pt x="14387" y="9178"/>
                  <a:pt x="14387" y="9128"/>
                  <a:pt x="14387" y="9079"/>
                </a:cubicBezTo>
              </a:path>
              <a:path w="12652" h="3275">
                <a:moveTo>
                  <a:pt x="14883" y="7987"/>
                </a:moveTo>
                <a:cubicBezTo>
                  <a:pt x="14924" y="8048"/>
                  <a:pt x="14916" y="8065"/>
                  <a:pt x="14908" y="8136"/>
                </a:cubicBezTo>
                <a:cubicBezTo>
                  <a:pt x="14900" y="8211"/>
                  <a:pt x="14867" y="8296"/>
                  <a:pt x="14858" y="8359"/>
                </a:cubicBezTo>
                <a:cubicBezTo>
                  <a:pt x="14838" y="8499"/>
                  <a:pt x="14833" y="8637"/>
                  <a:pt x="14833" y="8781"/>
                </a:cubicBezTo>
                <a:cubicBezTo>
                  <a:pt x="14833" y="8887"/>
                  <a:pt x="14841" y="8935"/>
                  <a:pt x="14883" y="9029"/>
                </a:cubicBezTo>
                <a:cubicBezTo>
                  <a:pt x="14935" y="9144"/>
                  <a:pt x="14973" y="9119"/>
                  <a:pt x="15056" y="9178"/>
                </a:cubicBezTo>
                <a:cubicBezTo>
                  <a:pt x="15141" y="9239"/>
                  <a:pt x="15197" y="9227"/>
                  <a:pt x="15304" y="9227"/>
                </a:cubicBezTo>
                <a:cubicBezTo>
                  <a:pt x="15409" y="9227"/>
                  <a:pt x="15467" y="9157"/>
                  <a:pt x="15553" y="9103"/>
                </a:cubicBezTo>
                <a:cubicBezTo>
                  <a:pt x="15619" y="9061"/>
                  <a:pt x="15717" y="8954"/>
                  <a:pt x="15751" y="8880"/>
                </a:cubicBezTo>
                <a:cubicBezTo>
                  <a:pt x="15813" y="8746"/>
                  <a:pt x="15801" y="8625"/>
                  <a:pt x="15801" y="8483"/>
                </a:cubicBezTo>
                <a:cubicBezTo>
                  <a:pt x="15801" y="8367"/>
                  <a:pt x="15763" y="8326"/>
                  <a:pt x="15701" y="8235"/>
                </a:cubicBezTo>
                <a:cubicBezTo>
                  <a:pt x="15646" y="8154"/>
                  <a:pt x="15580" y="8075"/>
                  <a:pt x="15503" y="8012"/>
                </a:cubicBezTo>
                <a:cubicBezTo>
                  <a:pt x="15396" y="7924"/>
                  <a:pt x="15336" y="7913"/>
                  <a:pt x="15205" y="7913"/>
                </a:cubicBezTo>
                <a:cubicBezTo>
                  <a:pt x="15070" y="7913"/>
                  <a:pt x="15031" y="7955"/>
                  <a:pt x="14957" y="8062"/>
                </a:cubicBezTo>
                <a:cubicBezTo>
                  <a:pt x="14887" y="8164"/>
                  <a:pt x="14883" y="8213"/>
                  <a:pt x="14883" y="8334"/>
                </a:cubicBezTo>
                <a:cubicBezTo>
                  <a:pt x="14883" y="8392"/>
                  <a:pt x="14866" y="8417"/>
                  <a:pt x="14908" y="840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d the sum</a:t>
            </a:r>
            <a:endParaRPr b="0" lang="en-US" sz="4400" spc="-1" strike="noStrike">
              <a:solidFill>
                <a:srgbClr val="e3ebf1"/>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3+0.03+0.003+…</a:t>
            </a:r>
            <a:endParaRPr b="0" lang="en-US" sz="3200" spc="-1" strike="noStrike">
              <a:solidFill>
                <a:srgbClr val="ffffff"/>
              </a:solidFill>
              <a:latin typeface="Arial"/>
            </a:endParaRPr>
          </a:p>
        </p:txBody>
      </p:sp>
      <p:sp>
        <p:nvSpPr>
          <p:cNvPr id="154" name=""/>
          <p:cNvSpPr/>
          <p:nvPr/>
        </p:nvSpPr>
        <p:spPr>
          <a:xfrm>
            <a:off x="1044720" y="2419200"/>
            <a:ext cx="3046320" cy="1332000"/>
          </a:xfrm>
          <a:custGeom>
            <a:avLst/>
            <a:gdLst/>
            <a:ahLst/>
            <a:rect l="l" t="t" r="r" b="b"/>
            <a:pathLst>
              <a:path w="8460" h="3697">
                <a:moveTo>
                  <a:pt x="4217" y="6995"/>
                </a:moveTo>
                <a:cubicBezTo>
                  <a:pt x="4211" y="6945"/>
                  <a:pt x="4211" y="6939"/>
                  <a:pt x="4192" y="6896"/>
                </a:cubicBezTo>
                <a:cubicBezTo>
                  <a:pt x="4158" y="6821"/>
                  <a:pt x="4114" y="6808"/>
                  <a:pt x="4043" y="6772"/>
                </a:cubicBezTo>
                <a:cubicBezTo>
                  <a:pt x="3948" y="6724"/>
                  <a:pt x="3875" y="6722"/>
                  <a:pt x="3770" y="6722"/>
                </a:cubicBezTo>
                <a:cubicBezTo>
                  <a:pt x="3628" y="6722"/>
                  <a:pt x="3472" y="6801"/>
                  <a:pt x="3349" y="6871"/>
                </a:cubicBezTo>
                <a:cubicBezTo>
                  <a:pt x="3254" y="6925"/>
                  <a:pt x="3159" y="6998"/>
                  <a:pt x="3076" y="7069"/>
                </a:cubicBezTo>
                <a:cubicBezTo>
                  <a:pt x="3016" y="7120"/>
                  <a:pt x="2945" y="7240"/>
                  <a:pt x="2927" y="7317"/>
                </a:cubicBezTo>
                <a:cubicBezTo>
                  <a:pt x="2914" y="7373"/>
                  <a:pt x="2895" y="7464"/>
                  <a:pt x="2927" y="7516"/>
                </a:cubicBezTo>
                <a:cubicBezTo>
                  <a:pt x="2972" y="7589"/>
                  <a:pt x="3046" y="7674"/>
                  <a:pt x="3125" y="7714"/>
                </a:cubicBezTo>
                <a:cubicBezTo>
                  <a:pt x="3283" y="7792"/>
                  <a:pt x="3440" y="7878"/>
                  <a:pt x="3597" y="7962"/>
                </a:cubicBezTo>
                <a:cubicBezTo>
                  <a:pt x="3697" y="8016"/>
                  <a:pt x="3876" y="8119"/>
                  <a:pt x="3944" y="8210"/>
                </a:cubicBezTo>
                <a:cubicBezTo>
                  <a:pt x="3977" y="8254"/>
                  <a:pt x="4014" y="8380"/>
                  <a:pt x="3994" y="8434"/>
                </a:cubicBezTo>
                <a:cubicBezTo>
                  <a:pt x="3964" y="8513"/>
                  <a:pt x="3812" y="8554"/>
                  <a:pt x="3746" y="8558"/>
                </a:cubicBezTo>
                <a:cubicBezTo>
                  <a:pt x="3564" y="8569"/>
                  <a:pt x="3417" y="8541"/>
                  <a:pt x="3249" y="8508"/>
                </a:cubicBezTo>
                <a:cubicBezTo>
                  <a:pt x="3181" y="8495"/>
                  <a:pt x="2978" y="8497"/>
                  <a:pt x="2977" y="8359"/>
                </a:cubicBezTo>
                <a:cubicBezTo>
                  <a:pt x="2977" y="8323"/>
                  <a:pt x="3009" y="8294"/>
                  <a:pt x="3026" y="8260"/>
                </a:cubicBezTo>
              </a:path>
              <a:path w="8460" h="3697">
                <a:moveTo>
                  <a:pt x="4366" y="8062"/>
                </a:moveTo>
                <a:cubicBezTo>
                  <a:pt x="4453" y="8077"/>
                  <a:pt x="4579" y="8064"/>
                  <a:pt x="4663" y="8086"/>
                </a:cubicBezTo>
                <a:cubicBezTo>
                  <a:pt x="4680" y="8094"/>
                  <a:pt x="4696" y="8103"/>
                  <a:pt x="4713" y="8111"/>
                </a:cubicBezTo>
              </a:path>
              <a:path w="8460" h="3697">
                <a:moveTo>
                  <a:pt x="4341" y="8334"/>
                </a:moveTo>
                <a:cubicBezTo>
                  <a:pt x="4415" y="8334"/>
                  <a:pt x="4490" y="8334"/>
                  <a:pt x="4564" y="8334"/>
                </a:cubicBezTo>
              </a:path>
              <a:path w="8460" h="3697">
                <a:moveTo>
                  <a:pt x="5978" y="7764"/>
                </a:moveTo>
                <a:cubicBezTo>
                  <a:pt x="5978" y="7814"/>
                  <a:pt x="5978" y="7907"/>
                  <a:pt x="5978" y="7813"/>
                </a:cubicBezTo>
                <a:cubicBezTo>
                  <a:pt x="5996" y="7760"/>
                  <a:pt x="6001" y="7756"/>
                  <a:pt x="5978" y="7689"/>
                </a:cubicBezTo>
                <a:cubicBezTo>
                  <a:pt x="5960" y="7635"/>
                  <a:pt x="5956" y="7553"/>
                  <a:pt x="5904" y="7516"/>
                </a:cubicBezTo>
                <a:cubicBezTo>
                  <a:pt x="5848" y="7476"/>
                  <a:pt x="5821" y="7469"/>
                  <a:pt x="5755" y="7466"/>
                </a:cubicBezTo>
                <a:cubicBezTo>
                  <a:pt x="5670" y="7462"/>
                  <a:pt x="5591" y="7511"/>
                  <a:pt x="5531" y="7565"/>
                </a:cubicBezTo>
                <a:cubicBezTo>
                  <a:pt x="5467" y="7623"/>
                  <a:pt x="5410" y="7732"/>
                  <a:pt x="5383" y="7813"/>
                </a:cubicBezTo>
                <a:cubicBezTo>
                  <a:pt x="5333" y="7968"/>
                  <a:pt x="5308" y="8076"/>
                  <a:pt x="5308" y="8235"/>
                </a:cubicBezTo>
                <a:cubicBezTo>
                  <a:pt x="5308" y="8307"/>
                  <a:pt x="5328" y="8374"/>
                  <a:pt x="5358" y="8434"/>
                </a:cubicBezTo>
                <a:cubicBezTo>
                  <a:pt x="5396" y="8508"/>
                  <a:pt x="5454" y="8483"/>
                  <a:pt x="5531" y="8483"/>
                </a:cubicBezTo>
                <a:cubicBezTo>
                  <a:pt x="5635" y="8483"/>
                  <a:pt x="5661" y="8392"/>
                  <a:pt x="5730" y="8334"/>
                </a:cubicBezTo>
                <a:cubicBezTo>
                  <a:pt x="5791" y="8284"/>
                  <a:pt x="5822" y="8216"/>
                  <a:pt x="5854" y="8136"/>
                </a:cubicBezTo>
                <a:cubicBezTo>
                  <a:pt x="5866" y="8107"/>
                  <a:pt x="5907" y="7960"/>
                  <a:pt x="5904" y="7938"/>
                </a:cubicBezTo>
                <a:cubicBezTo>
                  <a:pt x="5904" y="7910"/>
                  <a:pt x="5902" y="7899"/>
                  <a:pt x="5879" y="7888"/>
                </a:cubicBezTo>
                <a:cubicBezTo>
                  <a:pt x="5879" y="7921"/>
                  <a:pt x="5879" y="7905"/>
                  <a:pt x="5879" y="7938"/>
                </a:cubicBezTo>
                <a:cubicBezTo>
                  <a:pt x="5879" y="8052"/>
                  <a:pt x="5889" y="8150"/>
                  <a:pt x="5904" y="8260"/>
                </a:cubicBezTo>
                <a:cubicBezTo>
                  <a:pt x="5914" y="8330"/>
                  <a:pt x="5969" y="8441"/>
                  <a:pt x="6028" y="8483"/>
                </a:cubicBezTo>
                <a:cubicBezTo>
                  <a:pt x="6055" y="8502"/>
                  <a:pt x="6139" y="8519"/>
                  <a:pt x="6176" y="8508"/>
                </a:cubicBezTo>
                <a:cubicBezTo>
                  <a:pt x="6184" y="8500"/>
                  <a:pt x="6193" y="8491"/>
                  <a:pt x="6201" y="8483"/>
                </a:cubicBezTo>
              </a:path>
              <a:path w="8460" h="3697">
                <a:moveTo>
                  <a:pt x="6424" y="8359"/>
                </a:moveTo>
                <a:cubicBezTo>
                  <a:pt x="6424" y="8456"/>
                  <a:pt x="6407" y="8575"/>
                  <a:pt x="6449" y="8657"/>
                </a:cubicBezTo>
                <a:cubicBezTo>
                  <a:pt x="6469" y="8697"/>
                  <a:pt x="6478" y="8703"/>
                  <a:pt x="6474" y="8731"/>
                </a:cubicBezTo>
              </a:path>
              <a:path w="8460" h="3697">
                <a:moveTo>
                  <a:pt x="5035" y="8781"/>
                </a:moveTo>
                <a:cubicBezTo>
                  <a:pt x="5611" y="8781"/>
                  <a:pt x="6256" y="8699"/>
                  <a:pt x="6821" y="8806"/>
                </a:cubicBezTo>
                <a:cubicBezTo>
                  <a:pt x="6929" y="8826"/>
                  <a:pt x="6985" y="8855"/>
                  <a:pt x="7094" y="8855"/>
                </a:cubicBezTo>
                <a:cubicBezTo>
                  <a:pt x="7086" y="8855"/>
                  <a:pt x="7077" y="8855"/>
                  <a:pt x="7069" y="8855"/>
                </a:cubicBezTo>
              </a:path>
              <a:path w="8460" h="3697">
                <a:moveTo>
                  <a:pt x="5308" y="9153"/>
                </a:moveTo>
                <a:cubicBezTo>
                  <a:pt x="5308" y="9451"/>
                  <a:pt x="5297" y="9757"/>
                  <a:pt x="5333" y="10046"/>
                </a:cubicBezTo>
                <a:cubicBezTo>
                  <a:pt x="5342" y="10118"/>
                  <a:pt x="5308" y="10236"/>
                  <a:pt x="5358" y="10269"/>
                </a:cubicBezTo>
              </a:path>
              <a:path w="8460" h="3697">
                <a:moveTo>
                  <a:pt x="5581" y="9674"/>
                </a:moveTo>
                <a:cubicBezTo>
                  <a:pt x="5705" y="9674"/>
                  <a:pt x="5829" y="9674"/>
                  <a:pt x="5953" y="9674"/>
                </a:cubicBezTo>
              </a:path>
              <a:path w="8460" h="3697">
                <a:moveTo>
                  <a:pt x="6400" y="9823"/>
                </a:moveTo>
                <a:cubicBezTo>
                  <a:pt x="6400" y="9962"/>
                  <a:pt x="6402" y="10064"/>
                  <a:pt x="6424" y="10195"/>
                </a:cubicBezTo>
                <a:cubicBezTo>
                  <a:pt x="6429" y="10227"/>
                  <a:pt x="6424" y="10262"/>
                  <a:pt x="6424" y="10294"/>
                </a:cubicBezTo>
                <a:cubicBezTo>
                  <a:pt x="6424" y="10125"/>
                  <a:pt x="6389" y="9895"/>
                  <a:pt x="6449" y="9748"/>
                </a:cubicBezTo>
                <a:cubicBezTo>
                  <a:pt x="6487" y="9655"/>
                  <a:pt x="6540" y="9606"/>
                  <a:pt x="6623" y="9550"/>
                </a:cubicBezTo>
                <a:cubicBezTo>
                  <a:pt x="6698" y="9500"/>
                  <a:pt x="6792" y="9500"/>
                  <a:pt x="6871" y="9475"/>
                </a:cubicBezTo>
                <a:cubicBezTo>
                  <a:pt x="6927" y="9448"/>
                  <a:pt x="6949" y="9440"/>
                  <a:pt x="6995" y="9451"/>
                </a:cubicBezTo>
              </a:path>
              <a:path w="8460" h="3697">
                <a:moveTo>
                  <a:pt x="7665" y="8706"/>
                </a:moveTo>
                <a:cubicBezTo>
                  <a:pt x="7772" y="8706"/>
                  <a:pt x="7880" y="8706"/>
                  <a:pt x="7987" y="8706"/>
                </a:cubicBezTo>
              </a:path>
              <a:path w="8460" h="3697">
                <a:moveTo>
                  <a:pt x="7739" y="8930"/>
                </a:moveTo>
                <a:cubicBezTo>
                  <a:pt x="7871" y="8930"/>
                  <a:pt x="8004" y="8930"/>
                  <a:pt x="8136" y="8930"/>
                </a:cubicBezTo>
              </a:path>
              <a:path w="8460" h="3697">
                <a:moveTo>
                  <a:pt x="8582" y="8657"/>
                </a:moveTo>
                <a:cubicBezTo>
                  <a:pt x="8659" y="8698"/>
                  <a:pt x="8684" y="8706"/>
                  <a:pt x="8781" y="8706"/>
                </a:cubicBezTo>
                <a:cubicBezTo>
                  <a:pt x="9328" y="8706"/>
                  <a:pt x="9873" y="8707"/>
                  <a:pt x="10418" y="8731"/>
                </a:cubicBezTo>
                <a:cubicBezTo>
                  <a:pt x="10631" y="8740"/>
                  <a:pt x="10823" y="8781"/>
                  <a:pt x="11038" y="8781"/>
                </a:cubicBezTo>
                <a:cubicBezTo>
                  <a:pt x="11134" y="8781"/>
                  <a:pt x="11319" y="8824"/>
                  <a:pt x="11336" y="8731"/>
                </a:cubicBezTo>
                <a:cubicBezTo>
                  <a:pt x="11341" y="8703"/>
                  <a:pt x="11341" y="8656"/>
                  <a:pt x="11261" y="8632"/>
                </a:cubicBezTo>
                <a:cubicBezTo>
                  <a:pt x="11198" y="8632"/>
                  <a:pt x="11171" y="8624"/>
                  <a:pt x="11137" y="8582"/>
                </a:cubicBezTo>
              </a:path>
              <a:path w="8460" h="3697">
                <a:moveTo>
                  <a:pt x="9401" y="7417"/>
                </a:moveTo>
                <a:cubicBezTo>
                  <a:pt x="9425" y="7375"/>
                  <a:pt x="9439" y="7369"/>
                  <a:pt x="9475" y="7342"/>
                </a:cubicBezTo>
                <a:cubicBezTo>
                  <a:pt x="9552" y="7284"/>
                  <a:pt x="9608" y="7285"/>
                  <a:pt x="9699" y="7268"/>
                </a:cubicBezTo>
                <a:cubicBezTo>
                  <a:pt x="9810" y="7247"/>
                  <a:pt x="9911" y="7254"/>
                  <a:pt x="10021" y="7293"/>
                </a:cubicBezTo>
                <a:cubicBezTo>
                  <a:pt x="10117" y="7327"/>
                  <a:pt x="10092" y="7370"/>
                  <a:pt x="10071" y="7441"/>
                </a:cubicBezTo>
                <a:cubicBezTo>
                  <a:pt x="10034" y="7567"/>
                  <a:pt x="9965" y="7574"/>
                  <a:pt x="9872" y="7640"/>
                </a:cubicBezTo>
                <a:cubicBezTo>
                  <a:pt x="9780" y="7706"/>
                  <a:pt x="9669" y="7724"/>
                  <a:pt x="9575" y="7789"/>
                </a:cubicBezTo>
                <a:cubicBezTo>
                  <a:pt x="9552" y="7811"/>
                  <a:pt x="9547" y="7819"/>
                  <a:pt x="9525" y="7813"/>
                </a:cubicBezTo>
                <a:cubicBezTo>
                  <a:pt x="9606" y="7813"/>
                  <a:pt x="9669" y="7814"/>
                  <a:pt x="9748" y="7838"/>
                </a:cubicBezTo>
                <a:cubicBezTo>
                  <a:pt x="9853" y="7870"/>
                  <a:pt x="9934" y="7901"/>
                  <a:pt x="10021" y="7962"/>
                </a:cubicBezTo>
                <a:cubicBezTo>
                  <a:pt x="10090" y="8011"/>
                  <a:pt x="10194" y="8044"/>
                  <a:pt x="10220" y="8136"/>
                </a:cubicBezTo>
                <a:cubicBezTo>
                  <a:pt x="10236" y="8193"/>
                  <a:pt x="10191" y="8216"/>
                  <a:pt x="10145" y="8235"/>
                </a:cubicBezTo>
                <a:cubicBezTo>
                  <a:pt x="10062" y="8269"/>
                  <a:pt x="9961" y="8282"/>
                  <a:pt x="9872" y="8285"/>
                </a:cubicBezTo>
                <a:cubicBezTo>
                  <a:pt x="9781" y="8288"/>
                  <a:pt x="9686" y="8283"/>
                  <a:pt x="9599" y="8310"/>
                </a:cubicBezTo>
                <a:cubicBezTo>
                  <a:pt x="9544" y="8327"/>
                  <a:pt x="9510" y="8330"/>
                  <a:pt x="9451" y="8334"/>
                </a:cubicBezTo>
              </a:path>
              <a:path w="8460" h="3697">
                <a:moveTo>
                  <a:pt x="8706" y="9079"/>
                </a:moveTo>
                <a:cubicBezTo>
                  <a:pt x="8706" y="9164"/>
                  <a:pt x="8724" y="9258"/>
                  <a:pt x="8731" y="9327"/>
                </a:cubicBezTo>
                <a:cubicBezTo>
                  <a:pt x="8743" y="9445"/>
                  <a:pt x="8770" y="9557"/>
                  <a:pt x="8781" y="9674"/>
                </a:cubicBezTo>
                <a:cubicBezTo>
                  <a:pt x="8792" y="9798"/>
                  <a:pt x="8801" y="9924"/>
                  <a:pt x="8806" y="10046"/>
                </a:cubicBezTo>
                <a:cubicBezTo>
                  <a:pt x="8810" y="10158"/>
                  <a:pt x="8799" y="10272"/>
                  <a:pt x="8781" y="10368"/>
                </a:cubicBezTo>
                <a:cubicBezTo>
                  <a:pt x="8781" y="10418"/>
                  <a:pt x="8781" y="10435"/>
                  <a:pt x="8781" y="10368"/>
                </a:cubicBezTo>
              </a:path>
              <a:path w="8460" h="3697">
                <a:moveTo>
                  <a:pt x="9079" y="9847"/>
                </a:moveTo>
                <a:cubicBezTo>
                  <a:pt x="9306" y="9847"/>
                  <a:pt x="9619" y="9897"/>
                  <a:pt x="9823" y="982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23960" y="4241880"/>
            <a:ext cx="1643040" cy="938160"/>
          </a:xfrm>
          <a:custGeom>
            <a:avLst/>
            <a:gdLst/>
            <a:ahLst/>
            <a:rect l="l" t="t" r="r" b="b"/>
            <a:pathLst>
              <a:path w="4565" h="2606">
                <a:moveTo>
                  <a:pt x="2009" y="12204"/>
                </a:moveTo>
                <a:cubicBezTo>
                  <a:pt x="2020" y="12259"/>
                  <a:pt x="2009" y="12403"/>
                  <a:pt x="2034" y="12452"/>
                </a:cubicBezTo>
                <a:cubicBezTo>
                  <a:pt x="2042" y="12460"/>
                  <a:pt x="2051" y="12469"/>
                  <a:pt x="2059" y="12477"/>
                </a:cubicBezTo>
                <a:cubicBezTo>
                  <a:pt x="2059" y="12558"/>
                  <a:pt x="2059" y="12381"/>
                  <a:pt x="2059" y="12378"/>
                </a:cubicBezTo>
                <a:cubicBezTo>
                  <a:pt x="2059" y="12275"/>
                  <a:pt x="2044" y="12233"/>
                  <a:pt x="2059" y="12129"/>
                </a:cubicBezTo>
                <a:cubicBezTo>
                  <a:pt x="2069" y="12061"/>
                  <a:pt x="2063" y="11995"/>
                  <a:pt x="2084" y="11931"/>
                </a:cubicBezTo>
                <a:cubicBezTo>
                  <a:pt x="2104" y="11869"/>
                  <a:pt x="2169" y="11803"/>
                  <a:pt x="2232" y="11782"/>
                </a:cubicBezTo>
                <a:cubicBezTo>
                  <a:pt x="2300" y="11759"/>
                  <a:pt x="2407" y="11782"/>
                  <a:pt x="2480" y="11782"/>
                </a:cubicBezTo>
              </a:path>
              <a:path w="4565" h="2606">
                <a:moveTo>
                  <a:pt x="2580" y="12105"/>
                </a:moveTo>
                <a:cubicBezTo>
                  <a:pt x="2653" y="12105"/>
                  <a:pt x="2708" y="12125"/>
                  <a:pt x="2778" y="12129"/>
                </a:cubicBezTo>
                <a:cubicBezTo>
                  <a:pt x="2820" y="12129"/>
                  <a:pt x="2828" y="12129"/>
                  <a:pt x="2853" y="12129"/>
                </a:cubicBezTo>
              </a:path>
              <a:path w="4565" h="2606">
                <a:moveTo>
                  <a:pt x="2604" y="12353"/>
                </a:moveTo>
                <a:cubicBezTo>
                  <a:pt x="2701" y="12380"/>
                  <a:pt x="2775" y="12378"/>
                  <a:pt x="2877" y="12378"/>
                </a:cubicBezTo>
              </a:path>
              <a:path w="4565" h="2606">
                <a:moveTo>
                  <a:pt x="3597" y="11881"/>
                </a:moveTo>
                <a:cubicBezTo>
                  <a:pt x="3570" y="11917"/>
                  <a:pt x="3533" y="11982"/>
                  <a:pt x="3522" y="12030"/>
                </a:cubicBezTo>
                <a:cubicBezTo>
                  <a:pt x="3506" y="12102"/>
                  <a:pt x="3460" y="12181"/>
                  <a:pt x="3448" y="12254"/>
                </a:cubicBezTo>
                <a:cubicBezTo>
                  <a:pt x="3434" y="12340"/>
                  <a:pt x="3441" y="12448"/>
                  <a:pt x="3473" y="12526"/>
                </a:cubicBezTo>
                <a:cubicBezTo>
                  <a:pt x="3502" y="12597"/>
                  <a:pt x="3540" y="12678"/>
                  <a:pt x="3621" y="12700"/>
                </a:cubicBezTo>
                <a:cubicBezTo>
                  <a:pt x="3674" y="12715"/>
                  <a:pt x="3775" y="12707"/>
                  <a:pt x="3820" y="12675"/>
                </a:cubicBezTo>
                <a:cubicBezTo>
                  <a:pt x="3912" y="12610"/>
                  <a:pt x="3932" y="12479"/>
                  <a:pt x="3944" y="12378"/>
                </a:cubicBezTo>
                <a:cubicBezTo>
                  <a:pt x="3958" y="12255"/>
                  <a:pt x="3900" y="12157"/>
                  <a:pt x="3845" y="12055"/>
                </a:cubicBezTo>
                <a:cubicBezTo>
                  <a:pt x="3800" y="11973"/>
                  <a:pt x="3749" y="11888"/>
                  <a:pt x="3671" y="11832"/>
                </a:cubicBezTo>
                <a:cubicBezTo>
                  <a:pt x="3633" y="11805"/>
                  <a:pt x="3546" y="11757"/>
                  <a:pt x="3497" y="11782"/>
                </a:cubicBezTo>
                <a:cubicBezTo>
                  <a:pt x="3454" y="11804"/>
                  <a:pt x="3473" y="11891"/>
                  <a:pt x="3473" y="11931"/>
                </a:cubicBezTo>
              </a:path>
              <a:path w="4565" h="2606">
                <a:moveTo>
                  <a:pt x="4093" y="12750"/>
                </a:moveTo>
                <a:cubicBezTo>
                  <a:pt x="4093" y="12813"/>
                  <a:pt x="4136" y="12751"/>
                  <a:pt x="4142" y="12725"/>
                </a:cubicBezTo>
              </a:path>
              <a:path w="4565" h="2606">
                <a:moveTo>
                  <a:pt x="4217" y="11956"/>
                </a:moveTo>
                <a:cubicBezTo>
                  <a:pt x="4250" y="11879"/>
                  <a:pt x="4232" y="11881"/>
                  <a:pt x="4316" y="11881"/>
                </a:cubicBezTo>
                <a:cubicBezTo>
                  <a:pt x="4385" y="11881"/>
                  <a:pt x="4449" y="11873"/>
                  <a:pt x="4514" y="11906"/>
                </a:cubicBezTo>
                <a:cubicBezTo>
                  <a:pt x="4586" y="11942"/>
                  <a:pt x="4625" y="11998"/>
                  <a:pt x="4638" y="12080"/>
                </a:cubicBezTo>
                <a:cubicBezTo>
                  <a:pt x="4644" y="12114"/>
                  <a:pt x="4589" y="12207"/>
                  <a:pt x="4564" y="12229"/>
                </a:cubicBezTo>
                <a:cubicBezTo>
                  <a:pt x="4524" y="12263"/>
                  <a:pt x="4455" y="12254"/>
                  <a:pt x="4415" y="12278"/>
                </a:cubicBezTo>
                <a:cubicBezTo>
                  <a:pt x="4365" y="12308"/>
                  <a:pt x="4359" y="12303"/>
                  <a:pt x="4415" y="12303"/>
                </a:cubicBezTo>
                <a:cubicBezTo>
                  <a:pt x="4480" y="12303"/>
                  <a:pt x="4504" y="12313"/>
                  <a:pt x="4564" y="12328"/>
                </a:cubicBezTo>
                <a:cubicBezTo>
                  <a:pt x="4651" y="12350"/>
                  <a:pt x="4654" y="12400"/>
                  <a:pt x="4713" y="12452"/>
                </a:cubicBezTo>
                <a:cubicBezTo>
                  <a:pt x="4776" y="12507"/>
                  <a:pt x="4787" y="12511"/>
                  <a:pt x="4787" y="12601"/>
                </a:cubicBezTo>
                <a:cubicBezTo>
                  <a:pt x="4787" y="12665"/>
                  <a:pt x="4734" y="12665"/>
                  <a:pt x="4688" y="12675"/>
                </a:cubicBezTo>
                <a:cubicBezTo>
                  <a:pt x="4571" y="12701"/>
                  <a:pt x="4571" y="12683"/>
                  <a:pt x="4465" y="12675"/>
                </a:cubicBezTo>
                <a:cubicBezTo>
                  <a:pt x="4440" y="12673"/>
                  <a:pt x="4415" y="12675"/>
                  <a:pt x="4390" y="12675"/>
                </a:cubicBezTo>
              </a:path>
              <a:path w="4565" h="2606">
                <a:moveTo>
                  <a:pt x="5060" y="13122"/>
                </a:moveTo>
                <a:cubicBezTo>
                  <a:pt x="5019" y="13116"/>
                  <a:pt x="4999" y="13103"/>
                  <a:pt x="4961" y="13097"/>
                </a:cubicBezTo>
                <a:cubicBezTo>
                  <a:pt x="4905" y="13088"/>
                  <a:pt x="4841" y="13088"/>
                  <a:pt x="4787" y="13072"/>
                </a:cubicBezTo>
                <a:cubicBezTo>
                  <a:pt x="4698" y="13046"/>
                  <a:pt x="4607" y="13024"/>
                  <a:pt x="4514" y="12998"/>
                </a:cubicBezTo>
                <a:cubicBezTo>
                  <a:pt x="4379" y="12960"/>
                  <a:pt x="4209" y="12938"/>
                  <a:pt x="4068" y="12923"/>
                </a:cubicBezTo>
                <a:cubicBezTo>
                  <a:pt x="3928" y="12908"/>
                  <a:pt x="3786" y="12887"/>
                  <a:pt x="3646" y="12874"/>
                </a:cubicBezTo>
                <a:cubicBezTo>
                  <a:pt x="3551" y="12865"/>
                  <a:pt x="3465" y="12862"/>
                  <a:pt x="3373" y="12849"/>
                </a:cubicBezTo>
                <a:cubicBezTo>
                  <a:pt x="3313" y="12840"/>
                  <a:pt x="3325" y="12868"/>
                  <a:pt x="3299" y="12898"/>
                </a:cubicBezTo>
                <a:cubicBezTo>
                  <a:pt x="3332" y="12898"/>
                  <a:pt x="3348" y="12898"/>
                  <a:pt x="3373" y="12898"/>
                </a:cubicBezTo>
              </a:path>
              <a:path w="4565" h="2606">
                <a:moveTo>
                  <a:pt x="4043" y="13246"/>
                </a:moveTo>
                <a:cubicBezTo>
                  <a:pt x="4101" y="13246"/>
                  <a:pt x="4146" y="13262"/>
                  <a:pt x="4192" y="13271"/>
                </a:cubicBezTo>
                <a:cubicBezTo>
                  <a:pt x="4285" y="13290"/>
                  <a:pt x="4312" y="13318"/>
                  <a:pt x="4390" y="13370"/>
                </a:cubicBezTo>
                <a:cubicBezTo>
                  <a:pt x="4428" y="13396"/>
                  <a:pt x="4524" y="13442"/>
                  <a:pt x="4539" y="13494"/>
                </a:cubicBezTo>
                <a:cubicBezTo>
                  <a:pt x="4539" y="13510"/>
                  <a:pt x="4539" y="13527"/>
                  <a:pt x="4539" y="13543"/>
                </a:cubicBezTo>
                <a:cubicBezTo>
                  <a:pt x="4474" y="13580"/>
                  <a:pt x="4382" y="13589"/>
                  <a:pt x="4316" y="13618"/>
                </a:cubicBezTo>
                <a:cubicBezTo>
                  <a:pt x="4273" y="13637"/>
                  <a:pt x="4244" y="13639"/>
                  <a:pt x="4192" y="13643"/>
                </a:cubicBezTo>
                <a:cubicBezTo>
                  <a:pt x="4234" y="13667"/>
                  <a:pt x="4248" y="13653"/>
                  <a:pt x="4291" y="13667"/>
                </a:cubicBezTo>
                <a:cubicBezTo>
                  <a:pt x="4348" y="13686"/>
                  <a:pt x="4410" y="13699"/>
                  <a:pt x="4465" y="13717"/>
                </a:cubicBezTo>
                <a:cubicBezTo>
                  <a:pt x="4535" y="13741"/>
                  <a:pt x="4580" y="13805"/>
                  <a:pt x="4614" y="13866"/>
                </a:cubicBezTo>
                <a:cubicBezTo>
                  <a:pt x="4658" y="13945"/>
                  <a:pt x="4685" y="14026"/>
                  <a:pt x="4688" y="14114"/>
                </a:cubicBezTo>
                <a:cubicBezTo>
                  <a:pt x="4691" y="14197"/>
                  <a:pt x="4696" y="14250"/>
                  <a:pt x="4638" y="14312"/>
                </a:cubicBezTo>
                <a:cubicBezTo>
                  <a:pt x="4571" y="14384"/>
                  <a:pt x="4533" y="14387"/>
                  <a:pt x="4440" y="14387"/>
                </a:cubicBezTo>
                <a:cubicBezTo>
                  <a:pt x="4366" y="14387"/>
                  <a:pt x="4264" y="14347"/>
                  <a:pt x="4217" y="14288"/>
                </a:cubicBezTo>
                <a:cubicBezTo>
                  <a:pt x="4169" y="14229"/>
                  <a:pt x="4167" y="14188"/>
                  <a:pt x="4167" y="14114"/>
                </a:cubicBezTo>
              </a:path>
              <a:path w="4565" h="2606">
                <a:moveTo>
                  <a:pt x="5159" y="12973"/>
                </a:moveTo>
                <a:cubicBezTo>
                  <a:pt x="5239" y="12973"/>
                  <a:pt x="5305" y="12994"/>
                  <a:pt x="5383" y="12998"/>
                </a:cubicBezTo>
                <a:cubicBezTo>
                  <a:pt x="5424" y="12998"/>
                  <a:pt x="5432" y="12998"/>
                  <a:pt x="5457" y="12998"/>
                </a:cubicBezTo>
              </a:path>
              <a:path w="4565" h="2606">
                <a:moveTo>
                  <a:pt x="5283" y="13221"/>
                </a:moveTo>
                <a:cubicBezTo>
                  <a:pt x="5406" y="13282"/>
                  <a:pt x="5428" y="13298"/>
                  <a:pt x="5507" y="13320"/>
                </a:cubicBezTo>
              </a:path>
              <a:path w="4565" h="2606">
                <a:moveTo>
                  <a:pt x="5953" y="13047"/>
                </a:moveTo>
                <a:cubicBezTo>
                  <a:pt x="5953" y="13075"/>
                  <a:pt x="5955" y="13081"/>
                  <a:pt x="5978" y="13047"/>
                </a:cubicBezTo>
              </a:path>
              <a:path w="4565" h="2606">
                <a:moveTo>
                  <a:pt x="6400" y="12005"/>
                </a:moveTo>
                <a:cubicBezTo>
                  <a:pt x="6400" y="12188"/>
                  <a:pt x="6389" y="12372"/>
                  <a:pt x="6424" y="12551"/>
                </a:cubicBezTo>
                <a:cubicBezTo>
                  <a:pt x="6450" y="12686"/>
                  <a:pt x="6486" y="12816"/>
                  <a:pt x="6524" y="12948"/>
                </a:cubicBezTo>
                <a:cubicBezTo>
                  <a:pt x="6561" y="13076"/>
                  <a:pt x="6573" y="13127"/>
                  <a:pt x="6573" y="1324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3652920" y="3348000"/>
            <a:ext cx="169920" cy="384120"/>
          </a:xfrm>
          <a:custGeom>
            <a:avLst/>
            <a:gdLst/>
            <a:ahLst/>
            <a:rect l="l" t="t" r="r" b="b"/>
            <a:pathLst>
              <a:path w="472" h="1067">
                <a:moveTo>
                  <a:pt x="10145" y="10368"/>
                </a:moveTo>
                <a:cubicBezTo>
                  <a:pt x="10152" y="10334"/>
                  <a:pt x="10163" y="10303"/>
                  <a:pt x="10170" y="10269"/>
                </a:cubicBezTo>
              </a:path>
              <a:path w="472" h="1067">
                <a:moveTo>
                  <a:pt x="10517" y="9302"/>
                </a:moveTo>
                <a:cubicBezTo>
                  <a:pt x="10517" y="9424"/>
                  <a:pt x="10529" y="9509"/>
                  <a:pt x="10542" y="9624"/>
                </a:cubicBezTo>
                <a:cubicBezTo>
                  <a:pt x="10555" y="9738"/>
                  <a:pt x="10563" y="9858"/>
                  <a:pt x="10567" y="9971"/>
                </a:cubicBezTo>
                <a:cubicBezTo>
                  <a:pt x="10570" y="10058"/>
                  <a:pt x="10592" y="10132"/>
                  <a:pt x="10592" y="10220"/>
                </a:cubicBezTo>
                <a:cubicBezTo>
                  <a:pt x="10592" y="10283"/>
                  <a:pt x="10592" y="10285"/>
                  <a:pt x="10616" y="1034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4268880" y="3214800"/>
            <a:ext cx="196920" cy="135000"/>
          </a:xfrm>
          <a:custGeom>
            <a:avLst/>
            <a:gdLst/>
            <a:ahLst/>
            <a:rect l="l" t="t" r="r" b="b"/>
            <a:pathLst>
              <a:path w="546" h="373">
                <a:moveTo>
                  <a:pt x="11857" y="8930"/>
                </a:moveTo>
                <a:cubicBezTo>
                  <a:pt x="11981" y="8930"/>
                  <a:pt x="12105" y="8930"/>
                  <a:pt x="12229" y="8930"/>
                </a:cubicBezTo>
              </a:path>
              <a:path w="546" h="373">
                <a:moveTo>
                  <a:pt x="12030" y="9227"/>
                </a:moveTo>
                <a:cubicBezTo>
                  <a:pt x="12238" y="9317"/>
                  <a:pt x="12187" y="9314"/>
                  <a:pt x="12402" y="925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714920" y="2847960"/>
            <a:ext cx="635040" cy="474840"/>
          </a:xfrm>
          <a:custGeom>
            <a:avLst/>
            <a:gdLst/>
            <a:ahLst/>
            <a:rect l="l" t="t" r="r" b="b"/>
            <a:pathLst>
              <a:path w="1762" h="1315">
                <a:moveTo>
                  <a:pt x="13171" y="8310"/>
                </a:moveTo>
                <a:cubicBezTo>
                  <a:pt x="13155" y="8318"/>
                  <a:pt x="13138" y="8326"/>
                  <a:pt x="13122" y="8334"/>
                </a:cubicBezTo>
                <a:cubicBezTo>
                  <a:pt x="13152" y="8281"/>
                  <a:pt x="13166" y="8276"/>
                  <a:pt x="13221" y="8235"/>
                </a:cubicBezTo>
                <a:cubicBezTo>
                  <a:pt x="13269" y="8199"/>
                  <a:pt x="13316" y="8165"/>
                  <a:pt x="13370" y="8136"/>
                </a:cubicBezTo>
                <a:cubicBezTo>
                  <a:pt x="13441" y="8098"/>
                  <a:pt x="13459" y="8086"/>
                  <a:pt x="13543" y="8086"/>
                </a:cubicBezTo>
                <a:cubicBezTo>
                  <a:pt x="13629" y="8086"/>
                  <a:pt x="13638" y="8095"/>
                  <a:pt x="13643" y="8186"/>
                </a:cubicBezTo>
                <a:cubicBezTo>
                  <a:pt x="13647" y="8259"/>
                  <a:pt x="13562" y="8366"/>
                  <a:pt x="13519" y="8409"/>
                </a:cubicBezTo>
                <a:cubicBezTo>
                  <a:pt x="13468" y="8460"/>
                  <a:pt x="13368" y="8518"/>
                  <a:pt x="13320" y="8558"/>
                </a:cubicBezTo>
                <a:cubicBezTo>
                  <a:pt x="13269" y="8600"/>
                  <a:pt x="13291" y="8569"/>
                  <a:pt x="13246" y="8632"/>
                </a:cubicBezTo>
                <a:cubicBezTo>
                  <a:pt x="13263" y="8572"/>
                  <a:pt x="13255" y="8577"/>
                  <a:pt x="13320" y="8558"/>
                </a:cubicBezTo>
                <a:cubicBezTo>
                  <a:pt x="13367" y="8544"/>
                  <a:pt x="13462" y="8554"/>
                  <a:pt x="13494" y="8582"/>
                </a:cubicBezTo>
                <a:cubicBezTo>
                  <a:pt x="13576" y="8653"/>
                  <a:pt x="13607" y="8675"/>
                  <a:pt x="13643" y="8781"/>
                </a:cubicBezTo>
                <a:cubicBezTo>
                  <a:pt x="13674" y="8872"/>
                  <a:pt x="13685" y="8953"/>
                  <a:pt x="13618" y="9029"/>
                </a:cubicBezTo>
                <a:cubicBezTo>
                  <a:pt x="13578" y="9075"/>
                  <a:pt x="13479" y="9165"/>
                  <a:pt x="13419" y="9178"/>
                </a:cubicBezTo>
                <a:cubicBezTo>
                  <a:pt x="13297" y="9205"/>
                  <a:pt x="13284" y="9243"/>
                  <a:pt x="13171" y="9178"/>
                </a:cubicBezTo>
                <a:cubicBezTo>
                  <a:pt x="13127" y="9152"/>
                  <a:pt x="13087" y="9174"/>
                  <a:pt x="13097" y="9103"/>
                </a:cubicBezTo>
                <a:cubicBezTo>
                  <a:pt x="13097" y="9068"/>
                  <a:pt x="13102" y="9051"/>
                  <a:pt x="13122" y="9029"/>
                </a:cubicBezTo>
              </a:path>
              <a:path w="1762" h="1315">
                <a:moveTo>
                  <a:pt x="13891" y="9153"/>
                </a:moveTo>
                <a:cubicBezTo>
                  <a:pt x="13891" y="9186"/>
                  <a:pt x="13891" y="9202"/>
                  <a:pt x="13891" y="9227"/>
                </a:cubicBezTo>
                <a:cubicBezTo>
                  <a:pt x="13900" y="9173"/>
                  <a:pt x="13897" y="9167"/>
                  <a:pt x="13940" y="9153"/>
                </a:cubicBezTo>
              </a:path>
              <a:path w="1762" h="1315">
                <a:moveTo>
                  <a:pt x="14163" y="8409"/>
                </a:moveTo>
                <a:cubicBezTo>
                  <a:pt x="14205" y="8369"/>
                  <a:pt x="14328" y="8225"/>
                  <a:pt x="14412" y="8210"/>
                </a:cubicBezTo>
                <a:cubicBezTo>
                  <a:pt x="14469" y="8200"/>
                  <a:pt x="14567" y="8198"/>
                  <a:pt x="14610" y="8235"/>
                </a:cubicBezTo>
                <a:cubicBezTo>
                  <a:pt x="14670" y="8288"/>
                  <a:pt x="14705" y="8323"/>
                  <a:pt x="14684" y="8409"/>
                </a:cubicBezTo>
                <a:cubicBezTo>
                  <a:pt x="14668" y="8475"/>
                  <a:pt x="14587" y="8497"/>
                  <a:pt x="14560" y="8558"/>
                </a:cubicBezTo>
                <a:cubicBezTo>
                  <a:pt x="14544" y="8594"/>
                  <a:pt x="14479" y="8685"/>
                  <a:pt x="14436" y="8706"/>
                </a:cubicBezTo>
                <a:cubicBezTo>
                  <a:pt x="14395" y="8727"/>
                  <a:pt x="14404" y="8681"/>
                  <a:pt x="14387" y="8731"/>
                </a:cubicBezTo>
                <a:cubicBezTo>
                  <a:pt x="14459" y="8804"/>
                  <a:pt x="14392" y="8731"/>
                  <a:pt x="14486" y="8731"/>
                </a:cubicBezTo>
                <a:cubicBezTo>
                  <a:pt x="14598" y="8731"/>
                  <a:pt x="14568" y="8752"/>
                  <a:pt x="14635" y="8781"/>
                </a:cubicBezTo>
                <a:cubicBezTo>
                  <a:pt x="14669" y="8796"/>
                  <a:pt x="14750" y="8817"/>
                  <a:pt x="14759" y="8855"/>
                </a:cubicBezTo>
                <a:cubicBezTo>
                  <a:pt x="14777" y="8930"/>
                  <a:pt x="14798" y="9002"/>
                  <a:pt x="14759" y="9079"/>
                </a:cubicBezTo>
                <a:cubicBezTo>
                  <a:pt x="14742" y="9113"/>
                  <a:pt x="14681" y="9208"/>
                  <a:pt x="14635" y="9227"/>
                </a:cubicBezTo>
                <a:cubicBezTo>
                  <a:pt x="14491" y="9286"/>
                  <a:pt x="14361" y="9197"/>
                  <a:pt x="14288" y="9153"/>
                </a:cubicBezTo>
                <a:cubicBezTo>
                  <a:pt x="14271" y="9153"/>
                  <a:pt x="14255" y="9153"/>
                  <a:pt x="14238" y="9153"/>
                </a:cubicBezTo>
              </a:path>
              <a:path w="1762" h="1315">
                <a:moveTo>
                  <a:pt x="14039" y="7962"/>
                </a:moveTo>
                <a:cubicBezTo>
                  <a:pt x="14142" y="7941"/>
                  <a:pt x="14236" y="7956"/>
                  <a:pt x="14337" y="7938"/>
                </a:cubicBezTo>
                <a:cubicBezTo>
                  <a:pt x="14444" y="7919"/>
                  <a:pt x="14544" y="7938"/>
                  <a:pt x="14660" y="7938"/>
                </a:cubicBezTo>
                <a:cubicBezTo>
                  <a:pt x="14726" y="7938"/>
                  <a:pt x="14792" y="7938"/>
                  <a:pt x="14858" y="79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A deposit of $50 is made on the first day of each month in a savings account that pays 6% compounded monthly.  What is the balance of this annuity at the end of 2 years?</a:t>
            </a:r>
            <a:endParaRPr b="0" lang="en-US" sz="2000" spc="-1" strike="noStrike">
              <a:solidFill>
                <a:srgbClr val="e3ebf1"/>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1" name="" descr=""/>
          <p:cNvPicPr/>
          <p:nvPr/>
        </p:nvPicPr>
        <p:blipFill>
          <a:blip r:embed="rId1"/>
          <a:stretch/>
        </p:blipFill>
        <p:spPr>
          <a:xfrm>
            <a:off x="6477120" y="3886200"/>
            <a:ext cx="2209680" cy="2209680"/>
          </a:xfrm>
          <a:prstGeom prst="rect">
            <a:avLst/>
          </a:prstGeom>
          <a:ln w="0">
            <a:noFill/>
          </a:ln>
        </p:spPr>
      </p:pic>
      <p:sp>
        <p:nvSpPr>
          <p:cNvPr id="162" name=""/>
          <p:cNvSpPr/>
          <p:nvPr/>
        </p:nvSpPr>
        <p:spPr>
          <a:xfrm>
            <a:off x="1152360" y="1438200"/>
            <a:ext cx="1697040" cy="768600"/>
          </a:xfrm>
          <a:custGeom>
            <a:avLst/>
            <a:gdLst/>
            <a:ahLst/>
            <a:rect l="l" t="t" r="r" b="b"/>
            <a:pathLst>
              <a:path w="4714" h="2134">
                <a:moveTo>
                  <a:pt x="3274" y="4887"/>
                </a:moveTo>
                <a:cubicBezTo>
                  <a:pt x="3231" y="4855"/>
                  <a:pt x="3225" y="4868"/>
                  <a:pt x="3225" y="4812"/>
                </a:cubicBezTo>
              </a:path>
              <a:path w="4714" h="2134">
                <a:moveTo>
                  <a:pt x="3597" y="4192"/>
                </a:moveTo>
                <a:cubicBezTo>
                  <a:pt x="3570" y="4284"/>
                  <a:pt x="3545" y="4375"/>
                  <a:pt x="3522" y="4465"/>
                </a:cubicBezTo>
                <a:cubicBezTo>
                  <a:pt x="3493" y="4579"/>
                  <a:pt x="3506" y="4628"/>
                  <a:pt x="3522" y="4738"/>
                </a:cubicBezTo>
                <a:cubicBezTo>
                  <a:pt x="3531" y="4802"/>
                  <a:pt x="3550" y="4838"/>
                  <a:pt x="3621" y="4862"/>
                </a:cubicBezTo>
                <a:cubicBezTo>
                  <a:pt x="3663" y="4876"/>
                  <a:pt x="3716" y="4863"/>
                  <a:pt x="3746" y="4837"/>
                </a:cubicBezTo>
                <a:cubicBezTo>
                  <a:pt x="3811" y="4780"/>
                  <a:pt x="3854" y="4714"/>
                  <a:pt x="3894" y="4638"/>
                </a:cubicBezTo>
                <a:cubicBezTo>
                  <a:pt x="3954" y="4525"/>
                  <a:pt x="3990" y="4435"/>
                  <a:pt x="3944" y="4316"/>
                </a:cubicBezTo>
                <a:cubicBezTo>
                  <a:pt x="3913" y="4235"/>
                  <a:pt x="3884" y="4215"/>
                  <a:pt x="3820" y="4167"/>
                </a:cubicBezTo>
                <a:cubicBezTo>
                  <a:pt x="3774" y="4132"/>
                  <a:pt x="3730" y="4142"/>
                  <a:pt x="3671" y="4142"/>
                </a:cubicBezTo>
                <a:cubicBezTo>
                  <a:pt x="3636" y="4142"/>
                  <a:pt x="3597" y="4169"/>
                  <a:pt x="3572" y="4192"/>
                </a:cubicBezTo>
                <a:cubicBezTo>
                  <a:pt x="3547" y="4217"/>
                  <a:pt x="3539" y="4225"/>
                  <a:pt x="3572" y="4242"/>
                </a:cubicBezTo>
              </a:path>
              <a:path w="4714" h="2134">
                <a:moveTo>
                  <a:pt x="4217" y="3994"/>
                </a:moveTo>
                <a:cubicBezTo>
                  <a:pt x="4180" y="4096"/>
                  <a:pt x="4186" y="4163"/>
                  <a:pt x="4167" y="4266"/>
                </a:cubicBezTo>
                <a:cubicBezTo>
                  <a:pt x="4145" y="4384"/>
                  <a:pt x="4151" y="4447"/>
                  <a:pt x="4167" y="4564"/>
                </a:cubicBezTo>
                <a:cubicBezTo>
                  <a:pt x="4174" y="4616"/>
                  <a:pt x="4192" y="4677"/>
                  <a:pt x="4242" y="4713"/>
                </a:cubicBezTo>
                <a:cubicBezTo>
                  <a:pt x="4321" y="4770"/>
                  <a:pt x="4387" y="4724"/>
                  <a:pt x="4465" y="4688"/>
                </a:cubicBezTo>
                <a:cubicBezTo>
                  <a:pt x="4532" y="4657"/>
                  <a:pt x="4579" y="4578"/>
                  <a:pt x="4614" y="4514"/>
                </a:cubicBezTo>
                <a:cubicBezTo>
                  <a:pt x="4640" y="4467"/>
                  <a:pt x="4638" y="4441"/>
                  <a:pt x="4638" y="4390"/>
                </a:cubicBezTo>
                <a:cubicBezTo>
                  <a:pt x="4584" y="4390"/>
                  <a:pt x="4537" y="4381"/>
                  <a:pt x="4490" y="4415"/>
                </a:cubicBezTo>
                <a:cubicBezTo>
                  <a:pt x="4413" y="4471"/>
                  <a:pt x="4392" y="4541"/>
                  <a:pt x="4341" y="4614"/>
                </a:cubicBezTo>
                <a:cubicBezTo>
                  <a:pt x="4311" y="4657"/>
                  <a:pt x="4316" y="4681"/>
                  <a:pt x="4316" y="4738"/>
                </a:cubicBezTo>
                <a:cubicBezTo>
                  <a:pt x="4316" y="4742"/>
                  <a:pt x="4341" y="4837"/>
                  <a:pt x="4341" y="4837"/>
                </a:cubicBezTo>
                <a:cubicBezTo>
                  <a:pt x="4349" y="4837"/>
                  <a:pt x="4358" y="4837"/>
                  <a:pt x="4366" y="4837"/>
                </a:cubicBezTo>
              </a:path>
              <a:path w="4714" h="2134">
                <a:moveTo>
                  <a:pt x="3200" y="5110"/>
                </a:moveTo>
                <a:cubicBezTo>
                  <a:pt x="3426" y="5110"/>
                  <a:pt x="3648" y="5103"/>
                  <a:pt x="3870" y="5085"/>
                </a:cubicBezTo>
                <a:cubicBezTo>
                  <a:pt x="4006" y="5074"/>
                  <a:pt x="4132" y="5106"/>
                  <a:pt x="4266" y="5110"/>
                </a:cubicBezTo>
                <a:cubicBezTo>
                  <a:pt x="4327" y="5112"/>
                  <a:pt x="4459" y="5077"/>
                  <a:pt x="4440" y="5135"/>
                </a:cubicBezTo>
                <a:cubicBezTo>
                  <a:pt x="4415" y="5135"/>
                  <a:pt x="4407" y="5135"/>
                  <a:pt x="4390" y="5135"/>
                </a:cubicBezTo>
              </a:path>
              <a:path w="4714" h="2134">
                <a:moveTo>
                  <a:pt x="3597" y="5383"/>
                </a:moveTo>
                <a:cubicBezTo>
                  <a:pt x="3597" y="5584"/>
                  <a:pt x="3598" y="5784"/>
                  <a:pt x="3621" y="5978"/>
                </a:cubicBezTo>
                <a:cubicBezTo>
                  <a:pt x="3623" y="5992"/>
                  <a:pt x="3612" y="6146"/>
                  <a:pt x="3646" y="6077"/>
                </a:cubicBezTo>
              </a:path>
              <a:path w="4714" h="2134">
                <a:moveTo>
                  <a:pt x="3795" y="5581"/>
                </a:moveTo>
                <a:cubicBezTo>
                  <a:pt x="3906" y="5516"/>
                  <a:pt x="3951" y="5456"/>
                  <a:pt x="4068" y="5507"/>
                </a:cubicBezTo>
                <a:cubicBezTo>
                  <a:pt x="4142" y="5539"/>
                  <a:pt x="4163" y="5575"/>
                  <a:pt x="4167" y="5655"/>
                </a:cubicBezTo>
                <a:cubicBezTo>
                  <a:pt x="4172" y="5739"/>
                  <a:pt x="4151" y="5802"/>
                  <a:pt x="4118" y="5879"/>
                </a:cubicBezTo>
                <a:cubicBezTo>
                  <a:pt x="4086" y="5953"/>
                  <a:pt x="4042" y="5995"/>
                  <a:pt x="3994" y="6052"/>
                </a:cubicBezTo>
                <a:cubicBezTo>
                  <a:pt x="3969" y="6077"/>
                  <a:pt x="3961" y="6085"/>
                  <a:pt x="3944" y="6102"/>
                </a:cubicBezTo>
                <a:cubicBezTo>
                  <a:pt x="3961" y="6153"/>
                  <a:pt x="4063" y="6119"/>
                  <a:pt x="4118" y="6102"/>
                </a:cubicBezTo>
                <a:cubicBezTo>
                  <a:pt x="4193" y="6079"/>
                  <a:pt x="4266" y="6071"/>
                  <a:pt x="4341" y="6052"/>
                </a:cubicBezTo>
                <a:cubicBezTo>
                  <a:pt x="4366" y="6044"/>
                  <a:pt x="4390" y="6036"/>
                  <a:pt x="4415" y="6028"/>
                </a:cubicBezTo>
              </a:path>
              <a:path w="4714" h="2134">
                <a:moveTo>
                  <a:pt x="4787" y="5085"/>
                </a:moveTo>
                <a:cubicBezTo>
                  <a:pt x="4876" y="5085"/>
                  <a:pt x="4951" y="5065"/>
                  <a:pt x="5035" y="5060"/>
                </a:cubicBezTo>
                <a:cubicBezTo>
                  <a:pt x="5101" y="5056"/>
                  <a:pt x="5168" y="5060"/>
                  <a:pt x="5234" y="5060"/>
                </a:cubicBezTo>
              </a:path>
              <a:path w="4714" h="2134">
                <a:moveTo>
                  <a:pt x="4812" y="5333"/>
                </a:moveTo>
                <a:cubicBezTo>
                  <a:pt x="4920" y="5333"/>
                  <a:pt x="5027" y="5333"/>
                  <a:pt x="5135" y="5333"/>
                </a:cubicBezTo>
              </a:path>
              <a:path w="4714" h="2134">
                <a:moveTo>
                  <a:pt x="5705" y="5358"/>
                </a:moveTo>
                <a:cubicBezTo>
                  <a:pt x="5682" y="5381"/>
                  <a:pt x="5674" y="5392"/>
                  <a:pt x="5680" y="5358"/>
                </a:cubicBezTo>
              </a:path>
              <a:path w="4714" h="2134">
                <a:moveTo>
                  <a:pt x="6152" y="4713"/>
                </a:moveTo>
                <a:cubicBezTo>
                  <a:pt x="6124" y="4778"/>
                  <a:pt x="6101" y="4842"/>
                  <a:pt x="6077" y="4911"/>
                </a:cubicBezTo>
                <a:cubicBezTo>
                  <a:pt x="6047" y="4998"/>
                  <a:pt x="6031" y="5094"/>
                  <a:pt x="6028" y="5184"/>
                </a:cubicBezTo>
                <a:cubicBezTo>
                  <a:pt x="6026" y="5251"/>
                  <a:pt x="6013" y="5338"/>
                  <a:pt x="6077" y="5383"/>
                </a:cubicBezTo>
                <a:cubicBezTo>
                  <a:pt x="6146" y="5431"/>
                  <a:pt x="6173" y="5441"/>
                  <a:pt x="6251" y="5407"/>
                </a:cubicBezTo>
                <a:cubicBezTo>
                  <a:pt x="6341" y="5367"/>
                  <a:pt x="6411" y="5340"/>
                  <a:pt x="6474" y="5259"/>
                </a:cubicBezTo>
                <a:cubicBezTo>
                  <a:pt x="6542" y="5173"/>
                  <a:pt x="6569" y="5093"/>
                  <a:pt x="6573" y="4986"/>
                </a:cubicBezTo>
                <a:cubicBezTo>
                  <a:pt x="6577" y="4881"/>
                  <a:pt x="6531" y="4804"/>
                  <a:pt x="6449" y="4738"/>
                </a:cubicBezTo>
                <a:cubicBezTo>
                  <a:pt x="6392" y="4692"/>
                  <a:pt x="6298" y="4671"/>
                  <a:pt x="6226" y="4688"/>
                </a:cubicBezTo>
                <a:cubicBezTo>
                  <a:pt x="6152" y="4706"/>
                  <a:pt x="6071" y="4777"/>
                  <a:pt x="6028" y="4837"/>
                </a:cubicBezTo>
                <a:cubicBezTo>
                  <a:pt x="5986" y="4895"/>
                  <a:pt x="5962" y="4989"/>
                  <a:pt x="5978" y="5060"/>
                </a:cubicBezTo>
                <a:cubicBezTo>
                  <a:pt x="5993" y="5128"/>
                  <a:pt x="6035" y="5181"/>
                  <a:pt x="6077" y="5234"/>
                </a:cubicBezTo>
              </a:path>
              <a:path w="4714" h="2134">
                <a:moveTo>
                  <a:pt x="6772" y="4787"/>
                </a:moveTo>
                <a:cubicBezTo>
                  <a:pt x="6739" y="4887"/>
                  <a:pt x="6665" y="5029"/>
                  <a:pt x="6648" y="5135"/>
                </a:cubicBezTo>
                <a:cubicBezTo>
                  <a:pt x="6638" y="5195"/>
                  <a:pt x="6648" y="5305"/>
                  <a:pt x="6672" y="5358"/>
                </a:cubicBezTo>
                <a:cubicBezTo>
                  <a:pt x="6691" y="5400"/>
                  <a:pt x="6780" y="5424"/>
                  <a:pt x="6821" y="5407"/>
                </a:cubicBezTo>
                <a:cubicBezTo>
                  <a:pt x="6874" y="5386"/>
                  <a:pt x="6960" y="5329"/>
                  <a:pt x="6995" y="5283"/>
                </a:cubicBezTo>
                <a:cubicBezTo>
                  <a:pt x="7059" y="5200"/>
                  <a:pt x="7090" y="5143"/>
                  <a:pt x="7094" y="5035"/>
                </a:cubicBezTo>
                <a:cubicBezTo>
                  <a:pt x="7097" y="4968"/>
                  <a:pt x="7109" y="4883"/>
                  <a:pt x="7045" y="4837"/>
                </a:cubicBezTo>
                <a:cubicBezTo>
                  <a:pt x="6994" y="4800"/>
                  <a:pt x="6937" y="4769"/>
                  <a:pt x="6871" y="4787"/>
                </a:cubicBezTo>
                <a:cubicBezTo>
                  <a:pt x="6817" y="4802"/>
                  <a:pt x="6772" y="4856"/>
                  <a:pt x="6747" y="4887"/>
                </a:cubicBezTo>
                <a:cubicBezTo>
                  <a:pt x="6718" y="4924"/>
                  <a:pt x="6722" y="4938"/>
                  <a:pt x="6722" y="4986"/>
                </a:cubicBezTo>
              </a:path>
              <a:path w="4714" h="2134">
                <a:moveTo>
                  <a:pt x="7417" y="4663"/>
                </a:moveTo>
                <a:cubicBezTo>
                  <a:pt x="7524" y="4644"/>
                  <a:pt x="7607" y="4638"/>
                  <a:pt x="7714" y="4638"/>
                </a:cubicBezTo>
                <a:cubicBezTo>
                  <a:pt x="7794" y="4638"/>
                  <a:pt x="7829" y="4652"/>
                  <a:pt x="7913" y="4638"/>
                </a:cubicBezTo>
              </a:path>
              <a:path w="4714" h="2134">
                <a:moveTo>
                  <a:pt x="7441" y="4638"/>
                </a:moveTo>
                <a:cubicBezTo>
                  <a:pt x="7418" y="4705"/>
                  <a:pt x="7360" y="4829"/>
                  <a:pt x="7392" y="4911"/>
                </a:cubicBezTo>
                <a:cubicBezTo>
                  <a:pt x="7406" y="4946"/>
                  <a:pt x="7420" y="5004"/>
                  <a:pt x="7441" y="5035"/>
                </a:cubicBezTo>
                <a:cubicBezTo>
                  <a:pt x="7449" y="5043"/>
                  <a:pt x="7458" y="5052"/>
                  <a:pt x="7466" y="5060"/>
                </a:cubicBezTo>
                <a:cubicBezTo>
                  <a:pt x="7507" y="5050"/>
                  <a:pt x="7558" y="5015"/>
                  <a:pt x="7590" y="4986"/>
                </a:cubicBezTo>
                <a:cubicBezTo>
                  <a:pt x="7623" y="4957"/>
                  <a:pt x="7694" y="4943"/>
                  <a:pt x="7739" y="4961"/>
                </a:cubicBezTo>
                <a:cubicBezTo>
                  <a:pt x="7795" y="4983"/>
                  <a:pt x="7836" y="5034"/>
                  <a:pt x="7863" y="5085"/>
                </a:cubicBezTo>
                <a:cubicBezTo>
                  <a:pt x="7903" y="5160"/>
                  <a:pt x="7896" y="5212"/>
                  <a:pt x="7888" y="5283"/>
                </a:cubicBezTo>
                <a:cubicBezTo>
                  <a:pt x="7879" y="5364"/>
                  <a:pt x="7859" y="5390"/>
                  <a:pt x="7789" y="5432"/>
                </a:cubicBezTo>
                <a:cubicBezTo>
                  <a:pt x="7735" y="5465"/>
                  <a:pt x="7652" y="5479"/>
                  <a:pt x="7590" y="5482"/>
                </a:cubicBezTo>
                <a:cubicBezTo>
                  <a:pt x="7523" y="5486"/>
                  <a:pt x="7493" y="5475"/>
                  <a:pt x="7441" y="5457"/>
                </a:cubicBezTo>
                <a:cubicBezTo>
                  <a:pt x="7358" y="5429"/>
                  <a:pt x="7525" y="5477"/>
                  <a:pt x="7466" y="5432"/>
                </a:cubicBezTo>
                <a:cubicBezTo>
                  <a:pt x="7431" y="5432"/>
                  <a:pt x="7414" y="5437"/>
                  <a:pt x="7392" y="545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20800" y="2544840"/>
            <a:ext cx="3322440" cy="1187280"/>
          </a:xfrm>
          <a:custGeom>
            <a:avLst/>
            <a:gdLst/>
            <a:ahLst/>
            <a:rect l="l" t="t" r="r" b="b"/>
            <a:pathLst>
              <a:path w="9228" h="3300">
                <a:moveTo>
                  <a:pt x="6573" y="7218"/>
                </a:moveTo>
                <a:cubicBezTo>
                  <a:pt x="6524" y="7316"/>
                  <a:pt x="6470" y="7396"/>
                  <a:pt x="6424" y="7491"/>
                </a:cubicBezTo>
                <a:cubicBezTo>
                  <a:pt x="6354" y="7636"/>
                  <a:pt x="6287" y="7767"/>
                  <a:pt x="6226" y="7913"/>
                </a:cubicBezTo>
                <a:cubicBezTo>
                  <a:pt x="6167" y="8054"/>
                  <a:pt x="6107" y="8182"/>
                  <a:pt x="6077" y="8334"/>
                </a:cubicBezTo>
                <a:cubicBezTo>
                  <a:pt x="6035" y="8546"/>
                  <a:pt x="6003" y="8738"/>
                  <a:pt x="6003" y="8954"/>
                </a:cubicBezTo>
                <a:cubicBezTo>
                  <a:pt x="6003" y="9114"/>
                  <a:pt x="6006" y="9248"/>
                  <a:pt x="6052" y="9401"/>
                </a:cubicBezTo>
                <a:cubicBezTo>
                  <a:pt x="6084" y="9507"/>
                  <a:pt x="6131" y="9600"/>
                  <a:pt x="6176" y="9699"/>
                </a:cubicBezTo>
                <a:cubicBezTo>
                  <a:pt x="6204" y="9762"/>
                  <a:pt x="6262" y="9788"/>
                  <a:pt x="6300" y="9847"/>
                </a:cubicBezTo>
                <a:cubicBezTo>
                  <a:pt x="6323" y="9882"/>
                  <a:pt x="6325" y="9855"/>
                  <a:pt x="6325" y="9897"/>
                </a:cubicBezTo>
              </a:path>
              <a:path w="9228" h="3300">
                <a:moveTo>
                  <a:pt x="7119" y="7417"/>
                </a:moveTo>
                <a:cubicBezTo>
                  <a:pt x="7110" y="7461"/>
                  <a:pt x="7094" y="7494"/>
                  <a:pt x="7094" y="7541"/>
                </a:cubicBezTo>
                <a:cubicBezTo>
                  <a:pt x="7094" y="7615"/>
                  <a:pt x="7073" y="7669"/>
                  <a:pt x="7069" y="7739"/>
                </a:cubicBezTo>
                <a:cubicBezTo>
                  <a:pt x="7063" y="7844"/>
                  <a:pt x="7059" y="7936"/>
                  <a:pt x="7045" y="8037"/>
                </a:cubicBezTo>
                <a:cubicBezTo>
                  <a:pt x="7036" y="8103"/>
                  <a:pt x="7045" y="8322"/>
                  <a:pt x="7045" y="8310"/>
                </a:cubicBezTo>
                <a:cubicBezTo>
                  <a:pt x="7045" y="8302"/>
                  <a:pt x="7045" y="8293"/>
                  <a:pt x="7045" y="8285"/>
                </a:cubicBezTo>
              </a:path>
              <a:path w="9228" h="3300">
                <a:moveTo>
                  <a:pt x="7317" y="7913"/>
                </a:moveTo>
                <a:cubicBezTo>
                  <a:pt x="7425" y="7913"/>
                  <a:pt x="7914" y="7961"/>
                  <a:pt x="7938" y="7888"/>
                </a:cubicBezTo>
              </a:path>
              <a:path w="9228" h="3300">
                <a:moveTo>
                  <a:pt x="8260" y="8136"/>
                </a:moveTo>
                <a:cubicBezTo>
                  <a:pt x="8220" y="8149"/>
                  <a:pt x="8220" y="8149"/>
                  <a:pt x="8260" y="8136"/>
                </a:cubicBezTo>
              </a:path>
              <a:path w="9228" h="3300">
                <a:moveTo>
                  <a:pt x="8682" y="7565"/>
                </a:moveTo>
                <a:cubicBezTo>
                  <a:pt x="8657" y="7628"/>
                  <a:pt x="8597" y="7697"/>
                  <a:pt x="8582" y="7764"/>
                </a:cubicBezTo>
                <a:cubicBezTo>
                  <a:pt x="8563" y="7850"/>
                  <a:pt x="8533" y="7920"/>
                  <a:pt x="8533" y="8012"/>
                </a:cubicBezTo>
                <a:cubicBezTo>
                  <a:pt x="8533" y="8051"/>
                  <a:pt x="8547" y="8112"/>
                  <a:pt x="8582" y="8136"/>
                </a:cubicBezTo>
                <a:cubicBezTo>
                  <a:pt x="8637" y="8174"/>
                  <a:pt x="8676" y="8158"/>
                  <a:pt x="8731" y="8136"/>
                </a:cubicBezTo>
                <a:cubicBezTo>
                  <a:pt x="8795" y="8110"/>
                  <a:pt x="8866" y="8071"/>
                  <a:pt x="8905" y="8012"/>
                </a:cubicBezTo>
                <a:cubicBezTo>
                  <a:pt x="8952" y="7941"/>
                  <a:pt x="8975" y="7872"/>
                  <a:pt x="8979" y="7789"/>
                </a:cubicBezTo>
                <a:cubicBezTo>
                  <a:pt x="8981" y="7749"/>
                  <a:pt x="8979" y="7642"/>
                  <a:pt x="8954" y="7615"/>
                </a:cubicBezTo>
                <a:cubicBezTo>
                  <a:pt x="8910" y="7568"/>
                  <a:pt x="8824" y="7516"/>
                  <a:pt x="8756" y="7541"/>
                </a:cubicBezTo>
                <a:cubicBezTo>
                  <a:pt x="8706" y="7560"/>
                  <a:pt x="8693" y="7600"/>
                  <a:pt x="8657" y="7640"/>
                </a:cubicBezTo>
                <a:cubicBezTo>
                  <a:pt x="8622" y="7679"/>
                  <a:pt x="8611" y="7711"/>
                  <a:pt x="8607" y="7764"/>
                </a:cubicBezTo>
                <a:cubicBezTo>
                  <a:pt x="8607" y="7789"/>
                  <a:pt x="8607" y="7797"/>
                  <a:pt x="8607" y="7813"/>
                </a:cubicBezTo>
              </a:path>
              <a:path w="9228" h="3300">
                <a:moveTo>
                  <a:pt x="9103" y="7714"/>
                </a:moveTo>
                <a:cubicBezTo>
                  <a:pt x="9048" y="7825"/>
                  <a:pt x="9029" y="7867"/>
                  <a:pt x="9029" y="7987"/>
                </a:cubicBezTo>
                <a:cubicBezTo>
                  <a:pt x="9029" y="8040"/>
                  <a:pt x="9023" y="8105"/>
                  <a:pt x="9079" y="8136"/>
                </a:cubicBezTo>
                <a:cubicBezTo>
                  <a:pt x="9113" y="8155"/>
                  <a:pt x="9182" y="8178"/>
                  <a:pt x="9227" y="8161"/>
                </a:cubicBezTo>
                <a:cubicBezTo>
                  <a:pt x="9263" y="8147"/>
                  <a:pt x="9352" y="8046"/>
                  <a:pt x="9376" y="8012"/>
                </a:cubicBezTo>
                <a:cubicBezTo>
                  <a:pt x="9414" y="7957"/>
                  <a:pt x="9436" y="7827"/>
                  <a:pt x="9426" y="7764"/>
                </a:cubicBezTo>
                <a:cubicBezTo>
                  <a:pt x="9418" y="7714"/>
                  <a:pt x="9361" y="7674"/>
                  <a:pt x="9327" y="7640"/>
                </a:cubicBezTo>
                <a:cubicBezTo>
                  <a:pt x="9275" y="7587"/>
                  <a:pt x="9250" y="7624"/>
                  <a:pt x="9203" y="7640"/>
                </a:cubicBezTo>
                <a:cubicBezTo>
                  <a:pt x="9169" y="7652"/>
                  <a:pt x="9132" y="7655"/>
                  <a:pt x="9128" y="7689"/>
                </a:cubicBezTo>
                <a:cubicBezTo>
                  <a:pt x="9128" y="7697"/>
                  <a:pt x="9128" y="7706"/>
                  <a:pt x="9128" y="7714"/>
                </a:cubicBezTo>
              </a:path>
              <a:path w="9228" h="3300">
                <a:moveTo>
                  <a:pt x="9674" y="7590"/>
                </a:moveTo>
                <a:cubicBezTo>
                  <a:pt x="9781" y="7590"/>
                  <a:pt x="9889" y="7590"/>
                  <a:pt x="9996" y="7590"/>
                </a:cubicBezTo>
              </a:path>
              <a:path w="9228" h="3300">
                <a:moveTo>
                  <a:pt x="9624" y="7665"/>
                </a:moveTo>
                <a:cubicBezTo>
                  <a:pt x="9603" y="7710"/>
                  <a:pt x="9555" y="7789"/>
                  <a:pt x="9550" y="7838"/>
                </a:cubicBezTo>
                <a:cubicBezTo>
                  <a:pt x="9550" y="7863"/>
                  <a:pt x="9550" y="7871"/>
                  <a:pt x="9550" y="7888"/>
                </a:cubicBezTo>
                <a:cubicBezTo>
                  <a:pt x="9596" y="7888"/>
                  <a:pt x="9614" y="7894"/>
                  <a:pt x="9649" y="7863"/>
                </a:cubicBezTo>
                <a:cubicBezTo>
                  <a:pt x="9677" y="7838"/>
                  <a:pt x="9712" y="7817"/>
                  <a:pt x="9748" y="7813"/>
                </a:cubicBezTo>
                <a:cubicBezTo>
                  <a:pt x="9827" y="7804"/>
                  <a:pt x="9856" y="7814"/>
                  <a:pt x="9922" y="7863"/>
                </a:cubicBezTo>
                <a:cubicBezTo>
                  <a:pt x="9982" y="7907"/>
                  <a:pt x="9976" y="7951"/>
                  <a:pt x="9996" y="8012"/>
                </a:cubicBezTo>
                <a:cubicBezTo>
                  <a:pt x="10016" y="8071"/>
                  <a:pt x="10025" y="8103"/>
                  <a:pt x="9996" y="8161"/>
                </a:cubicBezTo>
                <a:cubicBezTo>
                  <a:pt x="9975" y="8203"/>
                  <a:pt x="9886" y="8208"/>
                  <a:pt x="9847" y="8210"/>
                </a:cubicBezTo>
                <a:cubicBezTo>
                  <a:pt x="9724" y="8217"/>
                  <a:pt x="9598" y="8210"/>
                  <a:pt x="9475" y="8210"/>
                </a:cubicBezTo>
              </a:path>
              <a:path w="9228" h="3300">
                <a:moveTo>
                  <a:pt x="6871" y="8558"/>
                </a:moveTo>
                <a:cubicBezTo>
                  <a:pt x="7031" y="8558"/>
                  <a:pt x="7184" y="8566"/>
                  <a:pt x="7342" y="8582"/>
                </a:cubicBezTo>
                <a:cubicBezTo>
                  <a:pt x="7629" y="8611"/>
                  <a:pt x="7929" y="8605"/>
                  <a:pt x="8210" y="8632"/>
                </a:cubicBezTo>
                <a:cubicBezTo>
                  <a:pt x="8704" y="8679"/>
                  <a:pt x="9615" y="8754"/>
                  <a:pt x="10046" y="8582"/>
                </a:cubicBezTo>
                <a:cubicBezTo>
                  <a:pt x="10078" y="8569"/>
                  <a:pt x="10105" y="8582"/>
                  <a:pt x="10120" y="8558"/>
                </a:cubicBezTo>
                <a:cubicBezTo>
                  <a:pt x="10112" y="8558"/>
                  <a:pt x="10104" y="8558"/>
                  <a:pt x="10096" y="8558"/>
                </a:cubicBezTo>
              </a:path>
              <a:path w="9228" h="3300">
                <a:moveTo>
                  <a:pt x="10195" y="7243"/>
                </a:moveTo>
                <a:cubicBezTo>
                  <a:pt x="10195" y="7211"/>
                  <a:pt x="10203" y="7178"/>
                  <a:pt x="10220" y="7169"/>
                </a:cubicBezTo>
                <a:cubicBezTo>
                  <a:pt x="10252" y="7153"/>
                  <a:pt x="10279" y="7144"/>
                  <a:pt x="10319" y="7144"/>
                </a:cubicBezTo>
                <a:cubicBezTo>
                  <a:pt x="10347" y="7144"/>
                  <a:pt x="10358" y="7146"/>
                  <a:pt x="10368" y="7169"/>
                </a:cubicBezTo>
                <a:cubicBezTo>
                  <a:pt x="10350" y="7242"/>
                  <a:pt x="10318" y="7326"/>
                  <a:pt x="10269" y="7392"/>
                </a:cubicBezTo>
                <a:cubicBezTo>
                  <a:pt x="10234" y="7440"/>
                  <a:pt x="10172" y="7519"/>
                  <a:pt x="10120" y="7541"/>
                </a:cubicBezTo>
                <a:cubicBezTo>
                  <a:pt x="10088" y="7554"/>
                  <a:pt x="10099" y="7553"/>
                  <a:pt x="10071" y="7590"/>
                </a:cubicBezTo>
                <a:cubicBezTo>
                  <a:pt x="10140" y="7590"/>
                  <a:pt x="10352" y="7616"/>
                  <a:pt x="10368" y="7565"/>
                </a:cubicBezTo>
              </a:path>
              <a:path w="9228" h="3300">
                <a:moveTo>
                  <a:pt x="10492" y="7193"/>
                </a:moveTo>
                <a:cubicBezTo>
                  <a:pt x="10486" y="7215"/>
                  <a:pt x="10449" y="7307"/>
                  <a:pt x="10468" y="7342"/>
                </a:cubicBezTo>
                <a:cubicBezTo>
                  <a:pt x="10492" y="7386"/>
                  <a:pt x="10523" y="7392"/>
                  <a:pt x="10567" y="7392"/>
                </a:cubicBezTo>
                <a:cubicBezTo>
                  <a:pt x="10611" y="7392"/>
                  <a:pt x="10627" y="7377"/>
                  <a:pt x="10666" y="7367"/>
                </a:cubicBezTo>
              </a:path>
              <a:path w="9228" h="3300">
                <a:moveTo>
                  <a:pt x="10691" y="7144"/>
                </a:moveTo>
                <a:cubicBezTo>
                  <a:pt x="10678" y="7270"/>
                  <a:pt x="10666" y="7371"/>
                  <a:pt x="10666" y="7491"/>
                </a:cubicBezTo>
                <a:cubicBezTo>
                  <a:pt x="10666" y="7524"/>
                  <a:pt x="10666" y="7557"/>
                  <a:pt x="10666" y="7590"/>
                </a:cubicBezTo>
              </a:path>
              <a:path w="9228" h="3300">
                <a:moveTo>
                  <a:pt x="11237" y="7069"/>
                </a:moveTo>
                <a:cubicBezTo>
                  <a:pt x="11298" y="7246"/>
                  <a:pt x="11364" y="7436"/>
                  <a:pt x="11410" y="7615"/>
                </a:cubicBezTo>
                <a:cubicBezTo>
                  <a:pt x="11454" y="7788"/>
                  <a:pt x="11475" y="7984"/>
                  <a:pt x="11485" y="8161"/>
                </a:cubicBezTo>
                <a:cubicBezTo>
                  <a:pt x="11497" y="8370"/>
                  <a:pt x="11506" y="8571"/>
                  <a:pt x="11485" y="8781"/>
                </a:cubicBezTo>
                <a:cubicBezTo>
                  <a:pt x="11466" y="8971"/>
                  <a:pt x="11405" y="9198"/>
                  <a:pt x="11336" y="9376"/>
                </a:cubicBezTo>
                <a:cubicBezTo>
                  <a:pt x="11278" y="9527"/>
                  <a:pt x="11210" y="9681"/>
                  <a:pt x="11137" y="9823"/>
                </a:cubicBezTo>
                <a:cubicBezTo>
                  <a:pt x="11071" y="9952"/>
                  <a:pt x="10995" y="10108"/>
                  <a:pt x="10939" y="10220"/>
                </a:cubicBezTo>
                <a:cubicBezTo>
                  <a:pt x="10921" y="10256"/>
                  <a:pt x="10923" y="10349"/>
                  <a:pt x="10864" y="10368"/>
                </a:cubicBezTo>
                <a:cubicBezTo>
                  <a:pt x="10830" y="10368"/>
                  <a:pt x="10812" y="10363"/>
                  <a:pt x="10790" y="10344"/>
                </a:cubicBezTo>
              </a:path>
              <a:path w="9228" h="3300">
                <a:moveTo>
                  <a:pt x="7144" y="8954"/>
                </a:moveTo>
                <a:cubicBezTo>
                  <a:pt x="7144" y="9241"/>
                  <a:pt x="7169" y="9544"/>
                  <a:pt x="7119" y="9823"/>
                </a:cubicBezTo>
                <a:cubicBezTo>
                  <a:pt x="7116" y="9838"/>
                  <a:pt x="7112" y="10002"/>
                  <a:pt x="7144" y="9971"/>
                </a:cubicBezTo>
                <a:cubicBezTo>
                  <a:pt x="7152" y="9955"/>
                  <a:pt x="7161" y="9938"/>
                  <a:pt x="7169" y="9922"/>
                </a:cubicBezTo>
              </a:path>
              <a:path w="9228" h="3300">
                <a:moveTo>
                  <a:pt x="7590" y="9550"/>
                </a:moveTo>
                <a:cubicBezTo>
                  <a:pt x="7709" y="9594"/>
                  <a:pt x="7743" y="9599"/>
                  <a:pt x="7863" y="9599"/>
                </a:cubicBezTo>
                <a:cubicBezTo>
                  <a:pt x="7937" y="9599"/>
                  <a:pt x="8012" y="9599"/>
                  <a:pt x="8086" y="9599"/>
                </a:cubicBezTo>
              </a:path>
              <a:path w="9228" h="3300">
                <a:moveTo>
                  <a:pt x="8186" y="9897"/>
                </a:moveTo>
                <a:cubicBezTo>
                  <a:pt x="8173" y="9937"/>
                  <a:pt x="8173" y="9937"/>
                  <a:pt x="8186" y="9897"/>
                </a:cubicBezTo>
              </a:path>
              <a:path w="9228" h="3300">
                <a:moveTo>
                  <a:pt x="8607" y="9302"/>
                </a:moveTo>
                <a:cubicBezTo>
                  <a:pt x="8571" y="9429"/>
                  <a:pt x="8538" y="9543"/>
                  <a:pt x="8533" y="9674"/>
                </a:cubicBezTo>
                <a:cubicBezTo>
                  <a:pt x="8531" y="9740"/>
                  <a:pt x="8535" y="9788"/>
                  <a:pt x="8558" y="9847"/>
                </a:cubicBezTo>
                <a:cubicBezTo>
                  <a:pt x="8575" y="9892"/>
                  <a:pt x="8609" y="9919"/>
                  <a:pt x="8657" y="9922"/>
                </a:cubicBezTo>
                <a:cubicBezTo>
                  <a:pt x="8730" y="9927"/>
                  <a:pt x="8795" y="9880"/>
                  <a:pt x="8830" y="9823"/>
                </a:cubicBezTo>
                <a:cubicBezTo>
                  <a:pt x="8883" y="9738"/>
                  <a:pt x="8880" y="9646"/>
                  <a:pt x="8880" y="9550"/>
                </a:cubicBezTo>
                <a:cubicBezTo>
                  <a:pt x="8880" y="9474"/>
                  <a:pt x="8894" y="9395"/>
                  <a:pt x="8855" y="9327"/>
                </a:cubicBezTo>
                <a:cubicBezTo>
                  <a:pt x="8831" y="9285"/>
                  <a:pt x="8805" y="9232"/>
                  <a:pt x="8756" y="9227"/>
                </a:cubicBezTo>
                <a:cubicBezTo>
                  <a:pt x="8713" y="9222"/>
                  <a:pt x="8660" y="9215"/>
                  <a:pt x="8632" y="9252"/>
                </a:cubicBezTo>
                <a:cubicBezTo>
                  <a:pt x="8596" y="9299"/>
                  <a:pt x="8573" y="9313"/>
                  <a:pt x="8558" y="9376"/>
                </a:cubicBezTo>
                <a:cubicBezTo>
                  <a:pt x="8558" y="9411"/>
                  <a:pt x="8553" y="9429"/>
                  <a:pt x="8533" y="9451"/>
                </a:cubicBezTo>
              </a:path>
              <a:path w="9228" h="3300">
                <a:moveTo>
                  <a:pt x="9054" y="9451"/>
                </a:moveTo>
                <a:cubicBezTo>
                  <a:pt x="9025" y="9597"/>
                  <a:pt x="9004" y="9686"/>
                  <a:pt x="9004" y="9823"/>
                </a:cubicBezTo>
                <a:cubicBezTo>
                  <a:pt x="9004" y="9915"/>
                  <a:pt x="9033" y="9892"/>
                  <a:pt x="9079" y="9971"/>
                </a:cubicBezTo>
                <a:cubicBezTo>
                  <a:pt x="9130" y="9971"/>
                  <a:pt x="9168" y="9947"/>
                  <a:pt x="9203" y="9922"/>
                </a:cubicBezTo>
                <a:cubicBezTo>
                  <a:pt x="9287" y="9863"/>
                  <a:pt x="9282" y="9832"/>
                  <a:pt x="9302" y="9748"/>
                </a:cubicBezTo>
                <a:cubicBezTo>
                  <a:pt x="9328" y="9642"/>
                  <a:pt x="9319" y="9598"/>
                  <a:pt x="9302" y="9500"/>
                </a:cubicBezTo>
                <a:cubicBezTo>
                  <a:pt x="9293" y="9447"/>
                  <a:pt x="9270" y="9404"/>
                  <a:pt x="9203" y="9376"/>
                </a:cubicBezTo>
                <a:cubicBezTo>
                  <a:pt x="9194" y="9372"/>
                  <a:pt x="9117" y="9295"/>
                  <a:pt x="9103" y="9302"/>
                </a:cubicBezTo>
                <a:cubicBezTo>
                  <a:pt x="9103" y="9335"/>
                  <a:pt x="9111" y="9344"/>
                  <a:pt x="9153" y="9327"/>
                </a:cubicBezTo>
              </a:path>
              <a:path w="9228" h="3300">
                <a:moveTo>
                  <a:pt x="9624" y="9327"/>
                </a:moveTo>
                <a:cubicBezTo>
                  <a:pt x="9668" y="9294"/>
                  <a:pt x="9690" y="9302"/>
                  <a:pt x="9748" y="9302"/>
                </a:cubicBezTo>
                <a:cubicBezTo>
                  <a:pt x="9798" y="9302"/>
                  <a:pt x="9847" y="9302"/>
                  <a:pt x="9897" y="9302"/>
                </a:cubicBezTo>
              </a:path>
              <a:path w="9228" h="3300">
                <a:moveTo>
                  <a:pt x="9550" y="9376"/>
                </a:moveTo>
                <a:cubicBezTo>
                  <a:pt x="9476" y="9469"/>
                  <a:pt x="9462" y="9453"/>
                  <a:pt x="9525" y="9500"/>
                </a:cubicBezTo>
                <a:cubicBezTo>
                  <a:pt x="9569" y="9533"/>
                  <a:pt x="9567" y="9550"/>
                  <a:pt x="9624" y="9550"/>
                </a:cubicBezTo>
                <a:cubicBezTo>
                  <a:pt x="9674" y="9550"/>
                  <a:pt x="9683" y="9539"/>
                  <a:pt x="9723" y="9525"/>
                </a:cubicBezTo>
                <a:cubicBezTo>
                  <a:pt x="9759" y="9513"/>
                  <a:pt x="9845" y="9520"/>
                  <a:pt x="9872" y="9550"/>
                </a:cubicBezTo>
                <a:cubicBezTo>
                  <a:pt x="9911" y="9592"/>
                  <a:pt x="9994" y="9645"/>
                  <a:pt x="10021" y="9699"/>
                </a:cubicBezTo>
                <a:cubicBezTo>
                  <a:pt x="10055" y="9766"/>
                  <a:pt x="10103" y="9895"/>
                  <a:pt x="10071" y="9971"/>
                </a:cubicBezTo>
                <a:cubicBezTo>
                  <a:pt x="10045" y="10033"/>
                  <a:pt x="9960" y="10025"/>
                  <a:pt x="9897" y="10046"/>
                </a:cubicBezTo>
                <a:cubicBezTo>
                  <a:pt x="9802" y="10078"/>
                  <a:pt x="9727" y="10014"/>
                  <a:pt x="9649" y="9996"/>
                </a:cubicBezTo>
                <a:cubicBezTo>
                  <a:pt x="9540" y="9971"/>
                  <a:pt x="9460" y="9965"/>
                  <a:pt x="9351" y="9922"/>
                </a:cubicBezTo>
              </a:path>
              <a:path w="9228" h="3300">
                <a:moveTo>
                  <a:pt x="7962" y="7466"/>
                </a:moveTo>
                <a:cubicBezTo>
                  <a:pt x="7970" y="7458"/>
                  <a:pt x="7979" y="7449"/>
                  <a:pt x="7987" y="7441"/>
                </a:cubicBezTo>
                <a:cubicBezTo>
                  <a:pt x="7987" y="7509"/>
                  <a:pt x="7974" y="7560"/>
                  <a:pt x="7962" y="7615"/>
                </a:cubicBezTo>
                <a:cubicBezTo>
                  <a:pt x="7949" y="7677"/>
                  <a:pt x="7947" y="7754"/>
                  <a:pt x="7938" y="7813"/>
                </a:cubicBezTo>
                <a:cubicBezTo>
                  <a:pt x="7928" y="7876"/>
                  <a:pt x="7927" y="7926"/>
                  <a:pt x="7913" y="7987"/>
                </a:cubicBezTo>
                <a:cubicBezTo>
                  <a:pt x="7900" y="8045"/>
                  <a:pt x="7902" y="8082"/>
                  <a:pt x="7888" y="8111"/>
                </a:cubicBezTo>
                <a:cubicBezTo>
                  <a:pt x="7877" y="8133"/>
                  <a:pt x="7906" y="8140"/>
                  <a:pt x="7913" y="8161"/>
                </a:cubicBezTo>
              </a:path>
              <a:path w="9228" h="3300">
                <a:moveTo>
                  <a:pt x="8111" y="9227"/>
                </a:moveTo>
                <a:cubicBezTo>
                  <a:pt x="8164" y="9245"/>
                  <a:pt x="8115" y="9273"/>
                  <a:pt x="8111" y="9327"/>
                </a:cubicBezTo>
                <a:cubicBezTo>
                  <a:pt x="8107" y="9381"/>
                  <a:pt x="8080" y="9447"/>
                  <a:pt x="8062" y="9500"/>
                </a:cubicBezTo>
                <a:cubicBezTo>
                  <a:pt x="8035" y="9582"/>
                  <a:pt x="8015" y="9661"/>
                  <a:pt x="8012" y="9748"/>
                </a:cubicBezTo>
                <a:cubicBezTo>
                  <a:pt x="8009" y="9816"/>
                  <a:pt x="7991" y="9860"/>
                  <a:pt x="7987" y="9922"/>
                </a:cubicBezTo>
                <a:cubicBezTo>
                  <a:pt x="7983" y="9980"/>
                  <a:pt x="8001" y="10020"/>
                  <a:pt x="7962" y="10046"/>
                </a:cubicBezTo>
              </a:path>
              <a:path w="9228" h="3300">
                <a:moveTo>
                  <a:pt x="2456" y="8037"/>
                </a:moveTo>
                <a:cubicBezTo>
                  <a:pt x="2580" y="8037"/>
                  <a:pt x="2704" y="8037"/>
                  <a:pt x="2828" y="8037"/>
                </a:cubicBezTo>
              </a:path>
              <a:path w="9228" h="3300">
                <a:moveTo>
                  <a:pt x="2381" y="8086"/>
                </a:moveTo>
                <a:cubicBezTo>
                  <a:pt x="2314" y="8207"/>
                  <a:pt x="2307" y="8186"/>
                  <a:pt x="2307" y="8285"/>
                </a:cubicBezTo>
                <a:cubicBezTo>
                  <a:pt x="2307" y="8310"/>
                  <a:pt x="2307" y="8318"/>
                  <a:pt x="2307" y="8334"/>
                </a:cubicBezTo>
                <a:cubicBezTo>
                  <a:pt x="2361" y="8334"/>
                  <a:pt x="2382" y="8321"/>
                  <a:pt x="2406" y="8310"/>
                </a:cubicBezTo>
                <a:cubicBezTo>
                  <a:pt x="2438" y="8294"/>
                  <a:pt x="2465" y="8285"/>
                  <a:pt x="2505" y="8285"/>
                </a:cubicBezTo>
                <a:cubicBezTo>
                  <a:pt x="2565" y="8285"/>
                  <a:pt x="2571" y="8315"/>
                  <a:pt x="2629" y="8334"/>
                </a:cubicBezTo>
                <a:cubicBezTo>
                  <a:pt x="2690" y="8354"/>
                  <a:pt x="2679" y="8425"/>
                  <a:pt x="2679" y="8483"/>
                </a:cubicBezTo>
                <a:cubicBezTo>
                  <a:pt x="2679" y="8598"/>
                  <a:pt x="2638" y="8660"/>
                  <a:pt x="2530" y="8706"/>
                </a:cubicBezTo>
                <a:cubicBezTo>
                  <a:pt x="2477" y="8728"/>
                  <a:pt x="2367" y="8706"/>
                  <a:pt x="2307" y="8706"/>
                </a:cubicBezTo>
                <a:cubicBezTo>
                  <a:pt x="2299" y="8649"/>
                  <a:pt x="2281" y="8645"/>
                  <a:pt x="2307" y="8632"/>
                </a:cubicBezTo>
              </a:path>
              <a:path w="9228" h="3300">
                <a:moveTo>
                  <a:pt x="2927" y="8161"/>
                </a:moveTo>
                <a:cubicBezTo>
                  <a:pt x="2914" y="8223"/>
                  <a:pt x="2876" y="8274"/>
                  <a:pt x="2853" y="8334"/>
                </a:cubicBezTo>
                <a:cubicBezTo>
                  <a:pt x="2825" y="8405"/>
                  <a:pt x="2781" y="8487"/>
                  <a:pt x="2778" y="8558"/>
                </a:cubicBezTo>
                <a:cubicBezTo>
                  <a:pt x="2774" y="8648"/>
                  <a:pt x="2805" y="8641"/>
                  <a:pt x="2853" y="8706"/>
                </a:cubicBezTo>
                <a:cubicBezTo>
                  <a:pt x="2897" y="8668"/>
                  <a:pt x="2970" y="8681"/>
                  <a:pt x="3001" y="8632"/>
                </a:cubicBezTo>
                <a:cubicBezTo>
                  <a:pt x="3045" y="8562"/>
                  <a:pt x="3051" y="8488"/>
                  <a:pt x="3051" y="8409"/>
                </a:cubicBezTo>
                <a:cubicBezTo>
                  <a:pt x="3051" y="8326"/>
                  <a:pt x="3015" y="8304"/>
                  <a:pt x="2952" y="8235"/>
                </a:cubicBezTo>
                <a:cubicBezTo>
                  <a:pt x="2917" y="8196"/>
                  <a:pt x="2916" y="8226"/>
                  <a:pt x="2902" y="8186"/>
                </a:cubicBezTo>
              </a:path>
              <a:path w="9228" h="3300">
                <a:moveTo>
                  <a:pt x="3473" y="7938"/>
                </a:moveTo>
                <a:cubicBezTo>
                  <a:pt x="3406" y="8023"/>
                  <a:pt x="3320" y="8110"/>
                  <a:pt x="3274" y="8210"/>
                </a:cubicBezTo>
                <a:cubicBezTo>
                  <a:pt x="3233" y="8299"/>
                  <a:pt x="3204" y="8386"/>
                  <a:pt x="3200" y="8483"/>
                </a:cubicBezTo>
                <a:cubicBezTo>
                  <a:pt x="3197" y="8574"/>
                  <a:pt x="3195" y="8634"/>
                  <a:pt x="3249" y="8706"/>
                </a:cubicBezTo>
                <a:cubicBezTo>
                  <a:pt x="3284" y="8753"/>
                  <a:pt x="3339" y="8796"/>
                  <a:pt x="3398" y="8806"/>
                </a:cubicBezTo>
                <a:cubicBezTo>
                  <a:pt x="3443" y="8806"/>
                  <a:pt x="3456" y="8809"/>
                  <a:pt x="3473" y="8781"/>
                </a:cubicBezTo>
              </a:path>
              <a:path w="9228" h="3300">
                <a:moveTo>
                  <a:pt x="3696" y="8037"/>
                </a:moveTo>
                <a:cubicBezTo>
                  <a:pt x="3724" y="8148"/>
                  <a:pt x="3701" y="8202"/>
                  <a:pt x="3696" y="8310"/>
                </a:cubicBezTo>
                <a:cubicBezTo>
                  <a:pt x="3692" y="8396"/>
                  <a:pt x="3671" y="8469"/>
                  <a:pt x="3671" y="8558"/>
                </a:cubicBezTo>
                <a:cubicBezTo>
                  <a:pt x="3671" y="8618"/>
                  <a:pt x="3658" y="8681"/>
                  <a:pt x="3696" y="8706"/>
                </a:cubicBezTo>
              </a:path>
              <a:path w="9228" h="3300">
                <a:moveTo>
                  <a:pt x="3894" y="8657"/>
                </a:moveTo>
                <a:cubicBezTo>
                  <a:pt x="3894" y="8632"/>
                  <a:pt x="3894" y="8624"/>
                  <a:pt x="3919" y="8632"/>
                </a:cubicBezTo>
              </a:path>
              <a:path w="9228" h="3300">
                <a:moveTo>
                  <a:pt x="4217" y="8210"/>
                </a:moveTo>
                <a:cubicBezTo>
                  <a:pt x="4148" y="8335"/>
                  <a:pt x="4101" y="8417"/>
                  <a:pt x="4093" y="8558"/>
                </a:cubicBezTo>
                <a:cubicBezTo>
                  <a:pt x="4091" y="8597"/>
                  <a:pt x="4099" y="8685"/>
                  <a:pt x="4142" y="8706"/>
                </a:cubicBezTo>
                <a:cubicBezTo>
                  <a:pt x="4216" y="8743"/>
                  <a:pt x="4366" y="8699"/>
                  <a:pt x="4415" y="8657"/>
                </a:cubicBezTo>
                <a:cubicBezTo>
                  <a:pt x="4458" y="8621"/>
                  <a:pt x="4484" y="8536"/>
                  <a:pt x="4490" y="8483"/>
                </a:cubicBezTo>
                <a:cubicBezTo>
                  <a:pt x="4498" y="8420"/>
                  <a:pt x="4473" y="8314"/>
                  <a:pt x="4440" y="8260"/>
                </a:cubicBezTo>
                <a:cubicBezTo>
                  <a:pt x="4403" y="8200"/>
                  <a:pt x="4354" y="8166"/>
                  <a:pt x="4291" y="8161"/>
                </a:cubicBezTo>
                <a:cubicBezTo>
                  <a:pt x="4250" y="8158"/>
                  <a:pt x="4192" y="8146"/>
                  <a:pt x="4167" y="8186"/>
                </a:cubicBezTo>
                <a:cubicBezTo>
                  <a:pt x="4149" y="8214"/>
                  <a:pt x="4179" y="8243"/>
                  <a:pt x="4192" y="8260"/>
                </a:cubicBezTo>
              </a:path>
              <a:path w="9228" h="3300">
                <a:moveTo>
                  <a:pt x="4638" y="8409"/>
                </a:moveTo>
                <a:cubicBezTo>
                  <a:pt x="4603" y="8480"/>
                  <a:pt x="4537" y="8570"/>
                  <a:pt x="4564" y="8657"/>
                </a:cubicBezTo>
                <a:cubicBezTo>
                  <a:pt x="4585" y="8722"/>
                  <a:pt x="4609" y="8706"/>
                  <a:pt x="4663" y="8706"/>
                </a:cubicBezTo>
                <a:cubicBezTo>
                  <a:pt x="4782" y="8706"/>
                  <a:pt x="4775" y="8673"/>
                  <a:pt x="4862" y="8582"/>
                </a:cubicBezTo>
                <a:cubicBezTo>
                  <a:pt x="4898" y="8544"/>
                  <a:pt x="4906" y="8413"/>
                  <a:pt x="4887" y="8359"/>
                </a:cubicBezTo>
                <a:cubicBezTo>
                  <a:pt x="4872" y="8317"/>
                  <a:pt x="4775" y="8258"/>
                  <a:pt x="4738" y="8260"/>
                </a:cubicBezTo>
                <a:cubicBezTo>
                  <a:pt x="4671" y="8263"/>
                  <a:pt x="4604" y="8315"/>
                  <a:pt x="4539" y="8334"/>
                </a:cubicBezTo>
                <a:cubicBezTo>
                  <a:pt x="4514" y="8334"/>
                  <a:pt x="4506" y="8334"/>
                  <a:pt x="4514" y="8359"/>
                </a:cubicBezTo>
                <a:cubicBezTo>
                  <a:pt x="4522" y="8405"/>
                  <a:pt x="4535" y="8422"/>
                  <a:pt x="4589" y="8434"/>
                </a:cubicBezTo>
                <a:cubicBezTo>
                  <a:pt x="4633" y="8444"/>
                  <a:pt x="4693" y="8434"/>
                  <a:pt x="4738" y="8434"/>
                </a:cubicBezTo>
              </a:path>
              <a:path w="9228" h="3300">
                <a:moveTo>
                  <a:pt x="5060" y="8186"/>
                </a:moveTo>
                <a:cubicBezTo>
                  <a:pt x="5150" y="8186"/>
                  <a:pt x="5225" y="8174"/>
                  <a:pt x="5308" y="8161"/>
                </a:cubicBezTo>
                <a:cubicBezTo>
                  <a:pt x="5338" y="8156"/>
                  <a:pt x="5376" y="8161"/>
                  <a:pt x="5407" y="8161"/>
                </a:cubicBezTo>
              </a:path>
              <a:path w="9228" h="3300">
                <a:moveTo>
                  <a:pt x="5110" y="8235"/>
                </a:moveTo>
                <a:cubicBezTo>
                  <a:pt x="5069" y="8284"/>
                  <a:pt x="4951" y="8379"/>
                  <a:pt x="5085" y="8409"/>
                </a:cubicBezTo>
                <a:cubicBezTo>
                  <a:pt x="5153" y="8424"/>
                  <a:pt x="5184" y="8401"/>
                  <a:pt x="5234" y="8359"/>
                </a:cubicBezTo>
                <a:cubicBezTo>
                  <a:pt x="5296" y="8307"/>
                  <a:pt x="5309" y="8388"/>
                  <a:pt x="5333" y="8409"/>
                </a:cubicBezTo>
                <a:cubicBezTo>
                  <a:pt x="5382" y="8451"/>
                  <a:pt x="5364" y="8498"/>
                  <a:pt x="5358" y="8558"/>
                </a:cubicBezTo>
                <a:cubicBezTo>
                  <a:pt x="5351" y="8633"/>
                  <a:pt x="5348" y="8673"/>
                  <a:pt x="5283" y="8706"/>
                </a:cubicBezTo>
                <a:cubicBezTo>
                  <a:pt x="5223" y="8736"/>
                  <a:pt x="5176" y="8731"/>
                  <a:pt x="5110" y="8731"/>
                </a:cubicBezTo>
                <a:cubicBezTo>
                  <a:pt x="5065" y="8731"/>
                  <a:pt x="5026" y="8698"/>
                  <a:pt x="5011" y="8657"/>
                </a:cubicBezTo>
                <a:cubicBezTo>
                  <a:pt x="5001" y="8629"/>
                  <a:pt x="5011" y="8588"/>
                  <a:pt x="5011" y="8558"/>
                </a:cubicBezTo>
              </a:path>
              <a:path w="9228" h="3300">
                <a:moveTo>
                  <a:pt x="5507" y="7938"/>
                </a:moveTo>
                <a:cubicBezTo>
                  <a:pt x="5620" y="8129"/>
                  <a:pt x="5746" y="8256"/>
                  <a:pt x="5705" y="8483"/>
                </a:cubicBezTo>
                <a:cubicBezTo>
                  <a:pt x="5685" y="8594"/>
                  <a:pt x="5602" y="8621"/>
                  <a:pt x="5556" y="8706"/>
                </a:cubicBezTo>
                <a:cubicBezTo>
                  <a:pt x="5511" y="8788"/>
                  <a:pt x="5505" y="8792"/>
                  <a:pt x="5432" y="885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1062000" y="3705120"/>
            <a:ext cx="241200" cy="385920"/>
          </a:xfrm>
          <a:custGeom>
            <a:avLst/>
            <a:gdLst/>
            <a:ahLst/>
            <a:rect l="l" t="t" r="r" b="b"/>
            <a:pathLst>
              <a:path w="670" h="1068">
                <a:moveTo>
                  <a:pt x="3621" y="10492"/>
                </a:moveTo>
                <a:cubicBezTo>
                  <a:pt x="3524" y="10492"/>
                  <a:pt x="3414" y="10473"/>
                  <a:pt x="3324" y="10517"/>
                </a:cubicBezTo>
                <a:cubicBezTo>
                  <a:pt x="3269" y="10543"/>
                  <a:pt x="3093" y="10603"/>
                  <a:pt x="3076" y="10641"/>
                </a:cubicBezTo>
                <a:cubicBezTo>
                  <a:pt x="3052" y="10697"/>
                  <a:pt x="3051" y="10792"/>
                  <a:pt x="3101" y="10840"/>
                </a:cubicBezTo>
                <a:cubicBezTo>
                  <a:pt x="3193" y="10927"/>
                  <a:pt x="3325" y="10981"/>
                  <a:pt x="3423" y="11063"/>
                </a:cubicBezTo>
                <a:cubicBezTo>
                  <a:pt x="3481" y="11111"/>
                  <a:pt x="3555" y="11175"/>
                  <a:pt x="3522" y="11261"/>
                </a:cubicBezTo>
                <a:cubicBezTo>
                  <a:pt x="3497" y="11326"/>
                  <a:pt x="3353" y="11344"/>
                  <a:pt x="3299" y="11336"/>
                </a:cubicBezTo>
                <a:cubicBezTo>
                  <a:pt x="3205" y="11322"/>
                  <a:pt x="3111" y="11279"/>
                  <a:pt x="3026" y="11237"/>
                </a:cubicBezTo>
                <a:cubicBezTo>
                  <a:pt x="2956" y="11202"/>
                  <a:pt x="2961" y="11183"/>
                  <a:pt x="2952" y="11112"/>
                </a:cubicBezTo>
              </a:path>
              <a:path w="670" h="1068">
                <a:moveTo>
                  <a:pt x="3299" y="10344"/>
                </a:moveTo>
                <a:cubicBezTo>
                  <a:pt x="3173" y="10481"/>
                  <a:pt x="3163" y="10546"/>
                  <a:pt x="3101" y="10716"/>
                </a:cubicBezTo>
                <a:cubicBezTo>
                  <a:pt x="3048" y="10861"/>
                  <a:pt x="3000" y="11006"/>
                  <a:pt x="2977" y="11162"/>
                </a:cubicBezTo>
                <a:cubicBezTo>
                  <a:pt x="2977" y="11203"/>
                  <a:pt x="2968" y="11220"/>
                  <a:pt x="3001" y="11212"/>
                </a:cubicBezTo>
              </a:path>
              <a:path w="670" h="1068">
                <a:moveTo>
                  <a:pt x="3349" y="10294"/>
                </a:moveTo>
                <a:cubicBezTo>
                  <a:pt x="3364" y="10470"/>
                  <a:pt x="3368" y="10661"/>
                  <a:pt x="3349" y="10840"/>
                </a:cubicBezTo>
                <a:cubicBezTo>
                  <a:pt x="3332" y="11001"/>
                  <a:pt x="3301" y="11152"/>
                  <a:pt x="3349" y="11311"/>
                </a:cubicBezTo>
                <a:cubicBezTo>
                  <a:pt x="3357" y="11328"/>
                  <a:pt x="3365" y="11344"/>
                  <a:pt x="3373" y="1136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446120" y="3867120"/>
            <a:ext cx="1359000" cy="392040"/>
          </a:xfrm>
          <a:custGeom>
            <a:avLst/>
            <a:gdLst/>
            <a:ahLst/>
            <a:rect l="l" t="t" r="r" b="b"/>
            <a:pathLst>
              <a:path w="3772" h="1093">
                <a:moveTo>
                  <a:pt x="4068" y="10740"/>
                </a:moveTo>
                <a:cubicBezTo>
                  <a:pt x="4068" y="10893"/>
                  <a:pt x="4060" y="11038"/>
                  <a:pt x="4043" y="11187"/>
                </a:cubicBezTo>
                <a:cubicBezTo>
                  <a:pt x="4030" y="11299"/>
                  <a:pt x="4043" y="11402"/>
                  <a:pt x="4018" y="11509"/>
                </a:cubicBezTo>
                <a:cubicBezTo>
                  <a:pt x="4008" y="11553"/>
                  <a:pt x="4011" y="11598"/>
                  <a:pt x="4043" y="11609"/>
                </a:cubicBezTo>
              </a:path>
              <a:path w="3772" h="1093">
                <a:moveTo>
                  <a:pt x="4316" y="10964"/>
                </a:moveTo>
                <a:cubicBezTo>
                  <a:pt x="4385" y="10874"/>
                  <a:pt x="4402" y="10821"/>
                  <a:pt x="4514" y="10815"/>
                </a:cubicBezTo>
                <a:cubicBezTo>
                  <a:pt x="4588" y="10811"/>
                  <a:pt x="4647" y="10814"/>
                  <a:pt x="4688" y="10889"/>
                </a:cubicBezTo>
                <a:cubicBezTo>
                  <a:pt x="4744" y="10992"/>
                  <a:pt x="4745" y="11077"/>
                  <a:pt x="4713" y="11187"/>
                </a:cubicBezTo>
                <a:cubicBezTo>
                  <a:pt x="4686" y="11280"/>
                  <a:pt x="4646" y="11409"/>
                  <a:pt x="4589" y="11485"/>
                </a:cubicBezTo>
                <a:cubicBezTo>
                  <a:pt x="4544" y="11545"/>
                  <a:pt x="4500" y="11574"/>
                  <a:pt x="4440" y="11609"/>
                </a:cubicBezTo>
                <a:cubicBezTo>
                  <a:pt x="4388" y="11596"/>
                  <a:pt x="4372" y="11566"/>
                  <a:pt x="4366" y="11509"/>
                </a:cubicBezTo>
                <a:cubicBezTo>
                  <a:pt x="4363" y="11474"/>
                  <a:pt x="4351" y="11405"/>
                  <a:pt x="4390" y="11385"/>
                </a:cubicBezTo>
                <a:cubicBezTo>
                  <a:pt x="4443" y="11358"/>
                  <a:pt x="4498" y="11413"/>
                  <a:pt x="4539" y="11435"/>
                </a:cubicBezTo>
                <a:cubicBezTo>
                  <a:pt x="4614" y="11475"/>
                  <a:pt x="4692" y="11534"/>
                  <a:pt x="4762" y="11584"/>
                </a:cubicBezTo>
                <a:cubicBezTo>
                  <a:pt x="4799" y="11611"/>
                  <a:pt x="4814" y="11609"/>
                  <a:pt x="4862" y="11609"/>
                </a:cubicBezTo>
              </a:path>
              <a:path w="3772" h="1093">
                <a:moveTo>
                  <a:pt x="4986" y="10914"/>
                </a:moveTo>
                <a:cubicBezTo>
                  <a:pt x="5075" y="10920"/>
                  <a:pt x="5145" y="10939"/>
                  <a:pt x="5234" y="10939"/>
                </a:cubicBezTo>
                <a:cubicBezTo>
                  <a:pt x="5270" y="10939"/>
                  <a:pt x="5352" y="10947"/>
                  <a:pt x="5383" y="10964"/>
                </a:cubicBezTo>
                <a:cubicBezTo>
                  <a:pt x="5429" y="10989"/>
                  <a:pt x="5407" y="11036"/>
                  <a:pt x="5383" y="11063"/>
                </a:cubicBezTo>
                <a:cubicBezTo>
                  <a:pt x="5327" y="11127"/>
                  <a:pt x="5340" y="11187"/>
                  <a:pt x="5308" y="11261"/>
                </a:cubicBezTo>
                <a:cubicBezTo>
                  <a:pt x="5271" y="11348"/>
                  <a:pt x="5300" y="11419"/>
                  <a:pt x="5283" y="11509"/>
                </a:cubicBezTo>
                <a:cubicBezTo>
                  <a:pt x="5281" y="11522"/>
                  <a:pt x="5252" y="11651"/>
                  <a:pt x="5259" y="11658"/>
                </a:cubicBezTo>
                <a:cubicBezTo>
                  <a:pt x="5283" y="11658"/>
                  <a:pt x="5291" y="11658"/>
                  <a:pt x="5283" y="11633"/>
                </a:cubicBezTo>
              </a:path>
              <a:path w="3772" h="1093">
                <a:moveTo>
                  <a:pt x="5531" y="10939"/>
                </a:moveTo>
                <a:cubicBezTo>
                  <a:pt x="5659" y="10916"/>
                  <a:pt x="5709" y="10908"/>
                  <a:pt x="5829" y="10939"/>
                </a:cubicBezTo>
                <a:cubicBezTo>
                  <a:pt x="5901" y="10958"/>
                  <a:pt x="5967" y="10968"/>
                  <a:pt x="6028" y="10988"/>
                </a:cubicBezTo>
                <a:cubicBezTo>
                  <a:pt x="6065" y="11000"/>
                  <a:pt x="6052" y="11020"/>
                  <a:pt x="6052" y="11063"/>
                </a:cubicBezTo>
                <a:cubicBezTo>
                  <a:pt x="6052" y="11146"/>
                  <a:pt x="5991" y="11208"/>
                  <a:pt x="5978" y="11286"/>
                </a:cubicBezTo>
                <a:cubicBezTo>
                  <a:pt x="5965" y="11362"/>
                  <a:pt x="5940" y="11435"/>
                  <a:pt x="5928" y="11509"/>
                </a:cubicBezTo>
                <a:cubicBezTo>
                  <a:pt x="5919" y="11563"/>
                  <a:pt x="5928" y="11627"/>
                  <a:pt x="5928" y="11683"/>
                </a:cubicBezTo>
              </a:path>
              <a:path w="3772" h="1093">
                <a:moveTo>
                  <a:pt x="6226" y="11708"/>
                </a:moveTo>
                <a:cubicBezTo>
                  <a:pt x="6254" y="11708"/>
                  <a:pt x="6265" y="11706"/>
                  <a:pt x="6276" y="11683"/>
                </a:cubicBezTo>
              </a:path>
              <a:path w="3772" h="1093">
                <a:moveTo>
                  <a:pt x="6846" y="11088"/>
                </a:moveTo>
                <a:cubicBezTo>
                  <a:pt x="6905" y="10991"/>
                  <a:pt x="6930" y="10981"/>
                  <a:pt x="6921" y="10914"/>
                </a:cubicBezTo>
                <a:cubicBezTo>
                  <a:pt x="6874" y="10886"/>
                  <a:pt x="6808" y="10852"/>
                  <a:pt x="6747" y="10864"/>
                </a:cubicBezTo>
                <a:cubicBezTo>
                  <a:pt x="6671" y="10879"/>
                  <a:pt x="6617" y="10936"/>
                  <a:pt x="6573" y="10988"/>
                </a:cubicBezTo>
                <a:cubicBezTo>
                  <a:pt x="6529" y="11040"/>
                  <a:pt x="6502" y="11079"/>
                  <a:pt x="6548" y="11137"/>
                </a:cubicBezTo>
                <a:cubicBezTo>
                  <a:pt x="6591" y="11191"/>
                  <a:pt x="6646" y="11241"/>
                  <a:pt x="6722" y="11237"/>
                </a:cubicBezTo>
                <a:cubicBezTo>
                  <a:pt x="6742" y="11236"/>
                  <a:pt x="6830" y="11152"/>
                  <a:pt x="6846" y="11137"/>
                </a:cubicBezTo>
                <a:cubicBezTo>
                  <a:pt x="6875" y="11110"/>
                  <a:pt x="6909" y="11073"/>
                  <a:pt x="6921" y="11038"/>
                </a:cubicBezTo>
                <a:cubicBezTo>
                  <a:pt x="6921" y="11030"/>
                  <a:pt x="6921" y="11021"/>
                  <a:pt x="6921" y="11013"/>
                </a:cubicBezTo>
                <a:cubicBezTo>
                  <a:pt x="6921" y="11078"/>
                  <a:pt x="6911" y="11150"/>
                  <a:pt x="6896" y="11212"/>
                </a:cubicBezTo>
                <a:cubicBezTo>
                  <a:pt x="6871" y="11321"/>
                  <a:pt x="6871" y="11421"/>
                  <a:pt x="6871" y="11534"/>
                </a:cubicBezTo>
                <a:cubicBezTo>
                  <a:pt x="6871" y="11604"/>
                  <a:pt x="6879" y="11651"/>
                  <a:pt x="6896" y="11708"/>
                </a:cubicBezTo>
                <a:cubicBezTo>
                  <a:pt x="6896" y="11733"/>
                  <a:pt x="6896" y="11741"/>
                  <a:pt x="6896" y="11708"/>
                </a:cubicBezTo>
              </a:path>
              <a:path w="3772" h="1093">
                <a:moveTo>
                  <a:pt x="7268" y="10864"/>
                </a:moveTo>
                <a:cubicBezTo>
                  <a:pt x="7268" y="11045"/>
                  <a:pt x="7248" y="11099"/>
                  <a:pt x="7193" y="11261"/>
                </a:cubicBezTo>
                <a:cubicBezTo>
                  <a:pt x="7158" y="11365"/>
                  <a:pt x="7156" y="11481"/>
                  <a:pt x="7193" y="11584"/>
                </a:cubicBezTo>
                <a:cubicBezTo>
                  <a:pt x="7221" y="11662"/>
                  <a:pt x="7300" y="11739"/>
                  <a:pt x="7367" y="11782"/>
                </a:cubicBezTo>
                <a:cubicBezTo>
                  <a:pt x="7462" y="11844"/>
                  <a:pt x="7518" y="11824"/>
                  <a:pt x="7615" y="11782"/>
                </a:cubicBezTo>
                <a:cubicBezTo>
                  <a:pt x="7700" y="11745"/>
                  <a:pt x="7783" y="11653"/>
                  <a:pt x="7789" y="11559"/>
                </a:cubicBezTo>
                <a:cubicBezTo>
                  <a:pt x="7794" y="11490"/>
                  <a:pt x="7773" y="11485"/>
                  <a:pt x="7714" y="11485"/>
                </a:cubicBezTo>
                <a:cubicBezTo>
                  <a:pt x="7618" y="11485"/>
                  <a:pt x="7559" y="11547"/>
                  <a:pt x="7491" y="11609"/>
                </a:cubicBezTo>
                <a:cubicBezTo>
                  <a:pt x="7428" y="11667"/>
                  <a:pt x="7402" y="11728"/>
                  <a:pt x="7392" y="1180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Homework:  p. 644 (61,63,75,77,81,89,91)</a:t>
            </a:r>
            <a:endParaRPr b="0" lang="en-US" sz="4000" spc="-1" strike="noStrike">
              <a:solidFill>
                <a:srgbClr val="e3ebf1"/>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nt: on #91, write out a few years and determine 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omework from 3/23</a:t>
            </a:r>
            <a:endParaRPr b="0" lang="en-US" sz="4400" spc="-1" strike="noStrike">
              <a:solidFill>
                <a:srgbClr val="e3ebf1"/>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  </a:t>
            </a:r>
            <a:endParaRPr b="0" lang="en-US" sz="2800" spc="-1" strike="noStrike">
              <a:solidFill>
                <a:srgbClr val="ffffff"/>
              </a:solidFill>
              <a:latin typeface="Arial"/>
            </a:endParaRPr>
          </a:p>
        </p:txBody>
      </p:sp>
      <p:graphicFrame>
        <p:nvGraphicFramePr>
          <p:cNvPr id="49" name=""/>
          <p:cNvGraphicFramePr/>
          <p:nvPr/>
        </p:nvGraphicFramePr>
        <p:xfrm>
          <a:off x="1219320" y="1371600"/>
          <a:ext cx="1447560" cy="1025640"/>
        </p:xfrm>
        <a:graphic>
          <a:graphicData uri="http://schemas.openxmlformats.org/presentationml/2006/ole">
            <p:oleObj r:id="rId1" spid="">
              <p:embed/>
              <p:pic>
                <p:nvPicPr>
                  <p:cNvPr id="50" name="" descr=""/>
                  <p:cNvPicPr/>
                  <p:nvPr/>
                </p:nvPicPr>
                <p:blipFill>
                  <a:blip r:embed="rId2"/>
                  <a:stretch/>
                </p:blipFill>
                <p:spPr>
                  <a:xfrm>
                    <a:off x="1219320" y="1371600"/>
                    <a:ext cx="1447560" cy="1025640"/>
                  </a:xfrm>
                  <a:prstGeom prst="rect">
                    <a:avLst/>
                  </a:prstGeom>
                  <a:ln w="0">
                    <a:noFill/>
                  </a:ln>
                </p:spPr>
              </p:pic>
            </p:oleObj>
          </a:graphicData>
        </a:graphic>
      </p:graphicFrame>
      <p:graphicFrame>
        <p:nvGraphicFramePr>
          <p:cNvPr id="51" name=""/>
          <p:cNvGraphicFramePr/>
          <p:nvPr/>
        </p:nvGraphicFramePr>
        <p:xfrm>
          <a:off x="1295280" y="5029200"/>
          <a:ext cx="1447920" cy="895320"/>
        </p:xfrm>
        <a:graphic>
          <a:graphicData uri="http://schemas.openxmlformats.org/presentationml/2006/ole">
            <p:oleObj r:id="rId3" spid="">
              <p:embed/>
              <p:pic>
                <p:nvPicPr>
                  <p:cNvPr id="52" name="" descr=""/>
                  <p:cNvPicPr/>
                  <p:nvPr/>
                </p:nvPicPr>
                <p:blipFill>
                  <a:blip r:embed="rId4"/>
                  <a:stretch/>
                </p:blipFill>
                <p:spPr>
                  <a:xfrm>
                    <a:off x="1295280" y="5029200"/>
                    <a:ext cx="1447920" cy="895320"/>
                  </a:xfrm>
                  <a:prstGeom prst="rect">
                    <a:avLst/>
                  </a:prstGeom>
                  <a:ln w="0">
                    <a:noFill/>
                  </a:ln>
                </p:spPr>
              </p:pic>
            </p:oleObj>
          </a:graphicData>
        </a:graphic>
      </p:graphicFrame>
      <p:graphicFrame>
        <p:nvGraphicFramePr>
          <p:cNvPr id="53" name=""/>
          <p:cNvGraphicFramePr/>
          <p:nvPr/>
        </p:nvGraphicFramePr>
        <p:xfrm>
          <a:off x="1371600" y="3124080"/>
          <a:ext cx="1746360" cy="836640"/>
        </p:xfrm>
        <a:graphic>
          <a:graphicData uri="http://schemas.openxmlformats.org/presentationml/2006/ole">
            <p:oleObj r:id="rId5" spid="">
              <p:embed/>
              <p:pic>
                <p:nvPicPr>
                  <p:cNvPr id="54" name="" descr=""/>
                  <p:cNvPicPr/>
                  <p:nvPr/>
                </p:nvPicPr>
                <p:blipFill>
                  <a:blip r:embed="rId6"/>
                  <a:stretch/>
                </p:blipFill>
                <p:spPr>
                  <a:xfrm>
                    <a:off x="1371600" y="3124080"/>
                    <a:ext cx="1746360" cy="836640"/>
                  </a:xfrm>
                  <a:prstGeom prst="rect">
                    <a:avLst/>
                  </a:prstGeom>
                  <a:ln w="0">
                    <a:noFill/>
                  </a:ln>
                </p:spPr>
              </p:pic>
            </p:oleObj>
          </a:graphicData>
        </a:graphic>
      </p:graphicFrame>
      <p:sp>
        <p:nvSpPr>
          <p:cNvPr id="55" name=""/>
          <p:cNvSpPr/>
          <p:nvPr/>
        </p:nvSpPr>
        <p:spPr>
          <a:xfrm>
            <a:off x="946080" y="2500200"/>
            <a:ext cx="536760" cy="330480"/>
          </a:xfrm>
          <a:custGeom>
            <a:avLst/>
            <a:gdLst/>
            <a:ahLst/>
            <a:rect l="l" t="t" r="r" b="b"/>
            <a:pathLst>
              <a:path w="1490" h="919">
                <a:moveTo>
                  <a:pt x="2729" y="7268"/>
                </a:moveTo>
                <a:cubicBezTo>
                  <a:pt x="2718" y="7287"/>
                  <a:pt x="2666" y="7384"/>
                  <a:pt x="2654" y="7392"/>
                </a:cubicBezTo>
                <a:cubicBezTo>
                  <a:pt x="2646" y="7392"/>
                  <a:pt x="2637" y="7392"/>
                  <a:pt x="2629" y="7392"/>
                </a:cubicBezTo>
                <a:cubicBezTo>
                  <a:pt x="2727" y="7392"/>
                  <a:pt x="2811" y="7383"/>
                  <a:pt x="2902" y="7367"/>
                </a:cubicBezTo>
                <a:cubicBezTo>
                  <a:pt x="2955" y="7358"/>
                  <a:pt x="3021" y="7367"/>
                  <a:pt x="3076" y="7367"/>
                </a:cubicBezTo>
              </a:path>
              <a:path w="1490" h="919">
                <a:moveTo>
                  <a:pt x="3076" y="6945"/>
                </a:moveTo>
                <a:cubicBezTo>
                  <a:pt x="3076" y="7146"/>
                  <a:pt x="3083" y="7349"/>
                  <a:pt x="3051" y="7541"/>
                </a:cubicBezTo>
                <a:cubicBezTo>
                  <a:pt x="3040" y="7605"/>
                  <a:pt x="3065" y="7638"/>
                  <a:pt x="3026" y="7689"/>
                </a:cubicBezTo>
              </a:path>
              <a:path w="1490" h="919">
                <a:moveTo>
                  <a:pt x="2679" y="7020"/>
                </a:moveTo>
                <a:cubicBezTo>
                  <a:pt x="2661" y="7103"/>
                  <a:pt x="2654" y="7161"/>
                  <a:pt x="2654" y="7243"/>
                </a:cubicBezTo>
                <a:cubicBezTo>
                  <a:pt x="2654" y="7271"/>
                  <a:pt x="2652" y="7282"/>
                  <a:pt x="2629" y="7293"/>
                </a:cubicBezTo>
              </a:path>
              <a:path w="1490" h="919">
                <a:moveTo>
                  <a:pt x="3274" y="7516"/>
                </a:moveTo>
                <a:cubicBezTo>
                  <a:pt x="3274" y="7588"/>
                  <a:pt x="3266" y="7624"/>
                  <a:pt x="3249" y="7689"/>
                </a:cubicBezTo>
                <a:cubicBezTo>
                  <a:pt x="3241" y="7720"/>
                  <a:pt x="3240" y="7787"/>
                  <a:pt x="3225" y="7813"/>
                </a:cubicBezTo>
                <a:cubicBezTo>
                  <a:pt x="3200" y="7838"/>
                  <a:pt x="3192" y="7846"/>
                  <a:pt x="3175" y="7863"/>
                </a:cubicBezTo>
              </a:path>
              <a:path w="1490" h="919">
                <a:moveTo>
                  <a:pt x="3621" y="7094"/>
                </a:moveTo>
                <a:cubicBezTo>
                  <a:pt x="3677" y="7073"/>
                  <a:pt x="3744" y="7090"/>
                  <a:pt x="3795" y="7069"/>
                </a:cubicBezTo>
                <a:cubicBezTo>
                  <a:pt x="3838" y="7052"/>
                  <a:pt x="3880" y="7049"/>
                  <a:pt x="3919" y="7020"/>
                </a:cubicBezTo>
              </a:path>
              <a:path w="1490" h="919">
                <a:moveTo>
                  <a:pt x="3547" y="7094"/>
                </a:moveTo>
                <a:cubicBezTo>
                  <a:pt x="3532" y="7130"/>
                  <a:pt x="3465" y="7227"/>
                  <a:pt x="3473" y="7268"/>
                </a:cubicBezTo>
                <a:cubicBezTo>
                  <a:pt x="3473" y="7269"/>
                  <a:pt x="3524" y="7427"/>
                  <a:pt x="3572" y="7367"/>
                </a:cubicBezTo>
                <a:cubicBezTo>
                  <a:pt x="3593" y="7341"/>
                  <a:pt x="3611" y="7340"/>
                  <a:pt x="3646" y="7317"/>
                </a:cubicBezTo>
                <a:cubicBezTo>
                  <a:pt x="3679" y="7296"/>
                  <a:pt x="3706" y="7273"/>
                  <a:pt x="3746" y="7268"/>
                </a:cubicBezTo>
                <a:cubicBezTo>
                  <a:pt x="3786" y="7263"/>
                  <a:pt x="3819" y="7316"/>
                  <a:pt x="3845" y="7342"/>
                </a:cubicBezTo>
                <a:cubicBezTo>
                  <a:pt x="3877" y="7374"/>
                  <a:pt x="3890" y="7445"/>
                  <a:pt x="3894" y="7491"/>
                </a:cubicBezTo>
                <a:cubicBezTo>
                  <a:pt x="3899" y="7546"/>
                  <a:pt x="3855" y="7580"/>
                  <a:pt x="3820" y="7615"/>
                </a:cubicBezTo>
                <a:cubicBezTo>
                  <a:pt x="3777" y="7658"/>
                  <a:pt x="3706" y="7661"/>
                  <a:pt x="3646" y="7665"/>
                </a:cubicBezTo>
                <a:cubicBezTo>
                  <a:pt x="3602" y="7668"/>
                  <a:pt x="3584" y="7675"/>
                  <a:pt x="3572" y="7640"/>
                </a:cubicBezTo>
              </a:path>
              <a:path w="1490" h="919">
                <a:moveTo>
                  <a:pt x="4118" y="7665"/>
                </a:moveTo>
                <a:cubicBezTo>
                  <a:pt x="4090" y="7724"/>
                  <a:pt x="4097" y="7802"/>
                  <a:pt x="4043" y="7838"/>
                </a:cubicBezTo>
                <a:cubicBezTo>
                  <a:pt x="4035" y="7838"/>
                  <a:pt x="4026" y="7838"/>
                  <a:pt x="4018" y="78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598760" y="2759040"/>
            <a:ext cx="420480" cy="9720"/>
          </a:xfrm>
          <a:custGeom>
            <a:avLst/>
            <a:gdLst/>
            <a:ahLst/>
            <a:rect l="l" t="t" r="r" b="b"/>
            <a:pathLst>
              <a:path w="1167" h="25">
                <a:moveTo>
                  <a:pt x="4440" y="7665"/>
                </a:moveTo>
                <a:lnTo>
                  <a:pt x="4440" y="7665"/>
                </a:lnTo>
              </a:path>
              <a:path w="1167" h="25">
                <a:moveTo>
                  <a:pt x="4713" y="7665"/>
                </a:moveTo>
                <a:cubicBezTo>
                  <a:pt x="4721" y="7665"/>
                  <a:pt x="4730" y="7665"/>
                  <a:pt x="4738" y="7665"/>
                </a:cubicBezTo>
              </a:path>
              <a:path w="1167" h="25">
                <a:moveTo>
                  <a:pt x="5011" y="7689"/>
                </a:moveTo>
                <a:cubicBezTo>
                  <a:pt x="5035" y="7689"/>
                  <a:pt x="5044" y="7689"/>
                  <a:pt x="5060" y="7689"/>
                </a:cubicBezTo>
              </a:path>
              <a:path w="1167" h="25">
                <a:moveTo>
                  <a:pt x="5333" y="7689"/>
                </a:moveTo>
                <a:cubicBezTo>
                  <a:pt x="5341" y="7689"/>
                  <a:pt x="5350" y="7689"/>
                  <a:pt x="5358" y="7689"/>
                </a:cubicBezTo>
              </a:path>
              <a:path w="1167" h="25">
                <a:moveTo>
                  <a:pt x="5581" y="7689"/>
                </a:moveTo>
                <a:cubicBezTo>
                  <a:pt x="5589" y="7681"/>
                  <a:pt x="5598" y="7673"/>
                  <a:pt x="5606" y="7665"/>
                </a:cubicBezTo>
              </a:path>
            </a:pathLst>
          </a:custGeom>
          <a:noFill/>
          <a:ln cap="rnd" w="34920">
            <a:solidFill>
              <a:srgbClr val="ffffff"/>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7" name=""/>
          <p:cNvSpPr/>
          <p:nvPr/>
        </p:nvSpPr>
        <p:spPr>
          <a:xfrm>
            <a:off x="2152800" y="2463840"/>
            <a:ext cx="500040" cy="295200"/>
          </a:xfrm>
          <a:custGeom>
            <a:avLst/>
            <a:gdLst/>
            <a:ahLst/>
            <a:rect l="l" t="t" r="r" b="b"/>
            <a:pathLst>
              <a:path w="1390" h="820">
                <a:moveTo>
                  <a:pt x="6176" y="6846"/>
                </a:moveTo>
                <a:cubicBezTo>
                  <a:pt x="6226" y="6846"/>
                  <a:pt x="6275" y="6846"/>
                  <a:pt x="6325" y="6846"/>
                </a:cubicBezTo>
              </a:path>
              <a:path w="1390" h="820">
                <a:moveTo>
                  <a:pt x="6028" y="6896"/>
                </a:moveTo>
                <a:cubicBezTo>
                  <a:pt x="6012" y="6968"/>
                  <a:pt x="5985" y="7048"/>
                  <a:pt x="5978" y="7119"/>
                </a:cubicBezTo>
                <a:cubicBezTo>
                  <a:pt x="5974" y="7160"/>
                  <a:pt x="5978" y="7202"/>
                  <a:pt x="5978" y="7243"/>
                </a:cubicBezTo>
                <a:cubicBezTo>
                  <a:pt x="6008" y="7233"/>
                  <a:pt x="6019" y="7222"/>
                  <a:pt x="6052" y="7193"/>
                </a:cubicBezTo>
                <a:cubicBezTo>
                  <a:pt x="6080" y="7169"/>
                  <a:pt x="6116" y="7148"/>
                  <a:pt x="6152" y="7144"/>
                </a:cubicBezTo>
                <a:cubicBezTo>
                  <a:pt x="6179" y="7141"/>
                  <a:pt x="6259" y="7171"/>
                  <a:pt x="6276" y="7193"/>
                </a:cubicBezTo>
                <a:cubicBezTo>
                  <a:pt x="6316" y="7246"/>
                  <a:pt x="6349" y="7374"/>
                  <a:pt x="6325" y="7441"/>
                </a:cubicBezTo>
                <a:cubicBezTo>
                  <a:pt x="6315" y="7470"/>
                  <a:pt x="6252" y="7600"/>
                  <a:pt x="6201" y="7615"/>
                </a:cubicBezTo>
                <a:cubicBezTo>
                  <a:pt x="6143" y="7632"/>
                  <a:pt x="6120" y="7604"/>
                  <a:pt x="6077" y="7590"/>
                </a:cubicBezTo>
                <a:cubicBezTo>
                  <a:pt x="6029" y="7574"/>
                  <a:pt x="6028" y="7568"/>
                  <a:pt x="6028" y="7516"/>
                </a:cubicBezTo>
                <a:cubicBezTo>
                  <a:pt x="6028" y="7481"/>
                  <a:pt x="6032" y="7463"/>
                  <a:pt x="6052" y="7441"/>
                </a:cubicBezTo>
              </a:path>
              <a:path w="1390" h="820">
                <a:moveTo>
                  <a:pt x="6524" y="7020"/>
                </a:moveTo>
                <a:cubicBezTo>
                  <a:pt x="6503" y="7115"/>
                  <a:pt x="6479" y="7198"/>
                  <a:pt x="6474" y="7293"/>
                </a:cubicBezTo>
                <a:cubicBezTo>
                  <a:pt x="6470" y="7366"/>
                  <a:pt x="6470" y="7425"/>
                  <a:pt x="6499" y="7491"/>
                </a:cubicBezTo>
                <a:cubicBezTo>
                  <a:pt x="6520" y="7538"/>
                  <a:pt x="6546" y="7584"/>
                  <a:pt x="6598" y="7590"/>
                </a:cubicBezTo>
                <a:cubicBezTo>
                  <a:pt x="6632" y="7594"/>
                  <a:pt x="6725" y="7542"/>
                  <a:pt x="6747" y="7516"/>
                </a:cubicBezTo>
                <a:cubicBezTo>
                  <a:pt x="6790" y="7466"/>
                  <a:pt x="6817" y="7379"/>
                  <a:pt x="6821" y="7317"/>
                </a:cubicBezTo>
                <a:cubicBezTo>
                  <a:pt x="6825" y="7239"/>
                  <a:pt x="6774" y="7212"/>
                  <a:pt x="6722" y="7169"/>
                </a:cubicBezTo>
                <a:cubicBezTo>
                  <a:pt x="6686" y="7140"/>
                  <a:pt x="6655" y="7102"/>
                  <a:pt x="6623" y="7069"/>
                </a:cubicBezTo>
              </a:path>
              <a:path w="1390" h="820">
                <a:moveTo>
                  <a:pt x="6871" y="6871"/>
                </a:moveTo>
                <a:cubicBezTo>
                  <a:pt x="6953" y="6894"/>
                  <a:pt x="7017" y="6907"/>
                  <a:pt x="7094" y="6945"/>
                </a:cubicBezTo>
                <a:cubicBezTo>
                  <a:pt x="7172" y="6984"/>
                  <a:pt x="7193" y="6980"/>
                  <a:pt x="7193" y="7069"/>
                </a:cubicBezTo>
                <a:cubicBezTo>
                  <a:pt x="7193" y="7117"/>
                  <a:pt x="7193" y="7178"/>
                  <a:pt x="7169" y="7218"/>
                </a:cubicBezTo>
                <a:cubicBezTo>
                  <a:pt x="7152" y="7247"/>
                  <a:pt x="7097" y="7261"/>
                  <a:pt x="7069" y="7268"/>
                </a:cubicBezTo>
                <a:cubicBezTo>
                  <a:pt x="7113" y="7268"/>
                  <a:pt x="7154" y="7278"/>
                  <a:pt x="7193" y="7293"/>
                </a:cubicBezTo>
                <a:cubicBezTo>
                  <a:pt x="7263" y="7320"/>
                  <a:pt x="7298" y="7364"/>
                  <a:pt x="7342" y="7417"/>
                </a:cubicBezTo>
                <a:cubicBezTo>
                  <a:pt x="7381" y="7463"/>
                  <a:pt x="7379" y="7519"/>
                  <a:pt x="7342" y="7565"/>
                </a:cubicBezTo>
                <a:cubicBezTo>
                  <a:pt x="7297" y="7621"/>
                  <a:pt x="7277" y="7619"/>
                  <a:pt x="7218" y="7640"/>
                </a:cubicBezTo>
                <a:cubicBezTo>
                  <a:pt x="7153" y="7663"/>
                  <a:pt x="7117" y="7665"/>
                  <a:pt x="7045" y="7665"/>
                </a:cubicBezTo>
                <a:cubicBezTo>
                  <a:pt x="6995" y="7665"/>
                  <a:pt x="6978" y="7665"/>
                  <a:pt x="6945" y="766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3973680" y="1347840"/>
            <a:ext cx="4116240" cy="787320"/>
          </a:xfrm>
          <a:custGeom>
            <a:avLst/>
            <a:gdLst/>
            <a:ahLst/>
            <a:rect l="l" t="t" r="r" b="b"/>
            <a:pathLst>
              <a:path w="11436" h="2183">
                <a:moveTo>
                  <a:pt x="11187" y="4167"/>
                </a:moveTo>
                <a:cubicBezTo>
                  <a:pt x="11275" y="4167"/>
                  <a:pt x="11330" y="4162"/>
                  <a:pt x="11410" y="4142"/>
                </a:cubicBezTo>
                <a:cubicBezTo>
                  <a:pt x="11455" y="4131"/>
                  <a:pt x="11470" y="4162"/>
                  <a:pt x="11485" y="4118"/>
                </a:cubicBezTo>
              </a:path>
              <a:path w="11436" h="2183">
                <a:moveTo>
                  <a:pt x="11088" y="4341"/>
                </a:moveTo>
                <a:cubicBezTo>
                  <a:pt x="11088" y="4424"/>
                  <a:pt x="11088" y="4506"/>
                  <a:pt x="11088" y="4589"/>
                </a:cubicBezTo>
                <a:cubicBezTo>
                  <a:pt x="11088" y="4544"/>
                  <a:pt x="11082" y="4524"/>
                  <a:pt x="11112" y="4490"/>
                </a:cubicBezTo>
                <a:cubicBezTo>
                  <a:pt x="11159" y="4437"/>
                  <a:pt x="11156" y="4455"/>
                  <a:pt x="11212" y="4465"/>
                </a:cubicBezTo>
                <a:cubicBezTo>
                  <a:pt x="11264" y="4474"/>
                  <a:pt x="11330" y="4515"/>
                  <a:pt x="11361" y="4564"/>
                </a:cubicBezTo>
                <a:cubicBezTo>
                  <a:pt x="11399" y="4625"/>
                  <a:pt x="11410" y="4642"/>
                  <a:pt x="11410" y="4713"/>
                </a:cubicBezTo>
                <a:cubicBezTo>
                  <a:pt x="11410" y="4758"/>
                  <a:pt x="11403" y="4785"/>
                  <a:pt x="11361" y="4812"/>
                </a:cubicBezTo>
                <a:cubicBezTo>
                  <a:pt x="11304" y="4849"/>
                  <a:pt x="11252" y="4872"/>
                  <a:pt x="11187" y="4887"/>
                </a:cubicBezTo>
                <a:cubicBezTo>
                  <a:pt x="11162" y="4893"/>
                  <a:pt x="11097" y="4876"/>
                  <a:pt x="11088" y="4862"/>
                </a:cubicBezTo>
                <a:cubicBezTo>
                  <a:pt x="11070" y="4834"/>
                  <a:pt x="11100" y="4804"/>
                  <a:pt x="11112" y="4787"/>
                </a:cubicBezTo>
              </a:path>
              <a:path w="11436" h="2183">
                <a:moveTo>
                  <a:pt x="11534" y="4440"/>
                </a:moveTo>
                <a:cubicBezTo>
                  <a:pt x="11522" y="4520"/>
                  <a:pt x="11456" y="4701"/>
                  <a:pt x="11509" y="4787"/>
                </a:cubicBezTo>
                <a:cubicBezTo>
                  <a:pt x="11542" y="4841"/>
                  <a:pt x="11577" y="4837"/>
                  <a:pt x="11633" y="4837"/>
                </a:cubicBezTo>
                <a:cubicBezTo>
                  <a:pt x="11704" y="4837"/>
                  <a:pt x="11790" y="4772"/>
                  <a:pt x="11832" y="4713"/>
                </a:cubicBezTo>
                <a:cubicBezTo>
                  <a:pt x="11870" y="4660"/>
                  <a:pt x="11899" y="4580"/>
                  <a:pt x="11881" y="4514"/>
                </a:cubicBezTo>
                <a:cubicBezTo>
                  <a:pt x="11858" y="4429"/>
                  <a:pt x="11845" y="4422"/>
                  <a:pt x="11782" y="4366"/>
                </a:cubicBezTo>
                <a:cubicBezTo>
                  <a:pt x="11741" y="4330"/>
                  <a:pt x="11738" y="4316"/>
                  <a:pt x="11683" y="4316"/>
                </a:cubicBezTo>
                <a:cubicBezTo>
                  <a:pt x="11675" y="4316"/>
                  <a:pt x="11666" y="4316"/>
                  <a:pt x="11658" y="4316"/>
                </a:cubicBezTo>
              </a:path>
              <a:path w="11436" h="2183">
                <a:moveTo>
                  <a:pt x="12080" y="4390"/>
                </a:moveTo>
                <a:cubicBezTo>
                  <a:pt x="12037" y="4532"/>
                  <a:pt x="11948" y="4644"/>
                  <a:pt x="12055" y="4762"/>
                </a:cubicBezTo>
                <a:cubicBezTo>
                  <a:pt x="12091" y="4802"/>
                  <a:pt x="12124" y="4833"/>
                  <a:pt x="12179" y="4837"/>
                </a:cubicBezTo>
                <a:cubicBezTo>
                  <a:pt x="12245" y="4841"/>
                  <a:pt x="12306" y="4806"/>
                  <a:pt x="12353" y="4762"/>
                </a:cubicBezTo>
                <a:cubicBezTo>
                  <a:pt x="12414" y="4705"/>
                  <a:pt x="12447" y="4646"/>
                  <a:pt x="12452" y="4564"/>
                </a:cubicBezTo>
                <a:cubicBezTo>
                  <a:pt x="12458" y="4459"/>
                  <a:pt x="12450" y="4438"/>
                  <a:pt x="12378" y="4366"/>
                </a:cubicBezTo>
                <a:cubicBezTo>
                  <a:pt x="12347" y="4335"/>
                  <a:pt x="12246" y="4296"/>
                  <a:pt x="12204" y="4291"/>
                </a:cubicBezTo>
                <a:cubicBezTo>
                  <a:pt x="12146" y="4284"/>
                  <a:pt x="12100" y="4289"/>
                  <a:pt x="12055" y="4316"/>
                </a:cubicBezTo>
              </a:path>
              <a:path w="11436" h="2183">
                <a:moveTo>
                  <a:pt x="11038" y="4961"/>
                </a:moveTo>
                <a:cubicBezTo>
                  <a:pt x="11316" y="4961"/>
                  <a:pt x="11674" y="4909"/>
                  <a:pt x="11931" y="4986"/>
                </a:cubicBezTo>
                <a:cubicBezTo>
                  <a:pt x="11938" y="4988"/>
                  <a:pt x="12024" y="4986"/>
                  <a:pt x="11956" y="4986"/>
                </a:cubicBezTo>
              </a:path>
              <a:path w="11436" h="2183">
                <a:moveTo>
                  <a:pt x="11212" y="5333"/>
                </a:moveTo>
                <a:cubicBezTo>
                  <a:pt x="11273" y="5299"/>
                  <a:pt x="11340" y="5268"/>
                  <a:pt x="11410" y="5259"/>
                </a:cubicBezTo>
                <a:cubicBezTo>
                  <a:pt x="11487" y="5249"/>
                  <a:pt x="11539" y="5267"/>
                  <a:pt x="11609" y="5283"/>
                </a:cubicBezTo>
                <a:cubicBezTo>
                  <a:pt x="11637" y="5289"/>
                  <a:pt x="11673" y="5339"/>
                  <a:pt x="11658" y="5383"/>
                </a:cubicBezTo>
                <a:cubicBezTo>
                  <a:pt x="11643" y="5426"/>
                  <a:pt x="11568" y="5527"/>
                  <a:pt x="11534" y="5556"/>
                </a:cubicBezTo>
                <a:cubicBezTo>
                  <a:pt x="11483" y="5600"/>
                  <a:pt x="11418" y="5667"/>
                  <a:pt x="11361" y="5705"/>
                </a:cubicBezTo>
                <a:cubicBezTo>
                  <a:pt x="11304" y="5743"/>
                  <a:pt x="11286" y="5736"/>
                  <a:pt x="11286" y="5804"/>
                </a:cubicBezTo>
                <a:cubicBezTo>
                  <a:pt x="11286" y="5812"/>
                  <a:pt x="11286" y="5821"/>
                  <a:pt x="11286" y="5829"/>
                </a:cubicBezTo>
                <a:cubicBezTo>
                  <a:pt x="11367" y="5829"/>
                  <a:pt x="11433" y="5822"/>
                  <a:pt x="11509" y="5804"/>
                </a:cubicBezTo>
                <a:cubicBezTo>
                  <a:pt x="11565" y="5791"/>
                  <a:pt x="11665" y="5832"/>
                  <a:pt x="11683" y="5779"/>
                </a:cubicBezTo>
              </a:path>
              <a:path w="11436" h="2183">
                <a:moveTo>
                  <a:pt x="12849" y="4242"/>
                </a:moveTo>
                <a:cubicBezTo>
                  <a:pt x="12801" y="4288"/>
                  <a:pt x="12784" y="4334"/>
                  <a:pt x="12750" y="4390"/>
                </a:cubicBezTo>
                <a:cubicBezTo>
                  <a:pt x="12683" y="4500"/>
                  <a:pt x="12632" y="4602"/>
                  <a:pt x="12576" y="4713"/>
                </a:cubicBezTo>
                <a:cubicBezTo>
                  <a:pt x="12510" y="4844"/>
                  <a:pt x="12505" y="4944"/>
                  <a:pt x="12477" y="5085"/>
                </a:cubicBezTo>
                <a:cubicBezTo>
                  <a:pt x="12454" y="5204"/>
                  <a:pt x="12460" y="5268"/>
                  <a:pt x="12477" y="5383"/>
                </a:cubicBezTo>
                <a:cubicBezTo>
                  <a:pt x="12486" y="5442"/>
                  <a:pt x="12490" y="5510"/>
                  <a:pt x="12526" y="5556"/>
                </a:cubicBezTo>
                <a:cubicBezTo>
                  <a:pt x="12548" y="5584"/>
                  <a:pt x="12603" y="5608"/>
                  <a:pt x="12576" y="5581"/>
                </a:cubicBezTo>
                <a:cubicBezTo>
                  <a:pt x="12568" y="5581"/>
                  <a:pt x="12559" y="5581"/>
                  <a:pt x="12551" y="5581"/>
                </a:cubicBezTo>
              </a:path>
              <a:path w="11436" h="2183">
                <a:moveTo>
                  <a:pt x="13022" y="4663"/>
                </a:moveTo>
                <a:cubicBezTo>
                  <a:pt x="13000" y="4702"/>
                  <a:pt x="12961" y="4749"/>
                  <a:pt x="12948" y="4787"/>
                </a:cubicBezTo>
                <a:cubicBezTo>
                  <a:pt x="12939" y="4815"/>
                  <a:pt x="12930" y="4833"/>
                  <a:pt x="12923" y="4862"/>
                </a:cubicBezTo>
                <a:cubicBezTo>
                  <a:pt x="12970" y="4862"/>
                  <a:pt x="12986" y="4879"/>
                  <a:pt x="13022" y="4887"/>
                </a:cubicBezTo>
                <a:cubicBezTo>
                  <a:pt x="13093" y="4902"/>
                  <a:pt x="13165" y="4873"/>
                  <a:pt x="13221" y="4862"/>
                </a:cubicBezTo>
                <a:cubicBezTo>
                  <a:pt x="13290" y="4848"/>
                  <a:pt x="13309" y="4861"/>
                  <a:pt x="13370" y="4812"/>
                </a:cubicBezTo>
              </a:path>
              <a:path w="11436" h="2183">
                <a:moveTo>
                  <a:pt x="13320" y="4490"/>
                </a:moveTo>
                <a:cubicBezTo>
                  <a:pt x="13301" y="4657"/>
                  <a:pt x="13265" y="4826"/>
                  <a:pt x="13246" y="4986"/>
                </a:cubicBezTo>
                <a:cubicBezTo>
                  <a:pt x="13235" y="5074"/>
                  <a:pt x="13214" y="5149"/>
                  <a:pt x="13196" y="5234"/>
                </a:cubicBezTo>
                <a:cubicBezTo>
                  <a:pt x="13187" y="5274"/>
                  <a:pt x="13189" y="5370"/>
                  <a:pt x="13171" y="5333"/>
                </a:cubicBezTo>
                <a:cubicBezTo>
                  <a:pt x="13154" y="5299"/>
                  <a:pt x="13189" y="5262"/>
                  <a:pt x="13196" y="5234"/>
                </a:cubicBezTo>
              </a:path>
              <a:path w="11436" h="2183">
                <a:moveTo>
                  <a:pt x="13841" y="4564"/>
                </a:moveTo>
                <a:cubicBezTo>
                  <a:pt x="13841" y="4684"/>
                  <a:pt x="13829" y="4795"/>
                  <a:pt x="13816" y="4911"/>
                </a:cubicBezTo>
                <a:cubicBezTo>
                  <a:pt x="13807" y="4990"/>
                  <a:pt x="13804" y="5060"/>
                  <a:pt x="13791" y="5135"/>
                </a:cubicBezTo>
                <a:cubicBezTo>
                  <a:pt x="13789" y="5145"/>
                  <a:pt x="13791" y="5301"/>
                  <a:pt x="13791" y="5234"/>
                </a:cubicBezTo>
              </a:path>
              <a:path w="11436" h="2183">
                <a:moveTo>
                  <a:pt x="13568" y="4936"/>
                </a:moveTo>
                <a:cubicBezTo>
                  <a:pt x="13635" y="4936"/>
                  <a:pt x="13680" y="4950"/>
                  <a:pt x="13742" y="4961"/>
                </a:cubicBezTo>
                <a:cubicBezTo>
                  <a:pt x="13820" y="4974"/>
                  <a:pt x="13911" y="4961"/>
                  <a:pt x="13990" y="4961"/>
                </a:cubicBezTo>
              </a:path>
              <a:path w="11436" h="2183">
                <a:moveTo>
                  <a:pt x="14511" y="4539"/>
                </a:moveTo>
                <a:cubicBezTo>
                  <a:pt x="14597" y="4539"/>
                  <a:pt x="14836" y="4579"/>
                  <a:pt x="14858" y="4514"/>
                </a:cubicBezTo>
              </a:path>
              <a:path w="11436" h="2183">
                <a:moveTo>
                  <a:pt x="14362" y="4638"/>
                </a:moveTo>
                <a:cubicBezTo>
                  <a:pt x="14290" y="4767"/>
                  <a:pt x="14288" y="4745"/>
                  <a:pt x="14288" y="4862"/>
                </a:cubicBezTo>
                <a:cubicBezTo>
                  <a:pt x="14288" y="4906"/>
                  <a:pt x="14276" y="4923"/>
                  <a:pt x="14312" y="4936"/>
                </a:cubicBezTo>
                <a:cubicBezTo>
                  <a:pt x="14346" y="4925"/>
                  <a:pt x="14343" y="4901"/>
                  <a:pt x="14387" y="4887"/>
                </a:cubicBezTo>
                <a:cubicBezTo>
                  <a:pt x="14423" y="4875"/>
                  <a:pt x="14415" y="4833"/>
                  <a:pt x="14461" y="4812"/>
                </a:cubicBezTo>
                <a:cubicBezTo>
                  <a:pt x="14498" y="4796"/>
                  <a:pt x="14542" y="4787"/>
                  <a:pt x="14585" y="4787"/>
                </a:cubicBezTo>
                <a:cubicBezTo>
                  <a:pt x="14657" y="4787"/>
                  <a:pt x="14713" y="4876"/>
                  <a:pt x="14734" y="4936"/>
                </a:cubicBezTo>
                <a:cubicBezTo>
                  <a:pt x="14749" y="4980"/>
                  <a:pt x="14778" y="5086"/>
                  <a:pt x="14759" y="5135"/>
                </a:cubicBezTo>
                <a:cubicBezTo>
                  <a:pt x="14743" y="5176"/>
                  <a:pt x="14700" y="5233"/>
                  <a:pt x="14660" y="5259"/>
                </a:cubicBezTo>
                <a:cubicBezTo>
                  <a:pt x="14598" y="5300"/>
                  <a:pt x="14484" y="5305"/>
                  <a:pt x="14412" y="5308"/>
                </a:cubicBezTo>
                <a:cubicBezTo>
                  <a:pt x="14352" y="5311"/>
                  <a:pt x="14311" y="5312"/>
                  <a:pt x="14263" y="5283"/>
                </a:cubicBezTo>
                <a:cubicBezTo>
                  <a:pt x="14288" y="5259"/>
                  <a:pt x="14312" y="5234"/>
                  <a:pt x="14337" y="5209"/>
                </a:cubicBezTo>
              </a:path>
              <a:path w="11436" h="2183">
                <a:moveTo>
                  <a:pt x="15007" y="4762"/>
                </a:moveTo>
                <a:cubicBezTo>
                  <a:pt x="14930" y="4935"/>
                  <a:pt x="14883" y="4992"/>
                  <a:pt x="14883" y="5159"/>
                </a:cubicBezTo>
                <a:cubicBezTo>
                  <a:pt x="14883" y="5222"/>
                  <a:pt x="14873" y="5270"/>
                  <a:pt x="14932" y="5308"/>
                </a:cubicBezTo>
                <a:cubicBezTo>
                  <a:pt x="15023" y="5367"/>
                  <a:pt x="15106" y="5318"/>
                  <a:pt x="15180" y="5259"/>
                </a:cubicBezTo>
                <a:cubicBezTo>
                  <a:pt x="15240" y="5211"/>
                  <a:pt x="15292" y="5136"/>
                  <a:pt x="15304" y="5060"/>
                </a:cubicBezTo>
                <a:cubicBezTo>
                  <a:pt x="15319" y="4968"/>
                  <a:pt x="15310" y="4903"/>
                  <a:pt x="15255" y="4837"/>
                </a:cubicBezTo>
                <a:cubicBezTo>
                  <a:pt x="15217" y="4792"/>
                  <a:pt x="15135" y="4771"/>
                  <a:pt x="15081" y="4762"/>
                </a:cubicBezTo>
                <a:cubicBezTo>
                  <a:pt x="15043" y="4756"/>
                  <a:pt x="14996" y="4762"/>
                  <a:pt x="14957" y="4762"/>
                </a:cubicBezTo>
              </a:path>
              <a:path w="11436" h="2183">
                <a:moveTo>
                  <a:pt x="15329" y="4539"/>
                </a:moveTo>
                <a:cubicBezTo>
                  <a:pt x="15417" y="4493"/>
                  <a:pt x="15496" y="4435"/>
                  <a:pt x="15602" y="4465"/>
                </a:cubicBezTo>
                <a:cubicBezTo>
                  <a:pt x="15663" y="4482"/>
                  <a:pt x="15757" y="4526"/>
                  <a:pt x="15776" y="4589"/>
                </a:cubicBezTo>
                <a:cubicBezTo>
                  <a:pt x="15790" y="4635"/>
                  <a:pt x="15786" y="4731"/>
                  <a:pt x="15751" y="4762"/>
                </a:cubicBezTo>
                <a:cubicBezTo>
                  <a:pt x="15732" y="4779"/>
                  <a:pt x="15571" y="4884"/>
                  <a:pt x="15553" y="4911"/>
                </a:cubicBezTo>
                <a:cubicBezTo>
                  <a:pt x="15532" y="4943"/>
                  <a:pt x="15599" y="4911"/>
                  <a:pt x="15627" y="4911"/>
                </a:cubicBezTo>
                <a:cubicBezTo>
                  <a:pt x="15694" y="4911"/>
                  <a:pt x="15721" y="4919"/>
                  <a:pt x="15776" y="4961"/>
                </a:cubicBezTo>
                <a:cubicBezTo>
                  <a:pt x="15822" y="4995"/>
                  <a:pt x="15841" y="5056"/>
                  <a:pt x="15850" y="5110"/>
                </a:cubicBezTo>
                <a:cubicBezTo>
                  <a:pt x="15857" y="5154"/>
                  <a:pt x="15846" y="5224"/>
                  <a:pt x="15825" y="5259"/>
                </a:cubicBezTo>
                <a:cubicBezTo>
                  <a:pt x="15802" y="5297"/>
                  <a:pt x="15694" y="5306"/>
                  <a:pt x="15652" y="5308"/>
                </a:cubicBezTo>
                <a:cubicBezTo>
                  <a:pt x="15575" y="5312"/>
                  <a:pt x="15523" y="5299"/>
                  <a:pt x="15453" y="5283"/>
                </a:cubicBezTo>
                <a:cubicBezTo>
                  <a:pt x="15402" y="5271"/>
                  <a:pt x="15431" y="5221"/>
                  <a:pt x="15453" y="5184"/>
                </a:cubicBezTo>
              </a:path>
              <a:path w="11436" h="2183">
                <a:moveTo>
                  <a:pt x="15875" y="4167"/>
                </a:moveTo>
                <a:cubicBezTo>
                  <a:pt x="16060" y="4284"/>
                  <a:pt x="16180" y="4339"/>
                  <a:pt x="16272" y="4539"/>
                </a:cubicBezTo>
                <a:cubicBezTo>
                  <a:pt x="16330" y="4665"/>
                  <a:pt x="16371" y="4821"/>
                  <a:pt x="16346" y="4961"/>
                </a:cubicBezTo>
                <a:cubicBezTo>
                  <a:pt x="16328" y="5058"/>
                  <a:pt x="16261" y="5181"/>
                  <a:pt x="16173" y="5234"/>
                </a:cubicBezTo>
                <a:cubicBezTo>
                  <a:pt x="16082" y="5289"/>
                  <a:pt x="15911" y="5383"/>
                  <a:pt x="15801" y="5383"/>
                </a:cubicBezTo>
                <a:cubicBezTo>
                  <a:pt x="15744" y="5383"/>
                  <a:pt x="15789" y="5356"/>
                  <a:pt x="15801" y="5333"/>
                </a:cubicBezTo>
              </a:path>
              <a:path w="11436" h="2183">
                <a:moveTo>
                  <a:pt x="16669" y="4862"/>
                </a:moveTo>
                <a:cubicBezTo>
                  <a:pt x="16764" y="4890"/>
                  <a:pt x="16852" y="4928"/>
                  <a:pt x="16942" y="4936"/>
                </a:cubicBezTo>
                <a:cubicBezTo>
                  <a:pt x="16950" y="4936"/>
                  <a:pt x="16958" y="4936"/>
                  <a:pt x="16966" y="4936"/>
                </a:cubicBezTo>
              </a:path>
              <a:path w="11436" h="2183">
                <a:moveTo>
                  <a:pt x="16644" y="5209"/>
                </a:moveTo>
                <a:cubicBezTo>
                  <a:pt x="16691" y="5216"/>
                  <a:pt x="16885" y="5212"/>
                  <a:pt x="16942" y="5234"/>
                </a:cubicBezTo>
                <a:cubicBezTo>
                  <a:pt x="16950" y="5242"/>
                  <a:pt x="16958" y="5251"/>
                  <a:pt x="16966" y="5259"/>
                </a:cubicBezTo>
              </a:path>
              <a:path w="11436" h="2183">
                <a:moveTo>
                  <a:pt x="17983" y="4266"/>
                </a:moveTo>
                <a:cubicBezTo>
                  <a:pt x="17983" y="4370"/>
                  <a:pt x="17975" y="4466"/>
                  <a:pt x="17959" y="4564"/>
                </a:cubicBezTo>
                <a:cubicBezTo>
                  <a:pt x="17945" y="4654"/>
                  <a:pt x="17949" y="4750"/>
                  <a:pt x="17934" y="4837"/>
                </a:cubicBezTo>
                <a:cubicBezTo>
                  <a:pt x="17919" y="4927"/>
                  <a:pt x="17924" y="5023"/>
                  <a:pt x="17909" y="5110"/>
                </a:cubicBezTo>
                <a:cubicBezTo>
                  <a:pt x="17904" y="5141"/>
                  <a:pt x="17909" y="5309"/>
                  <a:pt x="17909" y="5259"/>
                </a:cubicBezTo>
                <a:cubicBezTo>
                  <a:pt x="17909" y="5251"/>
                  <a:pt x="17909" y="5242"/>
                  <a:pt x="17909" y="5234"/>
                </a:cubicBezTo>
              </a:path>
              <a:path w="11436" h="2183">
                <a:moveTo>
                  <a:pt x="18231" y="4465"/>
                </a:moveTo>
                <a:cubicBezTo>
                  <a:pt x="18264" y="4389"/>
                  <a:pt x="18254" y="4412"/>
                  <a:pt x="18306" y="4366"/>
                </a:cubicBezTo>
                <a:cubicBezTo>
                  <a:pt x="18362" y="4317"/>
                  <a:pt x="18431" y="4305"/>
                  <a:pt x="18504" y="4291"/>
                </a:cubicBezTo>
                <a:cubicBezTo>
                  <a:pt x="18565" y="4280"/>
                  <a:pt x="18654" y="4284"/>
                  <a:pt x="18678" y="4316"/>
                </a:cubicBezTo>
                <a:cubicBezTo>
                  <a:pt x="18711" y="4360"/>
                  <a:pt x="18703" y="4382"/>
                  <a:pt x="18703" y="4440"/>
                </a:cubicBezTo>
                <a:cubicBezTo>
                  <a:pt x="18703" y="4486"/>
                  <a:pt x="18668" y="4571"/>
                  <a:pt x="18653" y="4614"/>
                </a:cubicBezTo>
                <a:cubicBezTo>
                  <a:pt x="18630" y="4681"/>
                  <a:pt x="18586" y="4748"/>
                  <a:pt x="18554" y="4812"/>
                </a:cubicBezTo>
                <a:cubicBezTo>
                  <a:pt x="18508" y="4905"/>
                  <a:pt x="18445" y="5003"/>
                  <a:pt x="18380" y="5085"/>
                </a:cubicBezTo>
                <a:cubicBezTo>
                  <a:pt x="18341" y="5135"/>
                  <a:pt x="18298" y="5188"/>
                  <a:pt x="18256" y="5234"/>
                </a:cubicBezTo>
                <a:cubicBezTo>
                  <a:pt x="18224" y="5270"/>
                  <a:pt x="18243" y="5271"/>
                  <a:pt x="18207" y="5283"/>
                </a:cubicBezTo>
                <a:cubicBezTo>
                  <a:pt x="18240" y="5259"/>
                  <a:pt x="18251" y="5238"/>
                  <a:pt x="18281" y="5234"/>
                </a:cubicBezTo>
                <a:cubicBezTo>
                  <a:pt x="18326" y="5228"/>
                  <a:pt x="18351" y="5209"/>
                  <a:pt x="18405" y="5209"/>
                </a:cubicBezTo>
                <a:cubicBezTo>
                  <a:pt x="18447" y="5209"/>
                  <a:pt x="18477" y="5234"/>
                  <a:pt x="18529" y="5234"/>
                </a:cubicBezTo>
                <a:cubicBezTo>
                  <a:pt x="18588" y="5234"/>
                  <a:pt x="18632" y="5243"/>
                  <a:pt x="18678" y="5209"/>
                </a:cubicBezTo>
              </a:path>
              <a:path w="11436" h="2183">
                <a:moveTo>
                  <a:pt x="19025" y="4440"/>
                </a:moveTo>
                <a:cubicBezTo>
                  <a:pt x="19000" y="4528"/>
                  <a:pt x="18962" y="4626"/>
                  <a:pt x="18951" y="4713"/>
                </a:cubicBezTo>
                <a:cubicBezTo>
                  <a:pt x="18939" y="4807"/>
                  <a:pt x="18926" y="4888"/>
                  <a:pt x="18926" y="4986"/>
                </a:cubicBezTo>
                <a:cubicBezTo>
                  <a:pt x="18926" y="5062"/>
                  <a:pt x="18924" y="5101"/>
                  <a:pt x="18976" y="5159"/>
                </a:cubicBezTo>
                <a:cubicBezTo>
                  <a:pt x="19012" y="5200"/>
                  <a:pt x="19041" y="5224"/>
                  <a:pt x="19100" y="5209"/>
                </a:cubicBezTo>
                <a:cubicBezTo>
                  <a:pt x="19157" y="5194"/>
                  <a:pt x="19215" y="5162"/>
                  <a:pt x="19248" y="5110"/>
                </a:cubicBezTo>
                <a:cubicBezTo>
                  <a:pt x="19291" y="5043"/>
                  <a:pt x="19298" y="5016"/>
                  <a:pt x="19298" y="4936"/>
                </a:cubicBezTo>
                <a:cubicBezTo>
                  <a:pt x="19298" y="4858"/>
                  <a:pt x="19273" y="4875"/>
                  <a:pt x="19248" y="4837"/>
                </a:cubicBezTo>
                <a:cubicBezTo>
                  <a:pt x="19238" y="4821"/>
                  <a:pt x="19214" y="4790"/>
                  <a:pt x="19174" y="4812"/>
                </a:cubicBezTo>
                <a:cubicBezTo>
                  <a:pt x="19113" y="4846"/>
                  <a:pt x="19090" y="4883"/>
                  <a:pt x="19050" y="4936"/>
                </a:cubicBezTo>
                <a:cubicBezTo>
                  <a:pt x="19016" y="4981"/>
                  <a:pt x="18980" y="5026"/>
                  <a:pt x="18976" y="5085"/>
                </a:cubicBezTo>
                <a:cubicBezTo>
                  <a:pt x="18973" y="5138"/>
                  <a:pt x="18966" y="5195"/>
                  <a:pt x="19000" y="5234"/>
                </a:cubicBezTo>
                <a:cubicBezTo>
                  <a:pt x="19008" y="5242"/>
                  <a:pt x="19017" y="5251"/>
                  <a:pt x="19025" y="5259"/>
                </a:cubicBezTo>
              </a:path>
              <a:path w="11436" h="2183">
                <a:moveTo>
                  <a:pt x="19447" y="5110"/>
                </a:moveTo>
                <a:cubicBezTo>
                  <a:pt x="19422" y="5182"/>
                  <a:pt x="19362" y="5310"/>
                  <a:pt x="19348" y="5383"/>
                </a:cubicBezTo>
                <a:cubicBezTo>
                  <a:pt x="19344" y="5402"/>
                  <a:pt x="19337" y="5520"/>
                  <a:pt x="19323" y="5531"/>
                </a:cubicBezTo>
                <a:cubicBezTo>
                  <a:pt x="19315" y="5531"/>
                  <a:pt x="19306" y="5531"/>
                  <a:pt x="19298" y="5531"/>
                </a:cubicBezTo>
              </a:path>
              <a:path w="11436" h="2183">
                <a:moveTo>
                  <a:pt x="19695" y="4316"/>
                </a:moveTo>
                <a:cubicBezTo>
                  <a:pt x="19754" y="4316"/>
                  <a:pt x="19770" y="4295"/>
                  <a:pt x="19819" y="4291"/>
                </a:cubicBezTo>
                <a:cubicBezTo>
                  <a:pt x="19952" y="4281"/>
                  <a:pt x="20091" y="4285"/>
                  <a:pt x="20216" y="4316"/>
                </a:cubicBezTo>
                <a:cubicBezTo>
                  <a:pt x="20241" y="4316"/>
                  <a:pt x="20249" y="4316"/>
                  <a:pt x="20265" y="4316"/>
                </a:cubicBezTo>
                <a:cubicBezTo>
                  <a:pt x="20244" y="4345"/>
                  <a:pt x="20197" y="4402"/>
                  <a:pt x="20191" y="4440"/>
                </a:cubicBezTo>
                <a:cubicBezTo>
                  <a:pt x="20178" y="4526"/>
                  <a:pt x="20147" y="4630"/>
                  <a:pt x="20141" y="4713"/>
                </a:cubicBezTo>
                <a:cubicBezTo>
                  <a:pt x="20132" y="4834"/>
                  <a:pt x="20110" y="4902"/>
                  <a:pt x="20092" y="5011"/>
                </a:cubicBezTo>
                <a:cubicBezTo>
                  <a:pt x="20085" y="5050"/>
                  <a:pt x="20065" y="5158"/>
                  <a:pt x="20042" y="5184"/>
                </a:cubicBezTo>
                <a:cubicBezTo>
                  <a:pt x="20026" y="5202"/>
                  <a:pt x="20017" y="5214"/>
                  <a:pt x="20017" y="5184"/>
                </a:cubicBezTo>
              </a:path>
              <a:path w="11436" h="2183">
                <a:moveTo>
                  <a:pt x="20687" y="4390"/>
                </a:moveTo>
                <a:cubicBezTo>
                  <a:pt x="20798" y="4390"/>
                  <a:pt x="20862" y="4390"/>
                  <a:pt x="20960" y="4366"/>
                </a:cubicBezTo>
                <a:cubicBezTo>
                  <a:pt x="20968" y="4366"/>
                  <a:pt x="20977" y="4366"/>
                  <a:pt x="20985" y="4366"/>
                </a:cubicBezTo>
              </a:path>
              <a:path w="11436" h="2183">
                <a:moveTo>
                  <a:pt x="20489" y="4514"/>
                </a:moveTo>
                <a:cubicBezTo>
                  <a:pt x="20489" y="4588"/>
                  <a:pt x="20476" y="4631"/>
                  <a:pt x="20464" y="4688"/>
                </a:cubicBezTo>
                <a:cubicBezTo>
                  <a:pt x="20458" y="4715"/>
                  <a:pt x="20464" y="4758"/>
                  <a:pt x="20464" y="4787"/>
                </a:cubicBezTo>
                <a:cubicBezTo>
                  <a:pt x="20516" y="4787"/>
                  <a:pt x="20525" y="4775"/>
                  <a:pt x="20563" y="4738"/>
                </a:cubicBezTo>
                <a:cubicBezTo>
                  <a:pt x="20589" y="4713"/>
                  <a:pt x="20653" y="4692"/>
                  <a:pt x="20687" y="4688"/>
                </a:cubicBezTo>
                <a:cubicBezTo>
                  <a:pt x="20723" y="4684"/>
                  <a:pt x="20792" y="4675"/>
                  <a:pt x="20811" y="4713"/>
                </a:cubicBezTo>
                <a:cubicBezTo>
                  <a:pt x="20831" y="4754"/>
                  <a:pt x="20897" y="4814"/>
                  <a:pt x="20910" y="4862"/>
                </a:cubicBezTo>
                <a:cubicBezTo>
                  <a:pt x="20927" y="4927"/>
                  <a:pt x="20935" y="4990"/>
                  <a:pt x="20935" y="5060"/>
                </a:cubicBezTo>
                <a:cubicBezTo>
                  <a:pt x="20935" y="5127"/>
                  <a:pt x="20932" y="5157"/>
                  <a:pt x="20886" y="5209"/>
                </a:cubicBezTo>
                <a:cubicBezTo>
                  <a:pt x="20854" y="5245"/>
                  <a:pt x="20810" y="5297"/>
                  <a:pt x="20762" y="5308"/>
                </a:cubicBezTo>
                <a:cubicBezTo>
                  <a:pt x="20672" y="5329"/>
                  <a:pt x="20564" y="5298"/>
                  <a:pt x="20489" y="5283"/>
                </a:cubicBezTo>
                <a:cubicBezTo>
                  <a:pt x="20419" y="5269"/>
                  <a:pt x="20454" y="5287"/>
                  <a:pt x="20414" y="5234"/>
                </a:cubicBezTo>
              </a:path>
              <a:path w="11436" h="2183">
                <a:moveTo>
                  <a:pt x="21183" y="4961"/>
                </a:moveTo>
                <a:cubicBezTo>
                  <a:pt x="21161" y="5082"/>
                  <a:pt x="21145" y="5149"/>
                  <a:pt x="21208" y="5259"/>
                </a:cubicBezTo>
                <a:cubicBezTo>
                  <a:pt x="21228" y="5294"/>
                  <a:pt x="21320" y="5326"/>
                  <a:pt x="21357" y="5333"/>
                </a:cubicBezTo>
                <a:cubicBezTo>
                  <a:pt x="21441" y="5348"/>
                  <a:pt x="21505" y="5311"/>
                  <a:pt x="21580" y="5283"/>
                </a:cubicBezTo>
                <a:cubicBezTo>
                  <a:pt x="21687" y="5243"/>
                  <a:pt x="21748" y="5190"/>
                  <a:pt x="21828" y="5110"/>
                </a:cubicBezTo>
                <a:cubicBezTo>
                  <a:pt x="21896" y="5042"/>
                  <a:pt x="21922" y="4983"/>
                  <a:pt x="21927" y="4887"/>
                </a:cubicBezTo>
                <a:cubicBezTo>
                  <a:pt x="21930" y="4827"/>
                  <a:pt x="21929" y="4756"/>
                  <a:pt x="21878" y="4713"/>
                </a:cubicBezTo>
                <a:cubicBezTo>
                  <a:pt x="21822" y="4665"/>
                  <a:pt x="21750" y="4617"/>
                  <a:pt x="21679" y="4589"/>
                </a:cubicBezTo>
                <a:cubicBezTo>
                  <a:pt x="21578" y="4549"/>
                  <a:pt x="21509" y="4527"/>
                  <a:pt x="21406" y="4490"/>
                </a:cubicBezTo>
                <a:cubicBezTo>
                  <a:pt x="21390" y="4482"/>
                  <a:pt x="21373" y="4473"/>
                  <a:pt x="21357" y="4465"/>
                </a:cubicBezTo>
              </a:path>
              <a:path w="11436" h="2183">
                <a:moveTo>
                  <a:pt x="17537" y="4440"/>
                </a:moveTo>
                <a:cubicBezTo>
                  <a:pt x="17564" y="4768"/>
                  <a:pt x="17558" y="5085"/>
                  <a:pt x="17537" y="5407"/>
                </a:cubicBezTo>
                <a:cubicBezTo>
                  <a:pt x="17535" y="5445"/>
                  <a:pt x="17512" y="5529"/>
                  <a:pt x="17512" y="5531"/>
                </a:cubicBezTo>
                <a:cubicBezTo>
                  <a:pt x="17512" y="5539"/>
                  <a:pt x="17512" y="5548"/>
                  <a:pt x="17512" y="5556"/>
                </a:cubicBezTo>
                <a:cubicBezTo>
                  <a:pt x="17506" y="5521"/>
                  <a:pt x="17497" y="5491"/>
                  <a:pt x="17487" y="5432"/>
                </a:cubicBezTo>
                <a:cubicBezTo>
                  <a:pt x="17473" y="5350"/>
                  <a:pt x="17471" y="5271"/>
                  <a:pt x="17462" y="5184"/>
                </a:cubicBezTo>
                <a:cubicBezTo>
                  <a:pt x="17451" y="5077"/>
                  <a:pt x="17440" y="4973"/>
                  <a:pt x="17438" y="4862"/>
                </a:cubicBezTo>
                <a:cubicBezTo>
                  <a:pt x="17436" y="4750"/>
                  <a:pt x="17449" y="4648"/>
                  <a:pt x="17462" y="4539"/>
                </a:cubicBezTo>
                <a:cubicBezTo>
                  <a:pt x="17475" y="4434"/>
                  <a:pt x="17481" y="4317"/>
                  <a:pt x="17512" y="4217"/>
                </a:cubicBezTo>
                <a:cubicBezTo>
                  <a:pt x="17531" y="4157"/>
                  <a:pt x="17541" y="4097"/>
                  <a:pt x="17562" y="4043"/>
                </a:cubicBezTo>
                <a:cubicBezTo>
                  <a:pt x="17584" y="3985"/>
                  <a:pt x="17607" y="3919"/>
                  <a:pt x="17661" y="3870"/>
                </a:cubicBezTo>
                <a:cubicBezTo>
                  <a:pt x="17668" y="3864"/>
                  <a:pt x="17748" y="3823"/>
                  <a:pt x="17760" y="3820"/>
                </a:cubicBezTo>
                <a:cubicBezTo>
                  <a:pt x="17844" y="3799"/>
                  <a:pt x="17948" y="3809"/>
                  <a:pt x="18033" y="3795"/>
                </a:cubicBezTo>
                <a:cubicBezTo>
                  <a:pt x="18159" y="3774"/>
                  <a:pt x="18272" y="3783"/>
                  <a:pt x="18405" y="3770"/>
                </a:cubicBezTo>
                <a:cubicBezTo>
                  <a:pt x="18521" y="3759"/>
                  <a:pt x="18632" y="3748"/>
                  <a:pt x="18752" y="3746"/>
                </a:cubicBezTo>
                <a:cubicBezTo>
                  <a:pt x="19084" y="3741"/>
                  <a:pt x="19417" y="3757"/>
                  <a:pt x="19745" y="3770"/>
                </a:cubicBezTo>
                <a:cubicBezTo>
                  <a:pt x="19877" y="3775"/>
                  <a:pt x="20012" y="3790"/>
                  <a:pt x="20141" y="3795"/>
                </a:cubicBezTo>
                <a:cubicBezTo>
                  <a:pt x="20268" y="3800"/>
                  <a:pt x="20388" y="3813"/>
                  <a:pt x="20513" y="3820"/>
                </a:cubicBezTo>
                <a:cubicBezTo>
                  <a:pt x="20646" y="3827"/>
                  <a:pt x="20777" y="3834"/>
                  <a:pt x="20910" y="3845"/>
                </a:cubicBezTo>
                <a:cubicBezTo>
                  <a:pt x="21043" y="3856"/>
                  <a:pt x="21174" y="3858"/>
                  <a:pt x="21307" y="3870"/>
                </a:cubicBezTo>
                <a:cubicBezTo>
                  <a:pt x="21428" y="3881"/>
                  <a:pt x="21559" y="3901"/>
                  <a:pt x="21679" y="3919"/>
                </a:cubicBezTo>
                <a:cubicBezTo>
                  <a:pt x="21802" y="3937"/>
                  <a:pt x="21926" y="3962"/>
                  <a:pt x="22051" y="3969"/>
                </a:cubicBezTo>
                <a:cubicBezTo>
                  <a:pt x="22157" y="3975"/>
                  <a:pt x="22247" y="3978"/>
                  <a:pt x="22349" y="3994"/>
                </a:cubicBezTo>
                <a:cubicBezTo>
                  <a:pt x="22400" y="4002"/>
                  <a:pt x="22428" y="4010"/>
                  <a:pt x="22473" y="4018"/>
                </a:cubicBezTo>
                <a:cubicBezTo>
                  <a:pt x="22459" y="4049"/>
                  <a:pt x="22417" y="4094"/>
                  <a:pt x="22399" y="4142"/>
                </a:cubicBezTo>
                <a:cubicBezTo>
                  <a:pt x="22377" y="4203"/>
                  <a:pt x="22362" y="4280"/>
                  <a:pt x="22349" y="4341"/>
                </a:cubicBezTo>
                <a:cubicBezTo>
                  <a:pt x="22334" y="4409"/>
                  <a:pt x="22329" y="4495"/>
                  <a:pt x="22324" y="4564"/>
                </a:cubicBezTo>
                <a:cubicBezTo>
                  <a:pt x="22312" y="4744"/>
                  <a:pt x="22309" y="4937"/>
                  <a:pt x="22299" y="5110"/>
                </a:cubicBezTo>
                <a:cubicBezTo>
                  <a:pt x="22293" y="5201"/>
                  <a:pt x="22281" y="5295"/>
                  <a:pt x="22275" y="5383"/>
                </a:cubicBezTo>
                <a:cubicBezTo>
                  <a:pt x="22267" y="5503"/>
                  <a:pt x="22292" y="5619"/>
                  <a:pt x="22299" y="5730"/>
                </a:cubicBezTo>
                <a:cubicBezTo>
                  <a:pt x="22303" y="5796"/>
                  <a:pt x="22296" y="5862"/>
                  <a:pt x="22299" y="5928"/>
                </a:cubicBezTo>
                <a:cubicBezTo>
                  <a:pt x="22133" y="5928"/>
                  <a:pt x="21983" y="5891"/>
                  <a:pt x="21828" y="5879"/>
                </a:cubicBezTo>
                <a:cubicBezTo>
                  <a:pt x="21706" y="5870"/>
                  <a:pt x="21574" y="5860"/>
                  <a:pt x="21456" y="5854"/>
                </a:cubicBezTo>
                <a:cubicBezTo>
                  <a:pt x="21337" y="5848"/>
                  <a:pt x="21227" y="5834"/>
                  <a:pt x="21109" y="5829"/>
                </a:cubicBezTo>
                <a:cubicBezTo>
                  <a:pt x="20974" y="5823"/>
                  <a:pt x="20845" y="5818"/>
                  <a:pt x="20712" y="5804"/>
                </a:cubicBezTo>
                <a:cubicBezTo>
                  <a:pt x="20530" y="5785"/>
                  <a:pt x="20347" y="5758"/>
                  <a:pt x="20166" y="5755"/>
                </a:cubicBezTo>
                <a:cubicBezTo>
                  <a:pt x="20006" y="5753"/>
                  <a:pt x="19854" y="5734"/>
                  <a:pt x="19695" y="5730"/>
                </a:cubicBezTo>
                <a:cubicBezTo>
                  <a:pt x="19289" y="5721"/>
                  <a:pt x="18881" y="5726"/>
                  <a:pt x="18479" y="5705"/>
                </a:cubicBezTo>
                <a:cubicBezTo>
                  <a:pt x="18266" y="5694"/>
                  <a:pt x="18045" y="5689"/>
                  <a:pt x="17835" y="5680"/>
                </a:cubicBezTo>
                <a:cubicBezTo>
                  <a:pt x="17702" y="5674"/>
                  <a:pt x="17567" y="5663"/>
                  <a:pt x="17438" y="5655"/>
                </a:cubicBezTo>
                <a:cubicBezTo>
                  <a:pt x="17387" y="5652"/>
                  <a:pt x="17232" y="5623"/>
                  <a:pt x="17190" y="5631"/>
                </a:cubicBezTo>
                <a:cubicBezTo>
                  <a:pt x="17141" y="5641"/>
                  <a:pt x="17152" y="5646"/>
                  <a:pt x="17115" y="5655"/>
                </a:cubicBezTo>
                <a:cubicBezTo>
                  <a:pt x="17115" y="5663"/>
                  <a:pt x="17115" y="5672"/>
                  <a:pt x="17115" y="568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3429000" y="3160800"/>
            <a:ext cx="741240" cy="260280"/>
          </a:xfrm>
          <a:custGeom>
            <a:avLst/>
            <a:gdLst/>
            <a:ahLst/>
            <a:rect l="l" t="t" r="r" b="b"/>
            <a:pathLst>
              <a:path w="2060" h="720">
                <a:moveTo>
                  <a:pt x="10021" y="8855"/>
                </a:moveTo>
                <a:cubicBezTo>
                  <a:pt x="9988" y="8833"/>
                  <a:pt x="10007" y="8788"/>
                  <a:pt x="9947" y="8781"/>
                </a:cubicBezTo>
                <a:cubicBezTo>
                  <a:pt x="9877" y="8773"/>
                  <a:pt x="9777" y="8771"/>
                  <a:pt x="9723" y="8806"/>
                </a:cubicBezTo>
                <a:cubicBezTo>
                  <a:pt x="9684" y="8831"/>
                  <a:pt x="9593" y="8899"/>
                  <a:pt x="9575" y="8930"/>
                </a:cubicBezTo>
                <a:cubicBezTo>
                  <a:pt x="9535" y="9000"/>
                  <a:pt x="9596" y="8988"/>
                  <a:pt x="9624" y="9004"/>
                </a:cubicBezTo>
                <a:cubicBezTo>
                  <a:pt x="9673" y="9031"/>
                  <a:pt x="9721" y="9055"/>
                  <a:pt x="9773" y="9079"/>
                </a:cubicBezTo>
                <a:cubicBezTo>
                  <a:pt x="9828" y="9104"/>
                  <a:pt x="9894" y="9050"/>
                  <a:pt x="9947" y="9103"/>
                </a:cubicBezTo>
                <a:cubicBezTo>
                  <a:pt x="9998" y="9154"/>
                  <a:pt x="10035" y="9166"/>
                  <a:pt x="10096" y="9227"/>
                </a:cubicBezTo>
                <a:cubicBezTo>
                  <a:pt x="10122" y="9253"/>
                  <a:pt x="10136" y="9337"/>
                  <a:pt x="10120" y="9376"/>
                </a:cubicBezTo>
                <a:cubicBezTo>
                  <a:pt x="10086" y="9461"/>
                  <a:pt x="10037" y="9434"/>
                  <a:pt x="9971" y="9475"/>
                </a:cubicBezTo>
                <a:cubicBezTo>
                  <a:pt x="9917" y="9508"/>
                  <a:pt x="9866" y="9500"/>
                  <a:pt x="9798" y="9500"/>
                </a:cubicBezTo>
                <a:cubicBezTo>
                  <a:pt x="9736" y="9500"/>
                  <a:pt x="9653" y="9500"/>
                  <a:pt x="9599" y="9475"/>
                </a:cubicBezTo>
                <a:cubicBezTo>
                  <a:pt x="9542" y="9449"/>
                  <a:pt x="9535" y="9462"/>
                  <a:pt x="9525" y="9401"/>
                </a:cubicBezTo>
              </a:path>
              <a:path w="2060" h="720">
                <a:moveTo>
                  <a:pt x="10517" y="9376"/>
                </a:moveTo>
                <a:cubicBezTo>
                  <a:pt x="10586" y="9269"/>
                  <a:pt x="10566" y="9261"/>
                  <a:pt x="10592" y="9153"/>
                </a:cubicBezTo>
                <a:cubicBezTo>
                  <a:pt x="10609" y="9082"/>
                  <a:pt x="10631" y="9072"/>
                  <a:pt x="10592" y="9004"/>
                </a:cubicBezTo>
                <a:cubicBezTo>
                  <a:pt x="10561" y="9035"/>
                  <a:pt x="10567" y="9091"/>
                  <a:pt x="10567" y="9153"/>
                </a:cubicBezTo>
                <a:cubicBezTo>
                  <a:pt x="10567" y="9228"/>
                  <a:pt x="10588" y="9271"/>
                  <a:pt x="10641" y="9327"/>
                </a:cubicBezTo>
                <a:cubicBezTo>
                  <a:pt x="10694" y="9383"/>
                  <a:pt x="10699" y="9376"/>
                  <a:pt x="10765" y="9376"/>
                </a:cubicBezTo>
              </a:path>
              <a:path w="2060" h="720">
                <a:moveTo>
                  <a:pt x="10195" y="9103"/>
                </a:moveTo>
                <a:cubicBezTo>
                  <a:pt x="10211" y="9146"/>
                  <a:pt x="10239" y="9290"/>
                  <a:pt x="10294" y="9302"/>
                </a:cubicBezTo>
                <a:cubicBezTo>
                  <a:pt x="10322" y="9302"/>
                  <a:pt x="10333" y="9304"/>
                  <a:pt x="10344" y="9327"/>
                </a:cubicBezTo>
              </a:path>
              <a:path w="2060" h="720">
                <a:moveTo>
                  <a:pt x="10840" y="9327"/>
                </a:moveTo>
                <a:cubicBezTo>
                  <a:pt x="10880" y="9313"/>
                  <a:pt x="10864" y="9277"/>
                  <a:pt x="10864" y="9227"/>
                </a:cubicBezTo>
                <a:cubicBezTo>
                  <a:pt x="10864" y="9186"/>
                  <a:pt x="10876" y="9119"/>
                  <a:pt x="10889" y="9079"/>
                </a:cubicBezTo>
                <a:cubicBezTo>
                  <a:pt x="10919" y="8990"/>
                  <a:pt x="10954" y="9042"/>
                  <a:pt x="10988" y="9004"/>
                </a:cubicBezTo>
                <a:cubicBezTo>
                  <a:pt x="10996" y="8987"/>
                  <a:pt x="11005" y="8971"/>
                  <a:pt x="11013" y="8954"/>
                </a:cubicBezTo>
                <a:cubicBezTo>
                  <a:pt x="11033" y="8984"/>
                  <a:pt x="11105" y="9004"/>
                  <a:pt x="11112" y="9029"/>
                </a:cubicBezTo>
                <a:cubicBezTo>
                  <a:pt x="11127" y="9078"/>
                  <a:pt x="11139" y="9185"/>
                  <a:pt x="11162" y="9227"/>
                </a:cubicBezTo>
                <a:cubicBezTo>
                  <a:pt x="11204" y="9227"/>
                  <a:pt x="11212" y="9244"/>
                  <a:pt x="11187" y="9302"/>
                </a:cubicBezTo>
                <a:cubicBezTo>
                  <a:pt x="11187" y="9204"/>
                  <a:pt x="11189" y="9120"/>
                  <a:pt x="11212" y="9029"/>
                </a:cubicBezTo>
                <a:cubicBezTo>
                  <a:pt x="11224" y="8981"/>
                  <a:pt x="11236" y="8946"/>
                  <a:pt x="11286" y="8930"/>
                </a:cubicBezTo>
                <a:cubicBezTo>
                  <a:pt x="11348" y="8910"/>
                  <a:pt x="11406" y="8972"/>
                  <a:pt x="11435" y="9004"/>
                </a:cubicBezTo>
                <a:cubicBezTo>
                  <a:pt x="11476" y="9050"/>
                  <a:pt x="11498" y="9104"/>
                  <a:pt x="11534" y="9153"/>
                </a:cubicBezTo>
                <a:cubicBezTo>
                  <a:pt x="11566" y="9196"/>
                  <a:pt x="11579" y="9248"/>
                  <a:pt x="11584" y="9302"/>
                </a:cubicBezTo>
                <a:cubicBezTo>
                  <a:pt x="11584" y="9335"/>
                  <a:pt x="11584" y="9351"/>
                  <a:pt x="11584" y="937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4286160" y="3106800"/>
            <a:ext cx="652680" cy="430200"/>
          </a:xfrm>
          <a:custGeom>
            <a:avLst/>
            <a:gdLst/>
            <a:ahLst/>
            <a:rect l="l" t="t" r="r" b="b"/>
            <a:pathLst>
              <a:path w="1812" h="1192">
                <a:moveTo>
                  <a:pt x="11981" y="8781"/>
                </a:moveTo>
                <a:cubicBezTo>
                  <a:pt x="11929" y="8963"/>
                  <a:pt x="11921" y="9042"/>
                  <a:pt x="11931" y="9227"/>
                </a:cubicBezTo>
                <a:cubicBezTo>
                  <a:pt x="11936" y="9317"/>
                  <a:pt x="11941" y="9389"/>
                  <a:pt x="11981" y="9475"/>
                </a:cubicBezTo>
                <a:cubicBezTo>
                  <a:pt x="12005" y="9500"/>
                  <a:pt x="12013" y="9509"/>
                  <a:pt x="12030" y="9525"/>
                </a:cubicBezTo>
              </a:path>
              <a:path w="1812" h="1192">
                <a:moveTo>
                  <a:pt x="12378" y="9153"/>
                </a:moveTo>
                <a:cubicBezTo>
                  <a:pt x="12437" y="9218"/>
                  <a:pt x="12488" y="9252"/>
                  <a:pt x="12452" y="9327"/>
                </a:cubicBezTo>
                <a:cubicBezTo>
                  <a:pt x="12433" y="9367"/>
                  <a:pt x="12360" y="9430"/>
                  <a:pt x="12328" y="9451"/>
                </a:cubicBezTo>
                <a:cubicBezTo>
                  <a:pt x="12261" y="9496"/>
                  <a:pt x="12234" y="9421"/>
                  <a:pt x="12204" y="9401"/>
                </a:cubicBezTo>
                <a:cubicBezTo>
                  <a:pt x="12179" y="9384"/>
                  <a:pt x="12184" y="9386"/>
                  <a:pt x="12154" y="9376"/>
                </a:cubicBezTo>
              </a:path>
              <a:path w="1812" h="1192">
                <a:moveTo>
                  <a:pt x="12601" y="9079"/>
                </a:moveTo>
                <a:cubicBezTo>
                  <a:pt x="12706" y="9079"/>
                  <a:pt x="12703" y="9077"/>
                  <a:pt x="12774" y="9029"/>
                </a:cubicBezTo>
                <a:cubicBezTo>
                  <a:pt x="12828" y="8993"/>
                  <a:pt x="12842" y="9032"/>
                  <a:pt x="12849" y="8954"/>
                </a:cubicBezTo>
                <a:cubicBezTo>
                  <a:pt x="12852" y="8920"/>
                  <a:pt x="12812" y="8861"/>
                  <a:pt x="12799" y="8855"/>
                </a:cubicBezTo>
                <a:cubicBezTo>
                  <a:pt x="12791" y="8855"/>
                  <a:pt x="12782" y="8855"/>
                  <a:pt x="12774" y="8855"/>
                </a:cubicBezTo>
                <a:cubicBezTo>
                  <a:pt x="12725" y="8905"/>
                  <a:pt x="12690" y="8950"/>
                  <a:pt x="12650" y="9004"/>
                </a:cubicBezTo>
                <a:cubicBezTo>
                  <a:pt x="12608" y="9061"/>
                  <a:pt x="12601" y="9083"/>
                  <a:pt x="12601" y="9153"/>
                </a:cubicBezTo>
                <a:cubicBezTo>
                  <a:pt x="12601" y="9216"/>
                  <a:pt x="12611" y="9250"/>
                  <a:pt x="12650" y="9302"/>
                </a:cubicBezTo>
                <a:cubicBezTo>
                  <a:pt x="12695" y="9363"/>
                  <a:pt x="12696" y="9376"/>
                  <a:pt x="12774" y="9376"/>
                </a:cubicBezTo>
                <a:cubicBezTo>
                  <a:pt x="12782" y="9376"/>
                  <a:pt x="12791" y="9376"/>
                  <a:pt x="12799" y="9376"/>
                </a:cubicBezTo>
              </a:path>
              <a:path w="1812" h="1192">
                <a:moveTo>
                  <a:pt x="12303" y="8930"/>
                </a:moveTo>
                <a:cubicBezTo>
                  <a:pt x="12281" y="9018"/>
                  <a:pt x="12278" y="9087"/>
                  <a:pt x="12278" y="9178"/>
                </a:cubicBezTo>
              </a:path>
              <a:path w="1812" h="1192">
                <a:moveTo>
                  <a:pt x="13295" y="8930"/>
                </a:moveTo>
                <a:cubicBezTo>
                  <a:pt x="13290" y="8926"/>
                  <a:pt x="13233" y="8830"/>
                  <a:pt x="13221" y="8806"/>
                </a:cubicBezTo>
                <a:cubicBezTo>
                  <a:pt x="13204" y="8771"/>
                  <a:pt x="13195" y="8781"/>
                  <a:pt x="13146" y="8781"/>
                </a:cubicBezTo>
                <a:cubicBezTo>
                  <a:pt x="13068" y="8781"/>
                  <a:pt x="13053" y="8880"/>
                  <a:pt x="13022" y="8930"/>
                </a:cubicBezTo>
                <a:cubicBezTo>
                  <a:pt x="12991" y="8980"/>
                  <a:pt x="12936" y="9050"/>
                  <a:pt x="12923" y="9103"/>
                </a:cubicBezTo>
                <a:cubicBezTo>
                  <a:pt x="12908" y="9162"/>
                  <a:pt x="12939" y="9208"/>
                  <a:pt x="12948" y="9252"/>
                </a:cubicBezTo>
                <a:cubicBezTo>
                  <a:pt x="12961" y="9319"/>
                  <a:pt x="12955" y="9302"/>
                  <a:pt x="13022" y="9302"/>
                </a:cubicBezTo>
                <a:cubicBezTo>
                  <a:pt x="13080" y="9302"/>
                  <a:pt x="13092" y="9277"/>
                  <a:pt x="13122" y="9227"/>
                </a:cubicBezTo>
                <a:cubicBezTo>
                  <a:pt x="13141" y="9196"/>
                  <a:pt x="13188" y="9109"/>
                  <a:pt x="13196" y="9079"/>
                </a:cubicBezTo>
                <a:cubicBezTo>
                  <a:pt x="13208" y="9034"/>
                  <a:pt x="13212" y="8976"/>
                  <a:pt x="13221" y="8930"/>
                </a:cubicBezTo>
                <a:cubicBezTo>
                  <a:pt x="13201" y="8950"/>
                  <a:pt x="13177" y="9059"/>
                  <a:pt x="13171" y="9103"/>
                </a:cubicBezTo>
                <a:cubicBezTo>
                  <a:pt x="13153" y="9227"/>
                  <a:pt x="13180" y="9356"/>
                  <a:pt x="13196" y="9475"/>
                </a:cubicBezTo>
                <a:cubicBezTo>
                  <a:pt x="13209" y="9575"/>
                  <a:pt x="13204" y="9683"/>
                  <a:pt x="13221" y="9773"/>
                </a:cubicBezTo>
                <a:cubicBezTo>
                  <a:pt x="13221" y="9790"/>
                  <a:pt x="13221" y="9806"/>
                  <a:pt x="13221" y="9823"/>
                </a:cubicBezTo>
              </a:path>
              <a:path w="1812" h="1192">
                <a:moveTo>
                  <a:pt x="13643" y="8632"/>
                </a:moveTo>
                <a:cubicBezTo>
                  <a:pt x="13614" y="8757"/>
                  <a:pt x="13542" y="8941"/>
                  <a:pt x="13568" y="9079"/>
                </a:cubicBezTo>
                <a:cubicBezTo>
                  <a:pt x="13583" y="9159"/>
                  <a:pt x="13623" y="9223"/>
                  <a:pt x="13643" y="9302"/>
                </a:cubicBezTo>
                <a:cubicBezTo>
                  <a:pt x="13659" y="9365"/>
                  <a:pt x="13671" y="9366"/>
                  <a:pt x="13717" y="940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5153040" y="3054240"/>
            <a:ext cx="2205000" cy="411120"/>
          </a:xfrm>
          <a:custGeom>
            <a:avLst/>
            <a:gdLst/>
            <a:ahLst/>
            <a:rect l="l" t="t" r="r" b="b"/>
            <a:pathLst>
              <a:path w="6128" h="1142">
                <a:moveTo>
                  <a:pt x="14312" y="8632"/>
                </a:moveTo>
                <a:cubicBezTo>
                  <a:pt x="14312" y="8828"/>
                  <a:pt x="14290" y="9042"/>
                  <a:pt x="14337" y="9227"/>
                </a:cubicBezTo>
                <a:cubicBezTo>
                  <a:pt x="14337" y="9260"/>
                  <a:pt x="14337" y="9277"/>
                  <a:pt x="14337" y="9302"/>
                </a:cubicBezTo>
              </a:path>
              <a:path w="6128" h="1142">
                <a:moveTo>
                  <a:pt x="14585" y="8930"/>
                </a:moveTo>
                <a:cubicBezTo>
                  <a:pt x="14573" y="9067"/>
                  <a:pt x="14554" y="9140"/>
                  <a:pt x="14610" y="9252"/>
                </a:cubicBezTo>
                <a:cubicBezTo>
                  <a:pt x="14642" y="9315"/>
                  <a:pt x="14647" y="9302"/>
                  <a:pt x="14709" y="9302"/>
                </a:cubicBezTo>
                <a:cubicBezTo>
                  <a:pt x="14762" y="9302"/>
                  <a:pt x="14793" y="9194"/>
                  <a:pt x="14808" y="9153"/>
                </a:cubicBezTo>
                <a:cubicBezTo>
                  <a:pt x="14834" y="9080"/>
                  <a:pt x="14871" y="8927"/>
                  <a:pt x="14858" y="8855"/>
                </a:cubicBezTo>
                <a:cubicBezTo>
                  <a:pt x="14850" y="8811"/>
                  <a:pt x="14838" y="8670"/>
                  <a:pt x="14808" y="8632"/>
                </a:cubicBezTo>
                <a:cubicBezTo>
                  <a:pt x="14797" y="8618"/>
                  <a:pt x="14756" y="8593"/>
                  <a:pt x="14734" y="8582"/>
                </a:cubicBezTo>
                <a:cubicBezTo>
                  <a:pt x="14726" y="8589"/>
                  <a:pt x="14613" y="8646"/>
                  <a:pt x="14610" y="8657"/>
                </a:cubicBezTo>
                <a:cubicBezTo>
                  <a:pt x="14610" y="8673"/>
                  <a:pt x="14610" y="8690"/>
                  <a:pt x="14610" y="8706"/>
                </a:cubicBezTo>
              </a:path>
              <a:path w="6128" h="1142">
                <a:moveTo>
                  <a:pt x="14982" y="9079"/>
                </a:moveTo>
                <a:cubicBezTo>
                  <a:pt x="14986" y="9130"/>
                  <a:pt x="14983" y="9258"/>
                  <a:pt x="15032" y="9302"/>
                </a:cubicBezTo>
                <a:cubicBezTo>
                  <a:pt x="15073" y="9339"/>
                  <a:pt x="15092" y="9315"/>
                  <a:pt x="15131" y="9302"/>
                </a:cubicBezTo>
                <a:cubicBezTo>
                  <a:pt x="15197" y="9280"/>
                  <a:pt x="15240" y="9226"/>
                  <a:pt x="15255" y="9153"/>
                </a:cubicBezTo>
                <a:cubicBezTo>
                  <a:pt x="15270" y="9079"/>
                  <a:pt x="15280" y="9007"/>
                  <a:pt x="15280" y="8930"/>
                </a:cubicBezTo>
                <a:cubicBezTo>
                  <a:pt x="15280" y="8848"/>
                  <a:pt x="15278" y="8781"/>
                  <a:pt x="15255" y="8706"/>
                </a:cubicBezTo>
                <a:cubicBezTo>
                  <a:pt x="15227" y="8615"/>
                  <a:pt x="15230" y="8632"/>
                  <a:pt x="15156" y="8632"/>
                </a:cubicBezTo>
                <a:cubicBezTo>
                  <a:pt x="15066" y="8632"/>
                  <a:pt x="15060" y="8706"/>
                  <a:pt x="15032" y="8781"/>
                </a:cubicBezTo>
                <a:cubicBezTo>
                  <a:pt x="15008" y="8847"/>
                  <a:pt x="14965" y="8931"/>
                  <a:pt x="14982" y="9004"/>
                </a:cubicBezTo>
                <a:cubicBezTo>
                  <a:pt x="14991" y="9044"/>
                  <a:pt x="15032" y="9147"/>
                  <a:pt x="15056" y="9153"/>
                </a:cubicBezTo>
                <a:cubicBezTo>
                  <a:pt x="15064" y="9153"/>
                  <a:pt x="15073" y="9153"/>
                  <a:pt x="15081" y="9153"/>
                </a:cubicBezTo>
              </a:path>
              <a:path w="6128" h="1142">
                <a:moveTo>
                  <a:pt x="15379" y="9004"/>
                </a:moveTo>
                <a:cubicBezTo>
                  <a:pt x="15379" y="9085"/>
                  <a:pt x="15366" y="9229"/>
                  <a:pt x="15429" y="9302"/>
                </a:cubicBezTo>
                <a:cubicBezTo>
                  <a:pt x="15451" y="9328"/>
                  <a:pt x="15504" y="9364"/>
                  <a:pt x="15528" y="9376"/>
                </a:cubicBezTo>
                <a:cubicBezTo>
                  <a:pt x="15562" y="9317"/>
                  <a:pt x="15589" y="9277"/>
                  <a:pt x="15627" y="9227"/>
                </a:cubicBezTo>
                <a:cubicBezTo>
                  <a:pt x="15689" y="9144"/>
                  <a:pt x="15713" y="9117"/>
                  <a:pt x="15726" y="9004"/>
                </a:cubicBezTo>
                <a:cubicBezTo>
                  <a:pt x="15737" y="8906"/>
                  <a:pt x="15719" y="8824"/>
                  <a:pt x="15701" y="8731"/>
                </a:cubicBezTo>
                <a:cubicBezTo>
                  <a:pt x="15691" y="8679"/>
                  <a:pt x="15682" y="8588"/>
                  <a:pt x="15627" y="8558"/>
                </a:cubicBezTo>
                <a:cubicBezTo>
                  <a:pt x="15538" y="8509"/>
                  <a:pt x="15424" y="8574"/>
                  <a:pt x="15379" y="8632"/>
                </a:cubicBezTo>
              </a:path>
              <a:path w="6128" h="1142">
                <a:moveTo>
                  <a:pt x="15949" y="8806"/>
                </a:moveTo>
                <a:cubicBezTo>
                  <a:pt x="15949" y="8822"/>
                  <a:pt x="15949" y="8839"/>
                  <a:pt x="15949" y="8855"/>
                </a:cubicBezTo>
                <a:cubicBezTo>
                  <a:pt x="15990" y="8855"/>
                  <a:pt x="16032" y="8855"/>
                  <a:pt x="16073" y="8855"/>
                </a:cubicBezTo>
              </a:path>
              <a:path w="6128" h="1142">
                <a:moveTo>
                  <a:pt x="16421" y="8558"/>
                </a:moveTo>
                <a:cubicBezTo>
                  <a:pt x="16487" y="8558"/>
                  <a:pt x="16553" y="8558"/>
                  <a:pt x="16619" y="8558"/>
                </a:cubicBezTo>
              </a:path>
              <a:path w="6128" h="1142">
                <a:moveTo>
                  <a:pt x="16247" y="8632"/>
                </a:moveTo>
                <a:cubicBezTo>
                  <a:pt x="16213" y="8704"/>
                  <a:pt x="16163" y="8806"/>
                  <a:pt x="16148" y="8880"/>
                </a:cubicBezTo>
                <a:cubicBezTo>
                  <a:pt x="16134" y="8949"/>
                  <a:pt x="16159" y="8913"/>
                  <a:pt x="16173" y="8954"/>
                </a:cubicBezTo>
                <a:cubicBezTo>
                  <a:pt x="16178" y="8952"/>
                  <a:pt x="16242" y="8935"/>
                  <a:pt x="16247" y="8930"/>
                </a:cubicBezTo>
                <a:cubicBezTo>
                  <a:pt x="16269" y="8886"/>
                  <a:pt x="16272" y="8874"/>
                  <a:pt x="16297" y="8855"/>
                </a:cubicBezTo>
                <a:cubicBezTo>
                  <a:pt x="16358" y="8871"/>
                  <a:pt x="16356" y="8882"/>
                  <a:pt x="16396" y="8930"/>
                </a:cubicBezTo>
                <a:cubicBezTo>
                  <a:pt x="16441" y="8983"/>
                  <a:pt x="16444" y="9027"/>
                  <a:pt x="16470" y="9079"/>
                </a:cubicBezTo>
                <a:cubicBezTo>
                  <a:pt x="16496" y="9131"/>
                  <a:pt x="16495" y="9164"/>
                  <a:pt x="16495" y="9227"/>
                </a:cubicBezTo>
                <a:cubicBezTo>
                  <a:pt x="16495" y="9308"/>
                  <a:pt x="16462" y="9279"/>
                  <a:pt x="16421" y="9302"/>
                </a:cubicBezTo>
                <a:cubicBezTo>
                  <a:pt x="16377" y="9326"/>
                  <a:pt x="16350" y="9327"/>
                  <a:pt x="16297" y="9327"/>
                </a:cubicBezTo>
                <a:cubicBezTo>
                  <a:pt x="16255" y="9327"/>
                  <a:pt x="16239" y="9335"/>
                  <a:pt x="16247" y="9302"/>
                </a:cubicBezTo>
              </a:path>
              <a:path w="6128" h="1142">
                <a:moveTo>
                  <a:pt x="16818" y="8930"/>
                </a:moveTo>
                <a:cubicBezTo>
                  <a:pt x="16863" y="9025"/>
                  <a:pt x="16903" y="9142"/>
                  <a:pt x="16966" y="9227"/>
                </a:cubicBezTo>
                <a:cubicBezTo>
                  <a:pt x="17007" y="9282"/>
                  <a:pt x="17021" y="9276"/>
                  <a:pt x="17066" y="9302"/>
                </a:cubicBezTo>
                <a:cubicBezTo>
                  <a:pt x="17110" y="9327"/>
                  <a:pt x="17090" y="9314"/>
                  <a:pt x="17140" y="9302"/>
                </a:cubicBezTo>
              </a:path>
              <a:path w="6128" h="1142">
                <a:moveTo>
                  <a:pt x="16917" y="8880"/>
                </a:moveTo>
                <a:cubicBezTo>
                  <a:pt x="16864" y="8983"/>
                  <a:pt x="16764" y="9115"/>
                  <a:pt x="16718" y="9227"/>
                </a:cubicBezTo>
                <a:cubicBezTo>
                  <a:pt x="16693" y="9289"/>
                  <a:pt x="16641" y="9337"/>
                  <a:pt x="16619" y="9376"/>
                </a:cubicBezTo>
                <a:cubicBezTo>
                  <a:pt x="16619" y="9401"/>
                  <a:pt x="16619" y="9409"/>
                  <a:pt x="16594" y="9401"/>
                </a:cubicBezTo>
              </a:path>
              <a:path w="6128" h="1142">
                <a:moveTo>
                  <a:pt x="17190" y="9227"/>
                </a:moveTo>
                <a:cubicBezTo>
                  <a:pt x="17204" y="9380"/>
                  <a:pt x="17185" y="9415"/>
                  <a:pt x="17165" y="9550"/>
                </a:cubicBezTo>
                <a:cubicBezTo>
                  <a:pt x="17165" y="9591"/>
                  <a:pt x="17173" y="9607"/>
                  <a:pt x="17140" y="9599"/>
                </a:cubicBezTo>
              </a:path>
              <a:path w="6128" h="1142">
                <a:moveTo>
                  <a:pt x="17537" y="8855"/>
                </a:moveTo>
                <a:cubicBezTo>
                  <a:pt x="17582" y="8959"/>
                  <a:pt x="17620" y="8990"/>
                  <a:pt x="17661" y="9079"/>
                </a:cubicBezTo>
                <a:cubicBezTo>
                  <a:pt x="17692" y="9146"/>
                  <a:pt x="17734" y="9210"/>
                  <a:pt x="17810" y="9252"/>
                </a:cubicBezTo>
                <a:cubicBezTo>
                  <a:pt x="17812" y="9253"/>
                  <a:pt x="17895" y="9336"/>
                  <a:pt x="17909" y="9302"/>
                </a:cubicBezTo>
                <a:cubicBezTo>
                  <a:pt x="17909" y="9285"/>
                  <a:pt x="17909" y="9269"/>
                  <a:pt x="17909" y="9252"/>
                </a:cubicBezTo>
              </a:path>
              <a:path w="6128" h="1142">
                <a:moveTo>
                  <a:pt x="17785" y="8806"/>
                </a:moveTo>
                <a:cubicBezTo>
                  <a:pt x="17723" y="8894"/>
                  <a:pt x="17580" y="9080"/>
                  <a:pt x="17537" y="9178"/>
                </a:cubicBezTo>
                <a:cubicBezTo>
                  <a:pt x="17524" y="9208"/>
                  <a:pt x="17513" y="9305"/>
                  <a:pt x="17487" y="9327"/>
                </a:cubicBezTo>
                <a:cubicBezTo>
                  <a:pt x="17462" y="9327"/>
                  <a:pt x="17454" y="9327"/>
                  <a:pt x="17487" y="9327"/>
                </a:cubicBezTo>
              </a:path>
              <a:path w="6128" h="1142">
                <a:moveTo>
                  <a:pt x="18008" y="9227"/>
                </a:moveTo>
                <a:cubicBezTo>
                  <a:pt x="18027" y="9346"/>
                  <a:pt x="18047" y="9379"/>
                  <a:pt x="18008" y="9475"/>
                </a:cubicBezTo>
                <a:cubicBezTo>
                  <a:pt x="17988" y="9525"/>
                  <a:pt x="17993" y="9538"/>
                  <a:pt x="17959" y="9550"/>
                </a:cubicBezTo>
              </a:path>
              <a:path w="6128" h="1142">
                <a:moveTo>
                  <a:pt x="18331" y="9029"/>
                </a:moveTo>
                <a:cubicBezTo>
                  <a:pt x="18317" y="9093"/>
                  <a:pt x="18241" y="9301"/>
                  <a:pt x="18306" y="9376"/>
                </a:cubicBezTo>
                <a:cubicBezTo>
                  <a:pt x="18349" y="9425"/>
                  <a:pt x="18437" y="9350"/>
                  <a:pt x="18455" y="9327"/>
                </a:cubicBezTo>
                <a:cubicBezTo>
                  <a:pt x="18481" y="9294"/>
                  <a:pt x="18546" y="9193"/>
                  <a:pt x="18554" y="9153"/>
                </a:cubicBezTo>
                <a:cubicBezTo>
                  <a:pt x="18572" y="9065"/>
                  <a:pt x="18548" y="8957"/>
                  <a:pt x="18504" y="8880"/>
                </a:cubicBezTo>
                <a:cubicBezTo>
                  <a:pt x="18469" y="8819"/>
                  <a:pt x="18450" y="8785"/>
                  <a:pt x="18380" y="8781"/>
                </a:cubicBezTo>
                <a:cubicBezTo>
                  <a:pt x="18311" y="8777"/>
                  <a:pt x="18268" y="8779"/>
                  <a:pt x="18207" y="8806"/>
                </a:cubicBezTo>
              </a:path>
              <a:path w="6128" h="1142">
                <a:moveTo>
                  <a:pt x="18777" y="9376"/>
                </a:moveTo>
                <a:cubicBezTo>
                  <a:pt x="18729" y="9452"/>
                  <a:pt x="18698" y="9515"/>
                  <a:pt x="18678" y="9599"/>
                </a:cubicBezTo>
                <a:cubicBezTo>
                  <a:pt x="18678" y="9624"/>
                  <a:pt x="18678" y="9632"/>
                  <a:pt x="18678" y="9599"/>
                </a:cubicBezTo>
              </a:path>
              <a:path w="6128" h="1142">
                <a:moveTo>
                  <a:pt x="19149" y="8731"/>
                </a:moveTo>
                <a:cubicBezTo>
                  <a:pt x="19208" y="8731"/>
                  <a:pt x="19252" y="8716"/>
                  <a:pt x="19298" y="8706"/>
                </a:cubicBezTo>
                <a:cubicBezTo>
                  <a:pt x="19350" y="8695"/>
                  <a:pt x="19419" y="8706"/>
                  <a:pt x="19472" y="8706"/>
                </a:cubicBezTo>
              </a:path>
              <a:path w="6128" h="1142">
                <a:moveTo>
                  <a:pt x="19050" y="8781"/>
                </a:moveTo>
                <a:cubicBezTo>
                  <a:pt x="19014" y="8840"/>
                  <a:pt x="18994" y="8898"/>
                  <a:pt x="18951" y="8930"/>
                </a:cubicBezTo>
                <a:cubicBezTo>
                  <a:pt x="18922" y="8958"/>
                  <a:pt x="18914" y="8971"/>
                  <a:pt x="18926" y="9004"/>
                </a:cubicBezTo>
                <a:cubicBezTo>
                  <a:pt x="19007" y="9004"/>
                  <a:pt x="18973" y="8992"/>
                  <a:pt x="19050" y="8954"/>
                </a:cubicBezTo>
                <a:cubicBezTo>
                  <a:pt x="19089" y="8935"/>
                  <a:pt x="19126" y="8930"/>
                  <a:pt x="19174" y="8930"/>
                </a:cubicBezTo>
                <a:cubicBezTo>
                  <a:pt x="19224" y="8930"/>
                  <a:pt x="19228" y="8944"/>
                  <a:pt x="19248" y="8954"/>
                </a:cubicBezTo>
                <a:cubicBezTo>
                  <a:pt x="19298" y="8978"/>
                  <a:pt x="19337" y="9049"/>
                  <a:pt x="19348" y="9103"/>
                </a:cubicBezTo>
                <a:cubicBezTo>
                  <a:pt x="19360" y="9161"/>
                  <a:pt x="19356" y="9252"/>
                  <a:pt x="19323" y="9302"/>
                </a:cubicBezTo>
                <a:cubicBezTo>
                  <a:pt x="19291" y="9350"/>
                  <a:pt x="19282" y="9376"/>
                  <a:pt x="19224" y="9376"/>
                </a:cubicBezTo>
                <a:cubicBezTo>
                  <a:pt x="19184" y="9376"/>
                  <a:pt x="19169" y="9401"/>
                  <a:pt x="19124" y="9401"/>
                </a:cubicBezTo>
                <a:cubicBezTo>
                  <a:pt x="19041" y="9401"/>
                  <a:pt x="19062" y="9361"/>
                  <a:pt x="19075" y="9302"/>
                </a:cubicBezTo>
              </a:path>
              <a:path w="6128" h="1142">
                <a:moveTo>
                  <a:pt x="19571" y="9029"/>
                </a:moveTo>
                <a:cubicBezTo>
                  <a:pt x="19545" y="9147"/>
                  <a:pt x="19520" y="9198"/>
                  <a:pt x="19546" y="9302"/>
                </a:cubicBezTo>
                <a:cubicBezTo>
                  <a:pt x="19561" y="9361"/>
                  <a:pt x="19559" y="9376"/>
                  <a:pt x="19621" y="9376"/>
                </a:cubicBezTo>
                <a:cubicBezTo>
                  <a:pt x="19692" y="9376"/>
                  <a:pt x="19726" y="9367"/>
                  <a:pt x="19769" y="9302"/>
                </a:cubicBezTo>
                <a:cubicBezTo>
                  <a:pt x="19819" y="9226"/>
                  <a:pt x="19840" y="9172"/>
                  <a:pt x="19844" y="9079"/>
                </a:cubicBezTo>
                <a:cubicBezTo>
                  <a:pt x="19849" y="8972"/>
                  <a:pt x="19821" y="8952"/>
                  <a:pt x="19745" y="8880"/>
                </a:cubicBezTo>
                <a:cubicBezTo>
                  <a:pt x="19700" y="8838"/>
                  <a:pt x="19631" y="8855"/>
                  <a:pt x="19571" y="8855"/>
                </a:cubicBezTo>
                <a:cubicBezTo>
                  <a:pt x="19546" y="8855"/>
                  <a:pt x="19521" y="8855"/>
                  <a:pt x="19496" y="8855"/>
                </a:cubicBezTo>
              </a:path>
              <a:path w="6128" h="1142">
                <a:moveTo>
                  <a:pt x="20166" y="8483"/>
                </a:moveTo>
                <a:cubicBezTo>
                  <a:pt x="20257" y="8606"/>
                  <a:pt x="20309" y="8718"/>
                  <a:pt x="20365" y="8855"/>
                </a:cubicBezTo>
                <a:cubicBezTo>
                  <a:pt x="20400" y="8941"/>
                  <a:pt x="20456" y="9084"/>
                  <a:pt x="20439" y="9178"/>
                </a:cubicBezTo>
                <a:cubicBezTo>
                  <a:pt x="20422" y="9268"/>
                  <a:pt x="20389" y="9318"/>
                  <a:pt x="20340" y="9376"/>
                </a:cubicBezTo>
                <a:cubicBezTo>
                  <a:pt x="20271" y="9459"/>
                  <a:pt x="20229" y="9459"/>
                  <a:pt x="20117" y="9475"/>
                </a:cubicBezTo>
                <a:cubicBezTo>
                  <a:pt x="20049" y="9484"/>
                  <a:pt x="19987" y="9494"/>
                  <a:pt x="19918" y="950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535880" y="3062160"/>
            <a:ext cx="1108080" cy="447840"/>
          </a:xfrm>
          <a:custGeom>
            <a:avLst/>
            <a:gdLst/>
            <a:ahLst/>
            <a:rect l="l" t="t" r="r" b="b"/>
            <a:pathLst>
              <a:path w="3077" h="1241">
                <a:moveTo>
                  <a:pt x="20960" y="8855"/>
                </a:moveTo>
                <a:cubicBezTo>
                  <a:pt x="21062" y="8855"/>
                  <a:pt x="21049" y="8823"/>
                  <a:pt x="21134" y="8806"/>
                </a:cubicBezTo>
                <a:cubicBezTo>
                  <a:pt x="21178" y="8797"/>
                  <a:pt x="21168" y="8811"/>
                  <a:pt x="21208" y="8781"/>
                </a:cubicBezTo>
              </a:path>
              <a:path w="3077" h="1241">
                <a:moveTo>
                  <a:pt x="20935" y="9079"/>
                </a:moveTo>
                <a:cubicBezTo>
                  <a:pt x="21029" y="9079"/>
                  <a:pt x="21061" y="9079"/>
                  <a:pt x="21134" y="9103"/>
                </a:cubicBezTo>
                <a:cubicBezTo>
                  <a:pt x="21142" y="9103"/>
                  <a:pt x="21150" y="9103"/>
                  <a:pt x="21158" y="9103"/>
                </a:cubicBezTo>
              </a:path>
              <a:path w="3077" h="1241">
                <a:moveTo>
                  <a:pt x="21481" y="8880"/>
                </a:moveTo>
                <a:cubicBezTo>
                  <a:pt x="21521" y="8940"/>
                  <a:pt x="21512" y="8930"/>
                  <a:pt x="21580" y="8930"/>
                </a:cubicBezTo>
                <a:cubicBezTo>
                  <a:pt x="21621" y="8930"/>
                  <a:pt x="21663" y="8930"/>
                  <a:pt x="21704" y="8930"/>
                </a:cubicBezTo>
              </a:path>
              <a:path w="3077" h="1241">
                <a:moveTo>
                  <a:pt x="21704" y="8657"/>
                </a:moveTo>
                <a:cubicBezTo>
                  <a:pt x="21704" y="8814"/>
                  <a:pt x="21685" y="8934"/>
                  <a:pt x="21679" y="9079"/>
                </a:cubicBezTo>
                <a:cubicBezTo>
                  <a:pt x="21676" y="9169"/>
                  <a:pt x="21716" y="9410"/>
                  <a:pt x="21654" y="9451"/>
                </a:cubicBezTo>
              </a:path>
              <a:path w="3077" h="1241">
                <a:moveTo>
                  <a:pt x="21406" y="8632"/>
                </a:moveTo>
                <a:cubicBezTo>
                  <a:pt x="21377" y="8730"/>
                  <a:pt x="21400" y="8755"/>
                  <a:pt x="21406" y="8855"/>
                </a:cubicBezTo>
                <a:cubicBezTo>
                  <a:pt x="21406" y="8888"/>
                  <a:pt x="21406" y="8905"/>
                  <a:pt x="21406" y="8930"/>
                </a:cubicBezTo>
              </a:path>
              <a:path w="3077" h="1241">
                <a:moveTo>
                  <a:pt x="21903" y="8781"/>
                </a:moveTo>
                <a:cubicBezTo>
                  <a:pt x="21881" y="8854"/>
                  <a:pt x="21878" y="8860"/>
                  <a:pt x="21878" y="8930"/>
                </a:cubicBezTo>
                <a:cubicBezTo>
                  <a:pt x="21968" y="8930"/>
                  <a:pt x="22048" y="8929"/>
                  <a:pt x="22126" y="8954"/>
                </a:cubicBezTo>
                <a:cubicBezTo>
                  <a:pt x="22134" y="8954"/>
                  <a:pt x="22143" y="8954"/>
                  <a:pt x="22151" y="8954"/>
                </a:cubicBezTo>
              </a:path>
              <a:path w="3077" h="1241">
                <a:moveTo>
                  <a:pt x="22151" y="8632"/>
                </a:moveTo>
                <a:cubicBezTo>
                  <a:pt x="22151" y="8811"/>
                  <a:pt x="22145" y="8980"/>
                  <a:pt x="22175" y="9153"/>
                </a:cubicBezTo>
                <a:cubicBezTo>
                  <a:pt x="22189" y="9234"/>
                  <a:pt x="22169" y="9333"/>
                  <a:pt x="22151" y="9376"/>
                </a:cubicBezTo>
                <a:cubicBezTo>
                  <a:pt x="22151" y="9384"/>
                  <a:pt x="22151" y="9393"/>
                  <a:pt x="22151" y="9401"/>
                </a:cubicBezTo>
              </a:path>
              <a:path w="3077" h="1241">
                <a:moveTo>
                  <a:pt x="22374" y="9451"/>
                </a:moveTo>
                <a:cubicBezTo>
                  <a:pt x="22353" y="9555"/>
                  <a:pt x="22349" y="9642"/>
                  <a:pt x="22349" y="9748"/>
                </a:cubicBezTo>
              </a:path>
              <a:path w="3077" h="1241">
                <a:moveTo>
                  <a:pt x="22647" y="8558"/>
                </a:moveTo>
                <a:lnTo>
                  <a:pt x="22647" y="8558"/>
                </a:lnTo>
              </a:path>
              <a:path w="3077" h="1241">
                <a:moveTo>
                  <a:pt x="22597" y="8781"/>
                </a:moveTo>
                <a:cubicBezTo>
                  <a:pt x="22580" y="8889"/>
                  <a:pt x="22551" y="8996"/>
                  <a:pt x="22547" y="9103"/>
                </a:cubicBezTo>
                <a:cubicBezTo>
                  <a:pt x="22544" y="9190"/>
                  <a:pt x="22532" y="9296"/>
                  <a:pt x="22572" y="9376"/>
                </a:cubicBezTo>
                <a:cubicBezTo>
                  <a:pt x="22598" y="9428"/>
                  <a:pt x="22584" y="9451"/>
                  <a:pt x="22647" y="9451"/>
                </a:cubicBezTo>
                <a:cubicBezTo>
                  <a:pt x="22721" y="9451"/>
                  <a:pt x="22732" y="9439"/>
                  <a:pt x="22771" y="9376"/>
                </a:cubicBezTo>
                <a:cubicBezTo>
                  <a:pt x="22807" y="9317"/>
                  <a:pt x="22835" y="9222"/>
                  <a:pt x="22845" y="9153"/>
                </a:cubicBezTo>
                <a:cubicBezTo>
                  <a:pt x="22845" y="9112"/>
                  <a:pt x="22845" y="9104"/>
                  <a:pt x="22845" y="9079"/>
                </a:cubicBezTo>
                <a:cubicBezTo>
                  <a:pt x="22786" y="9093"/>
                  <a:pt x="22792" y="9126"/>
                  <a:pt x="22771" y="9178"/>
                </a:cubicBezTo>
                <a:cubicBezTo>
                  <a:pt x="22745" y="9241"/>
                  <a:pt x="22723" y="9323"/>
                  <a:pt x="22696" y="9376"/>
                </a:cubicBezTo>
                <a:cubicBezTo>
                  <a:pt x="22663" y="9442"/>
                  <a:pt x="22676" y="9441"/>
                  <a:pt x="22696" y="9500"/>
                </a:cubicBezTo>
                <a:cubicBezTo>
                  <a:pt x="22708" y="9535"/>
                  <a:pt x="22703" y="9525"/>
                  <a:pt x="22746" y="9525"/>
                </a:cubicBezTo>
              </a:path>
              <a:path w="3077" h="1241">
                <a:moveTo>
                  <a:pt x="23068" y="8706"/>
                </a:moveTo>
                <a:cubicBezTo>
                  <a:pt x="23114" y="8648"/>
                  <a:pt x="23151" y="8615"/>
                  <a:pt x="23217" y="8582"/>
                </a:cubicBezTo>
                <a:cubicBezTo>
                  <a:pt x="23225" y="8582"/>
                  <a:pt x="23234" y="8582"/>
                  <a:pt x="23242" y="8582"/>
                </a:cubicBezTo>
                <a:cubicBezTo>
                  <a:pt x="23262" y="8612"/>
                  <a:pt x="23333" y="8632"/>
                  <a:pt x="23341" y="8657"/>
                </a:cubicBezTo>
                <a:cubicBezTo>
                  <a:pt x="23362" y="8725"/>
                  <a:pt x="23366" y="8797"/>
                  <a:pt x="23341" y="8855"/>
                </a:cubicBezTo>
                <a:cubicBezTo>
                  <a:pt x="23314" y="8918"/>
                  <a:pt x="23243" y="8982"/>
                  <a:pt x="23217" y="9029"/>
                </a:cubicBezTo>
                <a:cubicBezTo>
                  <a:pt x="23164" y="9125"/>
                  <a:pt x="23143" y="9164"/>
                  <a:pt x="23093" y="9252"/>
                </a:cubicBezTo>
                <a:cubicBezTo>
                  <a:pt x="23063" y="9306"/>
                  <a:pt x="23068" y="9341"/>
                  <a:pt x="23068" y="9401"/>
                </a:cubicBezTo>
                <a:cubicBezTo>
                  <a:pt x="23132" y="9401"/>
                  <a:pt x="23115" y="9443"/>
                  <a:pt x="23168" y="9451"/>
                </a:cubicBezTo>
                <a:cubicBezTo>
                  <a:pt x="23212" y="9457"/>
                  <a:pt x="23292" y="9416"/>
                  <a:pt x="23341" y="9401"/>
                </a:cubicBezTo>
                <a:cubicBezTo>
                  <a:pt x="23392" y="9386"/>
                  <a:pt x="23411" y="9376"/>
                  <a:pt x="23465" y="9376"/>
                </a:cubicBezTo>
              </a:path>
              <a:path w="3077" h="1241">
                <a:moveTo>
                  <a:pt x="23614" y="8558"/>
                </a:moveTo>
                <a:cubicBezTo>
                  <a:pt x="23717" y="8558"/>
                  <a:pt x="23995" y="8603"/>
                  <a:pt x="24011" y="8508"/>
                </a:cubicBezTo>
              </a:path>
              <a:path w="3077" h="1241">
                <a:moveTo>
                  <a:pt x="23564" y="8781"/>
                </a:moveTo>
                <a:cubicBezTo>
                  <a:pt x="23564" y="8830"/>
                  <a:pt x="23558" y="8835"/>
                  <a:pt x="23589" y="8855"/>
                </a:cubicBezTo>
                <a:cubicBezTo>
                  <a:pt x="23615" y="8838"/>
                  <a:pt x="23617" y="8792"/>
                  <a:pt x="23639" y="8781"/>
                </a:cubicBezTo>
                <a:cubicBezTo>
                  <a:pt x="23672" y="8764"/>
                  <a:pt x="23716" y="8786"/>
                  <a:pt x="23738" y="8806"/>
                </a:cubicBezTo>
                <a:cubicBezTo>
                  <a:pt x="23799" y="8862"/>
                  <a:pt x="23812" y="8865"/>
                  <a:pt x="23862" y="8930"/>
                </a:cubicBezTo>
                <a:cubicBezTo>
                  <a:pt x="23892" y="8969"/>
                  <a:pt x="23931" y="9028"/>
                  <a:pt x="23937" y="9079"/>
                </a:cubicBezTo>
                <a:cubicBezTo>
                  <a:pt x="23949" y="9185"/>
                  <a:pt x="23928" y="9236"/>
                  <a:pt x="23887" y="9327"/>
                </a:cubicBezTo>
                <a:cubicBezTo>
                  <a:pt x="23875" y="9353"/>
                  <a:pt x="23764" y="9439"/>
                  <a:pt x="23738" y="9451"/>
                </a:cubicBezTo>
                <a:cubicBezTo>
                  <a:pt x="23638" y="9498"/>
                  <a:pt x="23476" y="9442"/>
                  <a:pt x="23416" y="9401"/>
                </a:cubicBezTo>
                <a:cubicBezTo>
                  <a:pt x="23408" y="9401"/>
                  <a:pt x="23399" y="9401"/>
                  <a:pt x="23391" y="940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2054160" y="4054320"/>
            <a:ext cx="446040" cy="204840"/>
          </a:xfrm>
          <a:custGeom>
            <a:avLst/>
            <a:gdLst/>
            <a:ahLst/>
            <a:rect l="l" t="t" r="r" b="b"/>
            <a:pathLst>
              <a:path w="1241" h="572">
                <a:moveTo>
                  <a:pt x="5755" y="11509"/>
                </a:moveTo>
                <a:cubicBezTo>
                  <a:pt x="5755" y="11583"/>
                  <a:pt x="5733" y="11699"/>
                  <a:pt x="5779" y="11757"/>
                </a:cubicBezTo>
                <a:cubicBezTo>
                  <a:pt x="5813" y="11799"/>
                  <a:pt x="5847" y="11821"/>
                  <a:pt x="5904" y="11807"/>
                </a:cubicBezTo>
                <a:cubicBezTo>
                  <a:pt x="5996" y="11784"/>
                  <a:pt x="6013" y="11745"/>
                  <a:pt x="6028" y="11658"/>
                </a:cubicBezTo>
                <a:cubicBezTo>
                  <a:pt x="6037" y="11603"/>
                  <a:pt x="6031" y="11481"/>
                  <a:pt x="6003" y="11435"/>
                </a:cubicBezTo>
                <a:cubicBezTo>
                  <a:pt x="5962" y="11368"/>
                  <a:pt x="5913" y="11330"/>
                  <a:pt x="5854" y="11286"/>
                </a:cubicBezTo>
                <a:cubicBezTo>
                  <a:pt x="5802" y="11247"/>
                  <a:pt x="5780" y="11266"/>
                  <a:pt x="5730" y="11311"/>
                </a:cubicBezTo>
                <a:cubicBezTo>
                  <a:pt x="5692" y="11345"/>
                  <a:pt x="5705" y="11386"/>
                  <a:pt x="5705" y="11435"/>
                </a:cubicBezTo>
                <a:cubicBezTo>
                  <a:pt x="5705" y="11463"/>
                  <a:pt x="5707" y="11474"/>
                  <a:pt x="5730" y="11485"/>
                </a:cubicBezTo>
              </a:path>
              <a:path w="1241" h="572">
                <a:moveTo>
                  <a:pt x="6226" y="11633"/>
                </a:moveTo>
                <a:cubicBezTo>
                  <a:pt x="6226" y="11685"/>
                  <a:pt x="6243" y="11781"/>
                  <a:pt x="6226" y="11757"/>
                </a:cubicBezTo>
                <a:cubicBezTo>
                  <a:pt x="6192" y="11711"/>
                  <a:pt x="6219" y="11686"/>
                  <a:pt x="6201" y="11633"/>
                </a:cubicBezTo>
                <a:cubicBezTo>
                  <a:pt x="6175" y="11555"/>
                  <a:pt x="6179" y="11557"/>
                  <a:pt x="6201" y="11485"/>
                </a:cubicBezTo>
                <a:cubicBezTo>
                  <a:pt x="6212" y="11448"/>
                  <a:pt x="6238" y="11409"/>
                  <a:pt x="6276" y="11385"/>
                </a:cubicBezTo>
                <a:cubicBezTo>
                  <a:pt x="6323" y="11355"/>
                  <a:pt x="6347" y="11361"/>
                  <a:pt x="6400" y="11361"/>
                </a:cubicBezTo>
              </a:path>
              <a:path w="1241" h="572">
                <a:moveTo>
                  <a:pt x="6524" y="11782"/>
                </a:moveTo>
                <a:cubicBezTo>
                  <a:pt x="6524" y="11807"/>
                  <a:pt x="6524" y="11815"/>
                  <a:pt x="6524" y="11782"/>
                </a:cubicBezTo>
              </a:path>
              <a:path w="1241" h="572">
                <a:moveTo>
                  <a:pt x="6697" y="11807"/>
                </a:moveTo>
                <a:cubicBezTo>
                  <a:pt x="6705" y="11807"/>
                  <a:pt x="6714" y="11807"/>
                  <a:pt x="6722" y="11807"/>
                </a:cubicBezTo>
              </a:path>
              <a:path w="1241" h="572">
                <a:moveTo>
                  <a:pt x="6896" y="11832"/>
                </a:moveTo>
                <a:cubicBezTo>
                  <a:pt x="6912" y="11815"/>
                  <a:pt x="6929" y="11799"/>
                  <a:pt x="6945" y="1178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2768760" y="3911760"/>
            <a:ext cx="3670200" cy="795240"/>
          </a:xfrm>
          <a:custGeom>
            <a:avLst/>
            <a:gdLst/>
            <a:ahLst/>
            <a:rect l="l" t="t" r="r" b="b"/>
            <a:pathLst>
              <a:path w="10196" h="2209">
                <a:moveTo>
                  <a:pt x="7962" y="10889"/>
                </a:moveTo>
                <a:cubicBezTo>
                  <a:pt x="8073" y="10889"/>
                  <a:pt x="8273" y="10929"/>
                  <a:pt x="8359" y="10864"/>
                </a:cubicBezTo>
              </a:path>
              <a:path w="10196" h="2209">
                <a:moveTo>
                  <a:pt x="7962" y="10864"/>
                </a:moveTo>
                <a:cubicBezTo>
                  <a:pt x="7930" y="10934"/>
                  <a:pt x="7915" y="10997"/>
                  <a:pt x="7888" y="11063"/>
                </a:cubicBezTo>
                <a:cubicBezTo>
                  <a:pt x="7867" y="11116"/>
                  <a:pt x="7863" y="11132"/>
                  <a:pt x="7863" y="11187"/>
                </a:cubicBezTo>
                <a:cubicBezTo>
                  <a:pt x="7863" y="11228"/>
                  <a:pt x="7863" y="11236"/>
                  <a:pt x="7863" y="11261"/>
                </a:cubicBezTo>
                <a:cubicBezTo>
                  <a:pt x="7903" y="11251"/>
                  <a:pt x="7926" y="11224"/>
                  <a:pt x="7962" y="11212"/>
                </a:cubicBezTo>
                <a:cubicBezTo>
                  <a:pt x="8011" y="11196"/>
                  <a:pt x="8029" y="11162"/>
                  <a:pt x="8086" y="11162"/>
                </a:cubicBezTo>
                <a:cubicBezTo>
                  <a:pt x="8120" y="11162"/>
                  <a:pt x="8161" y="11189"/>
                  <a:pt x="8186" y="11212"/>
                </a:cubicBezTo>
                <a:cubicBezTo>
                  <a:pt x="8229" y="11251"/>
                  <a:pt x="8258" y="11285"/>
                  <a:pt x="8285" y="11336"/>
                </a:cubicBezTo>
                <a:cubicBezTo>
                  <a:pt x="8320" y="11401"/>
                  <a:pt x="8334" y="11437"/>
                  <a:pt x="8334" y="11509"/>
                </a:cubicBezTo>
                <a:cubicBezTo>
                  <a:pt x="8334" y="11597"/>
                  <a:pt x="8294" y="11589"/>
                  <a:pt x="8235" y="11609"/>
                </a:cubicBezTo>
                <a:cubicBezTo>
                  <a:pt x="8162" y="11634"/>
                  <a:pt x="8126" y="11682"/>
                  <a:pt x="8037" y="11658"/>
                </a:cubicBezTo>
                <a:cubicBezTo>
                  <a:pt x="7993" y="11646"/>
                  <a:pt x="7897" y="11628"/>
                  <a:pt x="7863" y="11609"/>
                </a:cubicBezTo>
                <a:cubicBezTo>
                  <a:pt x="7815" y="11583"/>
                  <a:pt x="7842" y="11561"/>
                  <a:pt x="7863" y="11534"/>
                </a:cubicBezTo>
              </a:path>
              <a:path w="10196" h="2209">
                <a:moveTo>
                  <a:pt x="8657" y="10864"/>
                </a:moveTo>
                <a:cubicBezTo>
                  <a:pt x="8657" y="10961"/>
                  <a:pt x="8643" y="11047"/>
                  <a:pt x="8632" y="11137"/>
                </a:cubicBezTo>
                <a:cubicBezTo>
                  <a:pt x="8612" y="11295"/>
                  <a:pt x="8625" y="11483"/>
                  <a:pt x="8657" y="11633"/>
                </a:cubicBezTo>
                <a:cubicBezTo>
                  <a:pt x="8657" y="11641"/>
                  <a:pt x="8657" y="11650"/>
                  <a:pt x="8657" y="11658"/>
                </a:cubicBezTo>
              </a:path>
              <a:path w="10196" h="2209">
                <a:moveTo>
                  <a:pt x="7689" y="11832"/>
                </a:moveTo>
                <a:cubicBezTo>
                  <a:pt x="7923" y="11832"/>
                  <a:pt x="8153" y="11838"/>
                  <a:pt x="8384" y="11857"/>
                </a:cubicBezTo>
                <a:cubicBezTo>
                  <a:pt x="8500" y="11867"/>
                  <a:pt x="8616" y="11876"/>
                  <a:pt x="8731" y="11881"/>
                </a:cubicBezTo>
                <a:cubicBezTo>
                  <a:pt x="8767" y="11883"/>
                  <a:pt x="8897" y="11898"/>
                  <a:pt x="8855" y="11881"/>
                </a:cubicBezTo>
                <a:cubicBezTo>
                  <a:pt x="8839" y="11873"/>
                  <a:pt x="8822" y="11865"/>
                  <a:pt x="8806" y="11857"/>
                </a:cubicBezTo>
              </a:path>
              <a:path w="10196" h="2209">
                <a:moveTo>
                  <a:pt x="8111" y="12278"/>
                </a:moveTo>
                <a:cubicBezTo>
                  <a:pt x="8172" y="12278"/>
                  <a:pt x="8203" y="12247"/>
                  <a:pt x="8260" y="12229"/>
                </a:cubicBezTo>
                <a:cubicBezTo>
                  <a:pt x="8291" y="12219"/>
                  <a:pt x="8379" y="12197"/>
                  <a:pt x="8409" y="12204"/>
                </a:cubicBezTo>
                <a:cubicBezTo>
                  <a:pt x="8462" y="12217"/>
                  <a:pt x="8495" y="12241"/>
                  <a:pt x="8533" y="12278"/>
                </a:cubicBezTo>
                <a:cubicBezTo>
                  <a:pt x="8592" y="12337"/>
                  <a:pt x="8582" y="12366"/>
                  <a:pt x="8582" y="12452"/>
                </a:cubicBezTo>
                <a:cubicBezTo>
                  <a:pt x="8582" y="12540"/>
                  <a:pt x="8540" y="12611"/>
                  <a:pt x="8483" y="12675"/>
                </a:cubicBezTo>
                <a:cubicBezTo>
                  <a:pt x="8431" y="12733"/>
                  <a:pt x="8348" y="12803"/>
                  <a:pt x="8285" y="12849"/>
                </a:cubicBezTo>
                <a:cubicBezTo>
                  <a:pt x="8238" y="12883"/>
                  <a:pt x="8203" y="12906"/>
                  <a:pt x="8161" y="12948"/>
                </a:cubicBezTo>
                <a:cubicBezTo>
                  <a:pt x="8153" y="12956"/>
                  <a:pt x="8144" y="12965"/>
                  <a:pt x="8136" y="12973"/>
                </a:cubicBezTo>
                <a:cubicBezTo>
                  <a:pt x="8186" y="12961"/>
                  <a:pt x="8201" y="12953"/>
                  <a:pt x="8260" y="12948"/>
                </a:cubicBezTo>
                <a:cubicBezTo>
                  <a:pt x="8311" y="12944"/>
                  <a:pt x="8365" y="12957"/>
                  <a:pt x="8409" y="12973"/>
                </a:cubicBezTo>
                <a:cubicBezTo>
                  <a:pt x="8486" y="13000"/>
                  <a:pt x="8559" y="13016"/>
                  <a:pt x="8632" y="13047"/>
                </a:cubicBezTo>
                <a:cubicBezTo>
                  <a:pt x="8680" y="13067"/>
                  <a:pt x="8751" y="13091"/>
                  <a:pt x="8806" y="13072"/>
                </a:cubicBezTo>
                <a:cubicBezTo>
                  <a:pt x="8849" y="13050"/>
                  <a:pt x="8861" y="13046"/>
                  <a:pt x="8880" y="13022"/>
                </a:cubicBezTo>
              </a:path>
              <a:path w="10196" h="2209">
                <a:moveTo>
                  <a:pt x="9376" y="11063"/>
                </a:moveTo>
                <a:cubicBezTo>
                  <a:pt x="9353" y="11140"/>
                  <a:pt x="9330" y="11211"/>
                  <a:pt x="9302" y="11286"/>
                </a:cubicBezTo>
                <a:cubicBezTo>
                  <a:pt x="9237" y="11460"/>
                  <a:pt x="9160" y="11647"/>
                  <a:pt x="9153" y="11832"/>
                </a:cubicBezTo>
                <a:cubicBezTo>
                  <a:pt x="9149" y="11948"/>
                  <a:pt x="9164" y="12023"/>
                  <a:pt x="9203" y="12129"/>
                </a:cubicBezTo>
                <a:cubicBezTo>
                  <a:pt x="9237" y="12222"/>
                  <a:pt x="9280" y="12268"/>
                  <a:pt x="9351" y="12328"/>
                </a:cubicBezTo>
                <a:cubicBezTo>
                  <a:pt x="9383" y="12355"/>
                  <a:pt x="9412" y="12424"/>
                  <a:pt x="9401" y="12402"/>
                </a:cubicBezTo>
                <a:cubicBezTo>
                  <a:pt x="9401" y="12394"/>
                  <a:pt x="9401" y="12386"/>
                  <a:pt x="9401" y="12378"/>
                </a:cubicBezTo>
              </a:path>
              <a:path w="10196" h="2209">
                <a:moveTo>
                  <a:pt x="9922" y="11361"/>
                </a:moveTo>
                <a:cubicBezTo>
                  <a:pt x="9960" y="11373"/>
                  <a:pt x="9947" y="11390"/>
                  <a:pt x="9947" y="11435"/>
                </a:cubicBezTo>
                <a:cubicBezTo>
                  <a:pt x="9947" y="11533"/>
                  <a:pt x="9936" y="11613"/>
                  <a:pt x="9922" y="11708"/>
                </a:cubicBezTo>
                <a:cubicBezTo>
                  <a:pt x="9897" y="11882"/>
                  <a:pt x="9922" y="12078"/>
                  <a:pt x="9922" y="12254"/>
                </a:cubicBezTo>
              </a:path>
              <a:path w="10196" h="2209">
                <a:moveTo>
                  <a:pt x="10195" y="11584"/>
                </a:moveTo>
                <a:cubicBezTo>
                  <a:pt x="10195" y="11659"/>
                  <a:pt x="10172" y="11687"/>
                  <a:pt x="10145" y="11757"/>
                </a:cubicBezTo>
                <a:cubicBezTo>
                  <a:pt x="10107" y="11853"/>
                  <a:pt x="10111" y="11912"/>
                  <a:pt x="10120" y="12005"/>
                </a:cubicBezTo>
                <a:cubicBezTo>
                  <a:pt x="10124" y="12051"/>
                  <a:pt x="10139" y="12159"/>
                  <a:pt x="10195" y="12179"/>
                </a:cubicBezTo>
                <a:cubicBezTo>
                  <a:pt x="10228" y="12191"/>
                  <a:pt x="10328" y="12221"/>
                  <a:pt x="10368" y="12204"/>
                </a:cubicBezTo>
                <a:cubicBezTo>
                  <a:pt x="10436" y="12175"/>
                  <a:pt x="10461" y="12118"/>
                  <a:pt x="10492" y="12055"/>
                </a:cubicBezTo>
                <a:cubicBezTo>
                  <a:pt x="10530" y="11977"/>
                  <a:pt x="10517" y="11893"/>
                  <a:pt x="10517" y="11807"/>
                </a:cubicBezTo>
                <a:cubicBezTo>
                  <a:pt x="10517" y="11681"/>
                  <a:pt x="10472" y="11632"/>
                  <a:pt x="10368" y="11559"/>
                </a:cubicBezTo>
                <a:cubicBezTo>
                  <a:pt x="10302" y="11513"/>
                  <a:pt x="10233" y="11543"/>
                  <a:pt x="10170" y="11584"/>
                </a:cubicBezTo>
                <a:cubicBezTo>
                  <a:pt x="10110" y="11623"/>
                  <a:pt x="10120" y="11668"/>
                  <a:pt x="10120" y="11733"/>
                </a:cubicBezTo>
                <a:cubicBezTo>
                  <a:pt x="10120" y="11787"/>
                  <a:pt x="10126" y="11806"/>
                  <a:pt x="10145" y="11857"/>
                </a:cubicBezTo>
              </a:path>
              <a:path w="10196" h="2209">
                <a:moveTo>
                  <a:pt x="10691" y="11658"/>
                </a:moveTo>
                <a:cubicBezTo>
                  <a:pt x="10650" y="11793"/>
                  <a:pt x="10641" y="11849"/>
                  <a:pt x="10641" y="11981"/>
                </a:cubicBezTo>
                <a:cubicBezTo>
                  <a:pt x="10641" y="12053"/>
                  <a:pt x="10691" y="12101"/>
                  <a:pt x="10740" y="12154"/>
                </a:cubicBezTo>
                <a:cubicBezTo>
                  <a:pt x="10769" y="12185"/>
                  <a:pt x="10846" y="12201"/>
                  <a:pt x="10889" y="12204"/>
                </a:cubicBezTo>
                <a:cubicBezTo>
                  <a:pt x="10943" y="12208"/>
                  <a:pt x="10983" y="12175"/>
                  <a:pt x="11013" y="12129"/>
                </a:cubicBezTo>
                <a:cubicBezTo>
                  <a:pt x="11047" y="12076"/>
                  <a:pt x="11047" y="11992"/>
                  <a:pt x="11038" y="11931"/>
                </a:cubicBezTo>
                <a:cubicBezTo>
                  <a:pt x="11019" y="11808"/>
                  <a:pt x="11020" y="11747"/>
                  <a:pt x="10939" y="11658"/>
                </a:cubicBezTo>
                <a:cubicBezTo>
                  <a:pt x="10888" y="11602"/>
                  <a:pt x="10835" y="11609"/>
                  <a:pt x="10765" y="11609"/>
                </a:cubicBezTo>
                <a:cubicBezTo>
                  <a:pt x="10729" y="11609"/>
                  <a:pt x="10662" y="11627"/>
                  <a:pt x="10641" y="11658"/>
                </a:cubicBezTo>
                <a:cubicBezTo>
                  <a:pt x="10621" y="11699"/>
                  <a:pt x="10612" y="11705"/>
                  <a:pt x="10616" y="11733"/>
                </a:cubicBezTo>
              </a:path>
              <a:path w="10196" h="2209">
                <a:moveTo>
                  <a:pt x="11212" y="11733"/>
                </a:moveTo>
                <a:cubicBezTo>
                  <a:pt x="11135" y="11902"/>
                  <a:pt x="11123" y="11933"/>
                  <a:pt x="11137" y="12105"/>
                </a:cubicBezTo>
                <a:cubicBezTo>
                  <a:pt x="11145" y="12206"/>
                  <a:pt x="11187" y="12184"/>
                  <a:pt x="11237" y="12254"/>
                </a:cubicBezTo>
                <a:cubicBezTo>
                  <a:pt x="11269" y="12299"/>
                  <a:pt x="11340" y="12344"/>
                  <a:pt x="11410" y="12328"/>
                </a:cubicBezTo>
                <a:cubicBezTo>
                  <a:pt x="11465" y="12316"/>
                  <a:pt x="11539" y="12252"/>
                  <a:pt x="11559" y="12204"/>
                </a:cubicBezTo>
                <a:cubicBezTo>
                  <a:pt x="11588" y="12135"/>
                  <a:pt x="11584" y="12055"/>
                  <a:pt x="11584" y="11981"/>
                </a:cubicBezTo>
                <a:cubicBezTo>
                  <a:pt x="11584" y="11898"/>
                  <a:pt x="11588" y="11826"/>
                  <a:pt x="11534" y="11757"/>
                </a:cubicBezTo>
                <a:cubicBezTo>
                  <a:pt x="11495" y="11707"/>
                  <a:pt x="11399" y="11647"/>
                  <a:pt x="11336" y="11633"/>
                </a:cubicBezTo>
                <a:cubicBezTo>
                  <a:pt x="11301" y="11625"/>
                  <a:pt x="11249" y="11633"/>
                  <a:pt x="11212" y="11633"/>
                </a:cubicBezTo>
              </a:path>
              <a:path w="10196" h="2209">
                <a:moveTo>
                  <a:pt x="12055" y="11509"/>
                </a:moveTo>
                <a:cubicBezTo>
                  <a:pt x="12055" y="11646"/>
                  <a:pt x="12061" y="11773"/>
                  <a:pt x="12080" y="11906"/>
                </a:cubicBezTo>
                <a:cubicBezTo>
                  <a:pt x="12092" y="11989"/>
                  <a:pt x="12115" y="12082"/>
                  <a:pt x="12129" y="12154"/>
                </a:cubicBezTo>
                <a:cubicBezTo>
                  <a:pt x="12129" y="12196"/>
                  <a:pt x="12129" y="12204"/>
                  <a:pt x="12129" y="12229"/>
                </a:cubicBezTo>
              </a:path>
              <a:path w="10196" h="2209">
                <a:moveTo>
                  <a:pt x="11807" y="11807"/>
                </a:moveTo>
                <a:cubicBezTo>
                  <a:pt x="11916" y="11807"/>
                  <a:pt x="12025" y="11809"/>
                  <a:pt x="12129" y="11832"/>
                </a:cubicBezTo>
                <a:cubicBezTo>
                  <a:pt x="12234" y="11855"/>
                  <a:pt x="12300" y="11842"/>
                  <a:pt x="12402" y="11807"/>
                </a:cubicBezTo>
              </a:path>
              <a:path w="10196" h="2209">
                <a:moveTo>
                  <a:pt x="12378" y="11609"/>
                </a:moveTo>
                <a:cubicBezTo>
                  <a:pt x="12387" y="11580"/>
                  <a:pt x="12411" y="11564"/>
                  <a:pt x="12452" y="11559"/>
                </a:cubicBezTo>
                <a:cubicBezTo>
                  <a:pt x="12589" y="11544"/>
                  <a:pt x="12736" y="11559"/>
                  <a:pt x="12874" y="11559"/>
                </a:cubicBezTo>
                <a:cubicBezTo>
                  <a:pt x="12874" y="11612"/>
                  <a:pt x="12854" y="11629"/>
                  <a:pt x="12849" y="11683"/>
                </a:cubicBezTo>
                <a:cubicBezTo>
                  <a:pt x="12835" y="11845"/>
                  <a:pt x="12839" y="12026"/>
                  <a:pt x="12874" y="12179"/>
                </a:cubicBezTo>
                <a:cubicBezTo>
                  <a:pt x="12879" y="12201"/>
                  <a:pt x="12874" y="12232"/>
                  <a:pt x="12874" y="12254"/>
                </a:cubicBezTo>
                <a:cubicBezTo>
                  <a:pt x="12926" y="12241"/>
                  <a:pt x="12915" y="12216"/>
                  <a:pt x="12948" y="12179"/>
                </a:cubicBezTo>
                <a:cubicBezTo>
                  <a:pt x="12956" y="12171"/>
                  <a:pt x="12965" y="12162"/>
                  <a:pt x="12973" y="12154"/>
                </a:cubicBezTo>
              </a:path>
              <a:path w="10196" h="2209">
                <a:moveTo>
                  <a:pt x="13097" y="11609"/>
                </a:moveTo>
                <a:cubicBezTo>
                  <a:pt x="13210" y="11609"/>
                  <a:pt x="13377" y="11640"/>
                  <a:pt x="13469" y="11584"/>
                </a:cubicBezTo>
              </a:path>
              <a:path w="10196" h="2209">
                <a:moveTo>
                  <a:pt x="13097" y="11609"/>
                </a:moveTo>
                <a:cubicBezTo>
                  <a:pt x="13068" y="11659"/>
                  <a:pt x="13047" y="11678"/>
                  <a:pt x="13047" y="11733"/>
                </a:cubicBezTo>
                <a:cubicBezTo>
                  <a:pt x="13047" y="11779"/>
                  <a:pt x="13046" y="11801"/>
                  <a:pt x="13097" y="11807"/>
                </a:cubicBezTo>
                <a:cubicBezTo>
                  <a:pt x="13152" y="11813"/>
                  <a:pt x="13179" y="11791"/>
                  <a:pt x="13221" y="11782"/>
                </a:cubicBezTo>
                <a:cubicBezTo>
                  <a:pt x="13294" y="11766"/>
                  <a:pt x="13286" y="11762"/>
                  <a:pt x="13345" y="11782"/>
                </a:cubicBezTo>
                <a:cubicBezTo>
                  <a:pt x="13385" y="11795"/>
                  <a:pt x="13431" y="11829"/>
                  <a:pt x="13469" y="11857"/>
                </a:cubicBezTo>
                <a:cubicBezTo>
                  <a:pt x="13518" y="11893"/>
                  <a:pt x="13531" y="11976"/>
                  <a:pt x="13543" y="12030"/>
                </a:cubicBezTo>
                <a:cubicBezTo>
                  <a:pt x="13554" y="12081"/>
                  <a:pt x="13549" y="12141"/>
                  <a:pt x="13519" y="12179"/>
                </a:cubicBezTo>
                <a:cubicBezTo>
                  <a:pt x="13485" y="12222"/>
                  <a:pt x="13445" y="12229"/>
                  <a:pt x="13395" y="12229"/>
                </a:cubicBezTo>
                <a:cubicBezTo>
                  <a:pt x="13338" y="12229"/>
                  <a:pt x="13296" y="12237"/>
                  <a:pt x="13246" y="12204"/>
                </a:cubicBezTo>
                <a:cubicBezTo>
                  <a:pt x="13216" y="12184"/>
                  <a:pt x="13179" y="12167"/>
                  <a:pt x="13171" y="12129"/>
                </a:cubicBezTo>
                <a:cubicBezTo>
                  <a:pt x="13171" y="12113"/>
                  <a:pt x="13171" y="12096"/>
                  <a:pt x="13171" y="12080"/>
                </a:cubicBezTo>
              </a:path>
              <a:path w="10196" h="2209">
                <a:moveTo>
                  <a:pt x="13717" y="11609"/>
                </a:moveTo>
                <a:cubicBezTo>
                  <a:pt x="13708" y="11642"/>
                  <a:pt x="13683" y="11731"/>
                  <a:pt x="13667" y="11757"/>
                </a:cubicBezTo>
                <a:cubicBezTo>
                  <a:pt x="13623" y="11829"/>
                  <a:pt x="13582" y="11885"/>
                  <a:pt x="13593" y="11981"/>
                </a:cubicBezTo>
                <a:cubicBezTo>
                  <a:pt x="13605" y="12086"/>
                  <a:pt x="13628" y="12177"/>
                  <a:pt x="13717" y="12229"/>
                </a:cubicBezTo>
                <a:cubicBezTo>
                  <a:pt x="13765" y="12257"/>
                  <a:pt x="13830" y="12322"/>
                  <a:pt x="13891" y="12303"/>
                </a:cubicBezTo>
                <a:cubicBezTo>
                  <a:pt x="13924" y="12293"/>
                  <a:pt x="13983" y="12208"/>
                  <a:pt x="13990" y="12179"/>
                </a:cubicBezTo>
                <a:cubicBezTo>
                  <a:pt x="14009" y="12097"/>
                  <a:pt x="13993" y="11982"/>
                  <a:pt x="13965" y="11906"/>
                </a:cubicBezTo>
                <a:cubicBezTo>
                  <a:pt x="13939" y="11835"/>
                  <a:pt x="13899" y="11733"/>
                  <a:pt x="13841" y="11683"/>
                </a:cubicBezTo>
                <a:cubicBezTo>
                  <a:pt x="13802" y="11650"/>
                  <a:pt x="13716" y="11621"/>
                  <a:pt x="13667" y="11609"/>
                </a:cubicBezTo>
                <a:cubicBezTo>
                  <a:pt x="13607" y="11594"/>
                  <a:pt x="13662" y="11655"/>
                  <a:pt x="13667" y="11658"/>
                </a:cubicBezTo>
                <a:cubicBezTo>
                  <a:pt x="13675" y="11666"/>
                  <a:pt x="13684" y="11675"/>
                  <a:pt x="13692" y="11683"/>
                </a:cubicBezTo>
              </a:path>
              <a:path w="10196" h="2209">
                <a:moveTo>
                  <a:pt x="13791" y="11187"/>
                </a:moveTo>
                <a:cubicBezTo>
                  <a:pt x="13791" y="11145"/>
                  <a:pt x="13783" y="11129"/>
                  <a:pt x="13816" y="11137"/>
                </a:cubicBezTo>
                <a:cubicBezTo>
                  <a:pt x="13865" y="11198"/>
                  <a:pt x="13908" y="11254"/>
                  <a:pt x="13965" y="11311"/>
                </a:cubicBezTo>
                <a:cubicBezTo>
                  <a:pt x="14074" y="11420"/>
                  <a:pt x="14112" y="11552"/>
                  <a:pt x="14188" y="11683"/>
                </a:cubicBezTo>
                <a:cubicBezTo>
                  <a:pt x="14259" y="11804"/>
                  <a:pt x="14284" y="11914"/>
                  <a:pt x="14288" y="12055"/>
                </a:cubicBezTo>
                <a:cubicBezTo>
                  <a:pt x="14292" y="12195"/>
                  <a:pt x="14285" y="12221"/>
                  <a:pt x="14213" y="12328"/>
                </a:cubicBezTo>
                <a:cubicBezTo>
                  <a:pt x="14177" y="12382"/>
                  <a:pt x="14125" y="12469"/>
                  <a:pt x="14064" y="12502"/>
                </a:cubicBezTo>
                <a:cubicBezTo>
                  <a:pt x="13984" y="12545"/>
                  <a:pt x="13974" y="12543"/>
                  <a:pt x="13940" y="12526"/>
                </a:cubicBezTo>
              </a:path>
              <a:path w="10196" h="2209">
                <a:moveTo>
                  <a:pt x="14635" y="12179"/>
                </a:moveTo>
                <a:cubicBezTo>
                  <a:pt x="14782" y="12186"/>
                  <a:pt x="14800" y="12201"/>
                  <a:pt x="14908" y="12179"/>
                </a:cubicBezTo>
              </a:path>
              <a:path w="10196" h="2209">
                <a:moveTo>
                  <a:pt x="14635" y="12402"/>
                </a:moveTo>
                <a:cubicBezTo>
                  <a:pt x="14730" y="12450"/>
                  <a:pt x="14777" y="12452"/>
                  <a:pt x="14883" y="12452"/>
                </a:cubicBezTo>
              </a:path>
              <a:path w="10196" h="2209">
                <a:moveTo>
                  <a:pt x="15255" y="11733"/>
                </a:moveTo>
                <a:cubicBezTo>
                  <a:pt x="15204" y="11791"/>
                  <a:pt x="15188" y="11823"/>
                  <a:pt x="15180" y="11906"/>
                </a:cubicBezTo>
                <a:cubicBezTo>
                  <a:pt x="15176" y="11955"/>
                  <a:pt x="15180" y="12006"/>
                  <a:pt x="15180" y="12055"/>
                </a:cubicBezTo>
                <a:cubicBezTo>
                  <a:pt x="15236" y="12055"/>
                  <a:pt x="15214" y="12035"/>
                  <a:pt x="15255" y="12030"/>
                </a:cubicBezTo>
                <a:cubicBezTo>
                  <a:pt x="15304" y="12024"/>
                  <a:pt x="15345" y="12051"/>
                  <a:pt x="15379" y="12055"/>
                </a:cubicBezTo>
                <a:cubicBezTo>
                  <a:pt x="15484" y="12068"/>
                  <a:pt x="15520" y="12053"/>
                  <a:pt x="15602" y="12005"/>
                </a:cubicBezTo>
              </a:path>
              <a:path w="10196" h="2209">
                <a:moveTo>
                  <a:pt x="15553" y="11435"/>
                </a:moveTo>
                <a:cubicBezTo>
                  <a:pt x="15525" y="11574"/>
                  <a:pt x="15507" y="11714"/>
                  <a:pt x="15503" y="11857"/>
                </a:cubicBezTo>
                <a:cubicBezTo>
                  <a:pt x="15499" y="12018"/>
                  <a:pt x="15511" y="12172"/>
                  <a:pt x="15528" y="12328"/>
                </a:cubicBezTo>
                <a:cubicBezTo>
                  <a:pt x="15536" y="12405"/>
                  <a:pt x="15547" y="12476"/>
                  <a:pt x="15553" y="12551"/>
                </a:cubicBezTo>
                <a:cubicBezTo>
                  <a:pt x="15558" y="12610"/>
                  <a:pt x="15564" y="12606"/>
                  <a:pt x="15577" y="12551"/>
                </a:cubicBezTo>
              </a:path>
              <a:path w="10196" h="2209">
                <a:moveTo>
                  <a:pt x="15751" y="11683"/>
                </a:moveTo>
                <a:cubicBezTo>
                  <a:pt x="15708" y="11754"/>
                  <a:pt x="15708" y="11795"/>
                  <a:pt x="15677" y="11857"/>
                </a:cubicBezTo>
                <a:cubicBezTo>
                  <a:pt x="15654" y="11903"/>
                  <a:pt x="15652" y="11921"/>
                  <a:pt x="15652" y="11981"/>
                </a:cubicBezTo>
                <a:cubicBezTo>
                  <a:pt x="15652" y="12012"/>
                  <a:pt x="15660" y="12046"/>
                  <a:pt x="15677" y="12055"/>
                </a:cubicBezTo>
                <a:cubicBezTo>
                  <a:pt x="15717" y="12076"/>
                  <a:pt x="15760" y="12063"/>
                  <a:pt x="15801" y="12080"/>
                </a:cubicBezTo>
                <a:cubicBezTo>
                  <a:pt x="15890" y="12118"/>
                  <a:pt x="15919" y="12101"/>
                  <a:pt x="15999" y="12055"/>
                </a:cubicBezTo>
              </a:path>
              <a:path w="10196" h="2209">
                <a:moveTo>
                  <a:pt x="15925" y="11559"/>
                </a:moveTo>
                <a:cubicBezTo>
                  <a:pt x="15886" y="11762"/>
                  <a:pt x="15850" y="11927"/>
                  <a:pt x="15850" y="12129"/>
                </a:cubicBezTo>
                <a:cubicBezTo>
                  <a:pt x="15850" y="12234"/>
                  <a:pt x="15871" y="12326"/>
                  <a:pt x="15875" y="12427"/>
                </a:cubicBezTo>
                <a:cubicBezTo>
                  <a:pt x="15877" y="12482"/>
                  <a:pt x="15852" y="12585"/>
                  <a:pt x="15900" y="12601"/>
                </a:cubicBezTo>
              </a:path>
              <a:path w="10196" h="2209">
                <a:moveTo>
                  <a:pt x="16098" y="12427"/>
                </a:moveTo>
                <a:cubicBezTo>
                  <a:pt x="16098" y="12559"/>
                  <a:pt x="16098" y="12692"/>
                  <a:pt x="16098" y="12824"/>
                </a:cubicBezTo>
              </a:path>
              <a:path w="10196" h="2209">
                <a:moveTo>
                  <a:pt x="16470" y="11757"/>
                </a:moveTo>
                <a:cubicBezTo>
                  <a:pt x="16442" y="11835"/>
                  <a:pt x="16422" y="11906"/>
                  <a:pt x="16396" y="11981"/>
                </a:cubicBezTo>
                <a:cubicBezTo>
                  <a:pt x="16363" y="12074"/>
                  <a:pt x="16350" y="12180"/>
                  <a:pt x="16346" y="12278"/>
                </a:cubicBezTo>
                <a:cubicBezTo>
                  <a:pt x="16342" y="12355"/>
                  <a:pt x="16385" y="12458"/>
                  <a:pt x="16421" y="12526"/>
                </a:cubicBezTo>
                <a:cubicBezTo>
                  <a:pt x="16474" y="12626"/>
                  <a:pt x="16516" y="12635"/>
                  <a:pt x="16594" y="12675"/>
                </a:cubicBezTo>
                <a:cubicBezTo>
                  <a:pt x="16641" y="12699"/>
                  <a:pt x="16675" y="12691"/>
                  <a:pt x="16694" y="12650"/>
                </a:cubicBezTo>
                <a:cubicBezTo>
                  <a:pt x="16727" y="12576"/>
                  <a:pt x="16743" y="12562"/>
                  <a:pt x="16743" y="12477"/>
                </a:cubicBezTo>
                <a:cubicBezTo>
                  <a:pt x="16743" y="12434"/>
                  <a:pt x="16721" y="12384"/>
                  <a:pt x="16694" y="12353"/>
                </a:cubicBezTo>
                <a:cubicBezTo>
                  <a:pt x="16655" y="12308"/>
                  <a:pt x="16630" y="12320"/>
                  <a:pt x="16594" y="12328"/>
                </a:cubicBezTo>
                <a:cubicBezTo>
                  <a:pt x="16521" y="12345"/>
                  <a:pt x="16540" y="12393"/>
                  <a:pt x="16520" y="12452"/>
                </a:cubicBezTo>
                <a:cubicBezTo>
                  <a:pt x="16496" y="12524"/>
                  <a:pt x="16476" y="12578"/>
                  <a:pt x="16520" y="12650"/>
                </a:cubicBezTo>
                <a:cubicBezTo>
                  <a:pt x="16545" y="12675"/>
                  <a:pt x="16553" y="12683"/>
                  <a:pt x="16570" y="12700"/>
                </a:cubicBezTo>
              </a:path>
              <a:path w="10196" h="2209">
                <a:moveTo>
                  <a:pt x="16768" y="11832"/>
                </a:moveTo>
                <a:cubicBezTo>
                  <a:pt x="16812" y="11832"/>
                  <a:pt x="16817" y="11826"/>
                  <a:pt x="16842" y="11807"/>
                </a:cubicBezTo>
                <a:cubicBezTo>
                  <a:pt x="16888" y="11772"/>
                  <a:pt x="16925" y="11756"/>
                  <a:pt x="16966" y="11733"/>
                </a:cubicBezTo>
                <a:cubicBezTo>
                  <a:pt x="17008" y="11709"/>
                  <a:pt x="17022" y="11704"/>
                  <a:pt x="17066" y="11733"/>
                </a:cubicBezTo>
                <a:cubicBezTo>
                  <a:pt x="17102" y="11757"/>
                  <a:pt x="17113" y="11818"/>
                  <a:pt x="17115" y="11857"/>
                </a:cubicBezTo>
                <a:cubicBezTo>
                  <a:pt x="17121" y="11951"/>
                  <a:pt x="17093" y="12036"/>
                  <a:pt x="17090" y="12129"/>
                </a:cubicBezTo>
                <a:cubicBezTo>
                  <a:pt x="17086" y="12240"/>
                  <a:pt x="17052" y="12342"/>
                  <a:pt x="17041" y="12452"/>
                </a:cubicBezTo>
                <a:cubicBezTo>
                  <a:pt x="17034" y="12519"/>
                  <a:pt x="17024" y="12615"/>
                  <a:pt x="16991" y="12675"/>
                </a:cubicBezTo>
                <a:cubicBezTo>
                  <a:pt x="16972" y="12709"/>
                  <a:pt x="16968" y="12716"/>
                  <a:pt x="16942" y="12725"/>
                </a:cubicBezTo>
                <a:cubicBezTo>
                  <a:pt x="16942" y="12680"/>
                  <a:pt x="16920" y="12666"/>
                  <a:pt x="16917" y="12626"/>
                </a:cubicBezTo>
                <a:cubicBezTo>
                  <a:pt x="16912" y="12555"/>
                  <a:pt x="16905" y="12463"/>
                  <a:pt x="16942" y="12402"/>
                </a:cubicBezTo>
                <a:cubicBezTo>
                  <a:pt x="16966" y="12378"/>
                  <a:pt x="16975" y="12369"/>
                  <a:pt x="16991" y="12353"/>
                </a:cubicBezTo>
                <a:cubicBezTo>
                  <a:pt x="17032" y="12394"/>
                  <a:pt x="17070" y="12418"/>
                  <a:pt x="17115" y="12452"/>
                </a:cubicBezTo>
                <a:cubicBezTo>
                  <a:pt x="17160" y="12486"/>
                  <a:pt x="17195" y="12536"/>
                  <a:pt x="17239" y="12576"/>
                </a:cubicBezTo>
                <a:cubicBezTo>
                  <a:pt x="17280" y="12613"/>
                  <a:pt x="17297" y="12608"/>
                  <a:pt x="17338" y="12576"/>
                </a:cubicBezTo>
              </a:path>
              <a:path w="10196" h="2209">
                <a:moveTo>
                  <a:pt x="17512" y="11832"/>
                </a:moveTo>
                <a:cubicBezTo>
                  <a:pt x="17611" y="11814"/>
                  <a:pt x="17687" y="11807"/>
                  <a:pt x="17785" y="11807"/>
                </a:cubicBezTo>
                <a:cubicBezTo>
                  <a:pt x="17846" y="11807"/>
                  <a:pt x="17844" y="11797"/>
                  <a:pt x="17884" y="11757"/>
                </a:cubicBezTo>
              </a:path>
              <a:path w="10196" h="2209">
                <a:moveTo>
                  <a:pt x="17438" y="11807"/>
                </a:moveTo>
                <a:cubicBezTo>
                  <a:pt x="17400" y="11900"/>
                  <a:pt x="17363" y="11959"/>
                  <a:pt x="17363" y="12055"/>
                </a:cubicBezTo>
                <a:cubicBezTo>
                  <a:pt x="17363" y="12109"/>
                  <a:pt x="17388" y="12136"/>
                  <a:pt x="17413" y="12154"/>
                </a:cubicBezTo>
                <a:cubicBezTo>
                  <a:pt x="17451" y="12183"/>
                  <a:pt x="17464" y="12179"/>
                  <a:pt x="17512" y="12179"/>
                </a:cubicBezTo>
                <a:cubicBezTo>
                  <a:pt x="17556" y="12179"/>
                  <a:pt x="17574" y="12141"/>
                  <a:pt x="17611" y="12129"/>
                </a:cubicBezTo>
                <a:cubicBezTo>
                  <a:pt x="17654" y="12115"/>
                  <a:pt x="17689" y="12101"/>
                  <a:pt x="17735" y="12129"/>
                </a:cubicBezTo>
                <a:cubicBezTo>
                  <a:pt x="17776" y="12154"/>
                  <a:pt x="17812" y="12215"/>
                  <a:pt x="17835" y="12254"/>
                </a:cubicBezTo>
                <a:cubicBezTo>
                  <a:pt x="17864" y="12303"/>
                  <a:pt x="17889" y="12451"/>
                  <a:pt x="17884" y="12502"/>
                </a:cubicBezTo>
                <a:cubicBezTo>
                  <a:pt x="17878" y="12569"/>
                  <a:pt x="17851" y="12665"/>
                  <a:pt x="17810" y="12725"/>
                </a:cubicBezTo>
                <a:cubicBezTo>
                  <a:pt x="17787" y="12759"/>
                  <a:pt x="17752" y="12830"/>
                  <a:pt x="17711" y="12849"/>
                </a:cubicBezTo>
                <a:cubicBezTo>
                  <a:pt x="17669" y="12868"/>
                  <a:pt x="17640" y="12834"/>
                  <a:pt x="17611" y="12824"/>
                </a:cubicBezTo>
                <a:cubicBezTo>
                  <a:pt x="17584" y="12815"/>
                  <a:pt x="17565" y="12806"/>
                  <a:pt x="17537" y="1279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2874960" y="5099040"/>
            <a:ext cx="2251080" cy="561960"/>
          </a:xfrm>
          <a:custGeom>
            <a:avLst/>
            <a:gdLst/>
            <a:ahLst/>
            <a:rect l="l" t="t" r="r" b="b"/>
            <a:pathLst>
              <a:path w="6252" h="1564">
                <a:moveTo>
                  <a:pt x="8260" y="14436"/>
                </a:moveTo>
                <a:cubicBezTo>
                  <a:pt x="8279" y="14427"/>
                  <a:pt x="8273" y="14389"/>
                  <a:pt x="8235" y="14362"/>
                </a:cubicBezTo>
                <a:cubicBezTo>
                  <a:pt x="8190" y="14331"/>
                  <a:pt x="8163" y="14312"/>
                  <a:pt x="8111" y="14312"/>
                </a:cubicBezTo>
                <a:cubicBezTo>
                  <a:pt x="8065" y="14312"/>
                  <a:pt x="8043" y="14311"/>
                  <a:pt x="8037" y="14362"/>
                </a:cubicBezTo>
                <a:cubicBezTo>
                  <a:pt x="8031" y="14413"/>
                  <a:pt x="8051" y="14426"/>
                  <a:pt x="8086" y="14461"/>
                </a:cubicBezTo>
                <a:cubicBezTo>
                  <a:pt x="8131" y="14506"/>
                  <a:pt x="8182" y="14552"/>
                  <a:pt x="8235" y="14585"/>
                </a:cubicBezTo>
                <a:cubicBezTo>
                  <a:pt x="8297" y="14623"/>
                  <a:pt x="8325" y="14669"/>
                  <a:pt x="8359" y="14734"/>
                </a:cubicBezTo>
                <a:cubicBezTo>
                  <a:pt x="8394" y="14800"/>
                  <a:pt x="8409" y="14835"/>
                  <a:pt x="8409" y="14908"/>
                </a:cubicBezTo>
                <a:cubicBezTo>
                  <a:pt x="8409" y="14948"/>
                  <a:pt x="8362" y="14938"/>
                  <a:pt x="8334" y="14957"/>
                </a:cubicBezTo>
                <a:cubicBezTo>
                  <a:pt x="8277" y="14996"/>
                  <a:pt x="8296" y="14964"/>
                  <a:pt x="8235" y="14957"/>
                </a:cubicBezTo>
                <a:cubicBezTo>
                  <a:pt x="8199" y="14953"/>
                  <a:pt x="8157" y="14916"/>
                  <a:pt x="8136" y="14883"/>
                </a:cubicBezTo>
                <a:cubicBezTo>
                  <a:pt x="8096" y="14821"/>
                  <a:pt x="8092" y="14770"/>
                  <a:pt x="8012" y="14734"/>
                </a:cubicBezTo>
                <a:cubicBezTo>
                  <a:pt x="8004" y="14734"/>
                  <a:pt x="7995" y="14734"/>
                  <a:pt x="7987" y="14734"/>
                </a:cubicBezTo>
              </a:path>
              <a:path w="6252" h="1564">
                <a:moveTo>
                  <a:pt x="8409" y="14511"/>
                </a:moveTo>
                <a:cubicBezTo>
                  <a:pt x="8409" y="14605"/>
                  <a:pt x="8406" y="14698"/>
                  <a:pt x="8434" y="14784"/>
                </a:cubicBezTo>
                <a:cubicBezTo>
                  <a:pt x="8456" y="14852"/>
                  <a:pt x="8489" y="14893"/>
                  <a:pt x="8533" y="14932"/>
                </a:cubicBezTo>
                <a:cubicBezTo>
                  <a:pt x="8545" y="14943"/>
                  <a:pt x="8612" y="14982"/>
                  <a:pt x="8632" y="14957"/>
                </a:cubicBezTo>
                <a:cubicBezTo>
                  <a:pt x="8651" y="14933"/>
                  <a:pt x="8666" y="14900"/>
                  <a:pt x="8682" y="14858"/>
                </a:cubicBezTo>
                <a:cubicBezTo>
                  <a:pt x="8702" y="14806"/>
                  <a:pt x="8737" y="14757"/>
                  <a:pt x="8756" y="14709"/>
                </a:cubicBezTo>
                <a:cubicBezTo>
                  <a:pt x="8774" y="14665"/>
                  <a:pt x="8774" y="14659"/>
                  <a:pt x="8756" y="14709"/>
                </a:cubicBezTo>
                <a:cubicBezTo>
                  <a:pt x="8729" y="14786"/>
                  <a:pt x="8735" y="14830"/>
                  <a:pt x="8756" y="14908"/>
                </a:cubicBezTo>
                <a:cubicBezTo>
                  <a:pt x="8781" y="15004"/>
                  <a:pt x="8810" y="15025"/>
                  <a:pt x="8880" y="15081"/>
                </a:cubicBezTo>
              </a:path>
              <a:path w="6252" h="1564">
                <a:moveTo>
                  <a:pt x="8979" y="14660"/>
                </a:moveTo>
                <a:cubicBezTo>
                  <a:pt x="8979" y="14754"/>
                  <a:pt x="8988" y="14829"/>
                  <a:pt x="9004" y="14908"/>
                </a:cubicBezTo>
                <a:cubicBezTo>
                  <a:pt x="9020" y="14988"/>
                  <a:pt x="9011" y="14928"/>
                  <a:pt x="9029" y="14982"/>
                </a:cubicBezTo>
                <a:cubicBezTo>
                  <a:pt x="9029" y="14900"/>
                  <a:pt x="9041" y="14834"/>
                  <a:pt x="9054" y="14759"/>
                </a:cubicBezTo>
                <a:cubicBezTo>
                  <a:pt x="9064" y="14702"/>
                  <a:pt x="9063" y="14683"/>
                  <a:pt x="9079" y="14635"/>
                </a:cubicBezTo>
                <a:cubicBezTo>
                  <a:pt x="9086" y="14613"/>
                  <a:pt x="9117" y="14590"/>
                  <a:pt x="9153" y="14610"/>
                </a:cubicBezTo>
                <a:cubicBezTo>
                  <a:pt x="9186" y="14628"/>
                  <a:pt x="9213" y="14724"/>
                  <a:pt x="9227" y="14759"/>
                </a:cubicBezTo>
                <a:cubicBezTo>
                  <a:pt x="9254" y="14829"/>
                  <a:pt x="9252" y="14884"/>
                  <a:pt x="9252" y="14957"/>
                </a:cubicBezTo>
                <a:cubicBezTo>
                  <a:pt x="9252" y="15024"/>
                  <a:pt x="9275" y="15032"/>
                  <a:pt x="9252" y="15032"/>
                </a:cubicBezTo>
                <a:cubicBezTo>
                  <a:pt x="9276" y="15000"/>
                  <a:pt x="9295" y="14942"/>
                  <a:pt x="9302" y="14908"/>
                </a:cubicBezTo>
                <a:cubicBezTo>
                  <a:pt x="9315" y="14844"/>
                  <a:pt x="9315" y="14768"/>
                  <a:pt x="9351" y="14709"/>
                </a:cubicBezTo>
                <a:cubicBezTo>
                  <a:pt x="9367" y="14683"/>
                  <a:pt x="9380" y="14599"/>
                  <a:pt x="9401" y="14585"/>
                </a:cubicBezTo>
                <a:cubicBezTo>
                  <a:pt x="9426" y="14585"/>
                  <a:pt x="9434" y="14585"/>
                  <a:pt x="9426" y="14560"/>
                </a:cubicBezTo>
                <a:cubicBezTo>
                  <a:pt x="9462" y="14607"/>
                  <a:pt x="9460" y="14651"/>
                  <a:pt x="9475" y="14709"/>
                </a:cubicBezTo>
                <a:cubicBezTo>
                  <a:pt x="9498" y="14798"/>
                  <a:pt x="9501" y="14896"/>
                  <a:pt x="9525" y="14982"/>
                </a:cubicBezTo>
                <a:cubicBezTo>
                  <a:pt x="9538" y="15031"/>
                  <a:pt x="9571" y="15093"/>
                  <a:pt x="9599" y="15131"/>
                </a:cubicBezTo>
              </a:path>
              <a:path w="6252" h="1564">
                <a:moveTo>
                  <a:pt x="9823" y="14163"/>
                </a:moveTo>
                <a:cubicBezTo>
                  <a:pt x="9778" y="14271"/>
                  <a:pt x="9716" y="14396"/>
                  <a:pt x="9699" y="14511"/>
                </a:cubicBezTo>
                <a:cubicBezTo>
                  <a:pt x="9684" y="14612"/>
                  <a:pt x="9690" y="14714"/>
                  <a:pt x="9699" y="14808"/>
                </a:cubicBezTo>
                <a:cubicBezTo>
                  <a:pt x="9707" y="14894"/>
                  <a:pt x="9734" y="14956"/>
                  <a:pt x="9773" y="15032"/>
                </a:cubicBezTo>
                <a:cubicBezTo>
                  <a:pt x="9793" y="15072"/>
                  <a:pt x="9792" y="15088"/>
                  <a:pt x="9823" y="15081"/>
                </a:cubicBezTo>
              </a:path>
              <a:path w="6252" h="1564">
                <a:moveTo>
                  <a:pt x="10145" y="14610"/>
                </a:moveTo>
                <a:cubicBezTo>
                  <a:pt x="10065" y="14563"/>
                  <a:pt x="10081" y="14576"/>
                  <a:pt x="9996" y="14585"/>
                </a:cubicBezTo>
                <a:cubicBezTo>
                  <a:pt x="9977" y="14587"/>
                  <a:pt x="9933" y="14628"/>
                  <a:pt x="9947" y="14660"/>
                </a:cubicBezTo>
                <a:cubicBezTo>
                  <a:pt x="9963" y="14697"/>
                  <a:pt x="9995" y="14750"/>
                  <a:pt x="10021" y="14784"/>
                </a:cubicBezTo>
                <a:cubicBezTo>
                  <a:pt x="10075" y="14855"/>
                  <a:pt x="10110" y="14888"/>
                  <a:pt x="10145" y="14957"/>
                </a:cubicBezTo>
                <a:cubicBezTo>
                  <a:pt x="10169" y="15004"/>
                  <a:pt x="10187" y="15009"/>
                  <a:pt x="10145" y="15056"/>
                </a:cubicBezTo>
                <a:cubicBezTo>
                  <a:pt x="10106" y="15099"/>
                  <a:pt x="10052" y="15081"/>
                  <a:pt x="9996" y="15081"/>
                </a:cubicBezTo>
                <a:cubicBezTo>
                  <a:pt x="9965" y="15081"/>
                  <a:pt x="9931" y="15073"/>
                  <a:pt x="9922" y="15056"/>
                </a:cubicBezTo>
                <a:cubicBezTo>
                  <a:pt x="9922" y="15032"/>
                  <a:pt x="9922" y="15023"/>
                  <a:pt x="9922" y="15007"/>
                </a:cubicBezTo>
              </a:path>
              <a:path w="6252" h="1564">
                <a:moveTo>
                  <a:pt x="10269" y="14883"/>
                </a:moveTo>
                <a:cubicBezTo>
                  <a:pt x="10332" y="14867"/>
                  <a:pt x="10434" y="14860"/>
                  <a:pt x="10468" y="14784"/>
                </a:cubicBezTo>
                <a:cubicBezTo>
                  <a:pt x="10478" y="14762"/>
                  <a:pt x="10468" y="14709"/>
                  <a:pt x="10468" y="14684"/>
                </a:cubicBezTo>
                <a:cubicBezTo>
                  <a:pt x="10412" y="14684"/>
                  <a:pt x="10361" y="14672"/>
                  <a:pt x="10319" y="14709"/>
                </a:cubicBezTo>
                <a:cubicBezTo>
                  <a:pt x="10280" y="14744"/>
                  <a:pt x="10246" y="14789"/>
                  <a:pt x="10220" y="14833"/>
                </a:cubicBezTo>
                <a:cubicBezTo>
                  <a:pt x="10194" y="14876"/>
                  <a:pt x="10178" y="14957"/>
                  <a:pt x="10195" y="15007"/>
                </a:cubicBezTo>
                <a:cubicBezTo>
                  <a:pt x="10220" y="15080"/>
                  <a:pt x="10285" y="15114"/>
                  <a:pt x="10344" y="15156"/>
                </a:cubicBezTo>
              </a:path>
              <a:path w="6252" h="1564">
                <a:moveTo>
                  <a:pt x="10740" y="14709"/>
                </a:moveTo>
                <a:cubicBezTo>
                  <a:pt x="10683" y="14665"/>
                  <a:pt x="10673" y="14699"/>
                  <a:pt x="10616" y="14734"/>
                </a:cubicBezTo>
                <a:cubicBezTo>
                  <a:pt x="10540" y="14780"/>
                  <a:pt x="10543" y="14811"/>
                  <a:pt x="10517" y="14883"/>
                </a:cubicBezTo>
                <a:cubicBezTo>
                  <a:pt x="10500" y="14929"/>
                  <a:pt x="10479" y="15015"/>
                  <a:pt x="10517" y="15056"/>
                </a:cubicBezTo>
                <a:cubicBezTo>
                  <a:pt x="10557" y="15099"/>
                  <a:pt x="10601" y="15117"/>
                  <a:pt x="10641" y="15081"/>
                </a:cubicBezTo>
                <a:cubicBezTo>
                  <a:pt x="10695" y="15033"/>
                  <a:pt x="10689" y="15012"/>
                  <a:pt x="10716" y="14957"/>
                </a:cubicBezTo>
                <a:cubicBezTo>
                  <a:pt x="10739" y="14909"/>
                  <a:pt x="10765" y="14891"/>
                  <a:pt x="10765" y="14833"/>
                </a:cubicBezTo>
                <a:cubicBezTo>
                  <a:pt x="10724" y="14888"/>
                  <a:pt x="10720" y="14960"/>
                  <a:pt x="10716" y="15032"/>
                </a:cubicBezTo>
                <a:cubicBezTo>
                  <a:pt x="10711" y="15128"/>
                  <a:pt x="10737" y="15210"/>
                  <a:pt x="10740" y="15304"/>
                </a:cubicBezTo>
                <a:cubicBezTo>
                  <a:pt x="10743" y="15389"/>
                  <a:pt x="10768" y="15496"/>
                  <a:pt x="10790" y="15577"/>
                </a:cubicBezTo>
                <a:cubicBezTo>
                  <a:pt x="10804" y="15629"/>
                  <a:pt x="10809" y="15685"/>
                  <a:pt x="10840" y="15726"/>
                </a:cubicBezTo>
              </a:path>
              <a:path w="6252" h="1564">
                <a:moveTo>
                  <a:pt x="11112" y="15255"/>
                </a:moveTo>
                <a:cubicBezTo>
                  <a:pt x="11093" y="15338"/>
                  <a:pt x="11081" y="15457"/>
                  <a:pt x="11038" y="15528"/>
                </a:cubicBezTo>
              </a:path>
              <a:path w="6252" h="1564">
                <a:moveTo>
                  <a:pt x="11162" y="14288"/>
                </a:moveTo>
                <a:cubicBezTo>
                  <a:pt x="11162" y="14360"/>
                  <a:pt x="11147" y="14416"/>
                  <a:pt x="11137" y="14486"/>
                </a:cubicBezTo>
                <a:cubicBezTo>
                  <a:pt x="11125" y="14569"/>
                  <a:pt x="11134" y="14654"/>
                  <a:pt x="11112" y="14734"/>
                </a:cubicBezTo>
                <a:cubicBezTo>
                  <a:pt x="11087" y="14824"/>
                  <a:pt x="11067" y="14912"/>
                  <a:pt x="11063" y="15007"/>
                </a:cubicBezTo>
                <a:cubicBezTo>
                  <a:pt x="11058" y="15114"/>
                  <a:pt x="11073" y="15202"/>
                  <a:pt x="11088" y="15304"/>
                </a:cubicBezTo>
                <a:cubicBezTo>
                  <a:pt x="11102" y="15401"/>
                  <a:pt x="11139" y="15430"/>
                  <a:pt x="11212" y="15503"/>
                </a:cubicBezTo>
                <a:cubicBezTo>
                  <a:pt x="11244" y="15535"/>
                  <a:pt x="11266" y="15572"/>
                  <a:pt x="11311" y="15577"/>
                </a:cubicBezTo>
                <a:cubicBezTo>
                  <a:pt x="11319" y="15577"/>
                  <a:pt x="11328" y="15577"/>
                  <a:pt x="11336" y="15577"/>
                </a:cubicBezTo>
              </a:path>
              <a:path w="6252" h="1564">
                <a:moveTo>
                  <a:pt x="11385" y="14610"/>
                </a:moveTo>
                <a:cubicBezTo>
                  <a:pt x="11435" y="14560"/>
                  <a:pt x="11466" y="14528"/>
                  <a:pt x="11534" y="14511"/>
                </a:cubicBezTo>
                <a:cubicBezTo>
                  <a:pt x="11594" y="14496"/>
                  <a:pt x="11630" y="14523"/>
                  <a:pt x="11683" y="14536"/>
                </a:cubicBezTo>
                <a:cubicBezTo>
                  <a:pt x="11723" y="14546"/>
                  <a:pt x="11754" y="14563"/>
                  <a:pt x="11757" y="14610"/>
                </a:cubicBezTo>
                <a:cubicBezTo>
                  <a:pt x="11762" y="14689"/>
                  <a:pt x="11736" y="14719"/>
                  <a:pt x="11683" y="14784"/>
                </a:cubicBezTo>
                <a:cubicBezTo>
                  <a:pt x="11634" y="14845"/>
                  <a:pt x="11595" y="14886"/>
                  <a:pt x="11559" y="14957"/>
                </a:cubicBezTo>
                <a:cubicBezTo>
                  <a:pt x="11524" y="15027"/>
                  <a:pt x="11459" y="15104"/>
                  <a:pt x="11435" y="15180"/>
                </a:cubicBezTo>
                <a:cubicBezTo>
                  <a:pt x="11428" y="15203"/>
                  <a:pt x="11466" y="15289"/>
                  <a:pt x="11485" y="15304"/>
                </a:cubicBezTo>
                <a:cubicBezTo>
                  <a:pt x="11508" y="15322"/>
                  <a:pt x="11605" y="15372"/>
                  <a:pt x="11633" y="15379"/>
                </a:cubicBezTo>
                <a:cubicBezTo>
                  <a:pt x="11704" y="15396"/>
                  <a:pt x="11793" y="15381"/>
                  <a:pt x="11857" y="15354"/>
                </a:cubicBezTo>
              </a:path>
              <a:path w="6252" h="1564">
                <a:moveTo>
                  <a:pt x="11931" y="14833"/>
                </a:moveTo>
                <a:cubicBezTo>
                  <a:pt x="11989" y="14906"/>
                  <a:pt x="12038" y="14973"/>
                  <a:pt x="12080" y="15056"/>
                </a:cubicBezTo>
                <a:cubicBezTo>
                  <a:pt x="12118" y="15132"/>
                  <a:pt x="12184" y="15183"/>
                  <a:pt x="12229" y="15255"/>
                </a:cubicBezTo>
              </a:path>
              <a:path w="6252" h="1564">
                <a:moveTo>
                  <a:pt x="12179" y="14808"/>
                </a:moveTo>
                <a:cubicBezTo>
                  <a:pt x="12115" y="14890"/>
                  <a:pt x="12038" y="14970"/>
                  <a:pt x="11981" y="15056"/>
                </a:cubicBezTo>
                <a:cubicBezTo>
                  <a:pt x="11942" y="15115"/>
                  <a:pt x="11939" y="15200"/>
                  <a:pt x="11906" y="15255"/>
                </a:cubicBezTo>
                <a:cubicBezTo>
                  <a:pt x="11883" y="15293"/>
                  <a:pt x="11881" y="15283"/>
                  <a:pt x="11881" y="15329"/>
                </a:cubicBezTo>
              </a:path>
              <a:path w="6252" h="1564">
                <a:moveTo>
                  <a:pt x="12477" y="14610"/>
                </a:moveTo>
                <a:cubicBezTo>
                  <a:pt x="12477" y="14795"/>
                  <a:pt x="12484" y="14976"/>
                  <a:pt x="12502" y="15156"/>
                </a:cubicBezTo>
                <a:cubicBezTo>
                  <a:pt x="12502" y="15189"/>
                  <a:pt x="12502" y="15222"/>
                  <a:pt x="12502" y="15255"/>
                </a:cubicBezTo>
              </a:path>
              <a:path w="6252" h="1564">
                <a:moveTo>
                  <a:pt x="12328" y="14957"/>
                </a:moveTo>
                <a:cubicBezTo>
                  <a:pt x="12384" y="14957"/>
                  <a:pt x="12426" y="14951"/>
                  <a:pt x="12477" y="14982"/>
                </a:cubicBezTo>
                <a:cubicBezTo>
                  <a:pt x="12505" y="15010"/>
                  <a:pt x="12518" y="15019"/>
                  <a:pt x="12551" y="15007"/>
                </a:cubicBezTo>
              </a:path>
              <a:path w="6252" h="1564">
                <a:moveTo>
                  <a:pt x="12824" y="14585"/>
                </a:moveTo>
                <a:cubicBezTo>
                  <a:pt x="12876" y="14576"/>
                  <a:pt x="13011" y="14595"/>
                  <a:pt x="13047" y="14585"/>
                </a:cubicBezTo>
                <a:cubicBezTo>
                  <a:pt x="13064" y="14577"/>
                  <a:pt x="13080" y="14568"/>
                  <a:pt x="13097" y="14560"/>
                </a:cubicBezTo>
              </a:path>
              <a:path w="6252" h="1564">
                <a:moveTo>
                  <a:pt x="12799" y="14610"/>
                </a:moveTo>
                <a:cubicBezTo>
                  <a:pt x="12764" y="14651"/>
                  <a:pt x="12725" y="14695"/>
                  <a:pt x="12750" y="14759"/>
                </a:cubicBezTo>
                <a:cubicBezTo>
                  <a:pt x="12761" y="14785"/>
                  <a:pt x="12825" y="14805"/>
                  <a:pt x="12849" y="14808"/>
                </a:cubicBezTo>
                <a:cubicBezTo>
                  <a:pt x="12889" y="14812"/>
                  <a:pt x="12941" y="14832"/>
                  <a:pt x="12973" y="14858"/>
                </a:cubicBezTo>
                <a:cubicBezTo>
                  <a:pt x="13010" y="14888"/>
                  <a:pt x="13031" y="14919"/>
                  <a:pt x="13047" y="14957"/>
                </a:cubicBezTo>
                <a:cubicBezTo>
                  <a:pt x="13072" y="15015"/>
                  <a:pt x="13072" y="15043"/>
                  <a:pt x="13072" y="15106"/>
                </a:cubicBezTo>
              </a:path>
              <a:path w="6252" h="1564">
                <a:moveTo>
                  <a:pt x="12973" y="15304"/>
                </a:moveTo>
                <a:cubicBezTo>
                  <a:pt x="12921" y="15326"/>
                  <a:pt x="12903" y="15329"/>
                  <a:pt x="12849" y="15329"/>
                </a:cubicBezTo>
                <a:cubicBezTo>
                  <a:pt x="12841" y="15329"/>
                  <a:pt x="12832" y="15329"/>
                  <a:pt x="12824" y="15329"/>
                </a:cubicBezTo>
                <a:cubicBezTo>
                  <a:pt x="12813" y="15295"/>
                  <a:pt x="12789" y="15299"/>
                  <a:pt x="12774" y="15255"/>
                </a:cubicBezTo>
                <a:cubicBezTo>
                  <a:pt x="12774" y="15247"/>
                  <a:pt x="12774" y="15238"/>
                  <a:pt x="12774" y="15230"/>
                </a:cubicBezTo>
              </a:path>
              <a:path w="6252" h="1564">
                <a:moveTo>
                  <a:pt x="13146" y="15429"/>
                </a:moveTo>
                <a:cubicBezTo>
                  <a:pt x="13120" y="15481"/>
                  <a:pt x="13104" y="15535"/>
                  <a:pt x="13072" y="15577"/>
                </a:cubicBezTo>
              </a:path>
              <a:path w="6252" h="1564">
                <a:moveTo>
                  <a:pt x="13395" y="14808"/>
                </a:moveTo>
                <a:cubicBezTo>
                  <a:pt x="13468" y="14882"/>
                  <a:pt x="13537" y="14947"/>
                  <a:pt x="13593" y="15032"/>
                </a:cubicBezTo>
                <a:cubicBezTo>
                  <a:pt x="13645" y="15111"/>
                  <a:pt x="13711" y="15181"/>
                  <a:pt x="13767" y="15255"/>
                </a:cubicBezTo>
                <a:cubicBezTo>
                  <a:pt x="13775" y="15263"/>
                  <a:pt x="13783" y="15272"/>
                  <a:pt x="13791" y="15280"/>
                </a:cubicBezTo>
              </a:path>
              <a:path w="6252" h="1564">
                <a:moveTo>
                  <a:pt x="13717" y="14759"/>
                </a:moveTo>
                <a:cubicBezTo>
                  <a:pt x="13645" y="14851"/>
                  <a:pt x="13583" y="14943"/>
                  <a:pt x="13519" y="15032"/>
                </a:cubicBezTo>
                <a:cubicBezTo>
                  <a:pt x="13466" y="15106"/>
                  <a:pt x="13433" y="15184"/>
                  <a:pt x="13395" y="15255"/>
                </a:cubicBezTo>
                <a:cubicBezTo>
                  <a:pt x="13376" y="15291"/>
                  <a:pt x="13354" y="15311"/>
                  <a:pt x="13345" y="15354"/>
                </a:cubicBezTo>
              </a:path>
              <a:path w="6252" h="1564">
                <a:moveTo>
                  <a:pt x="13965" y="15453"/>
                </a:moveTo>
                <a:cubicBezTo>
                  <a:pt x="13900" y="15584"/>
                  <a:pt x="13928" y="15557"/>
                  <a:pt x="13841" y="15627"/>
                </a:cubicBezTo>
              </a:path>
              <a:path w="6252" h="1564">
                <a:moveTo>
                  <a:pt x="14114" y="14759"/>
                </a:moveTo>
                <a:cubicBezTo>
                  <a:pt x="14139" y="14892"/>
                  <a:pt x="14159" y="15032"/>
                  <a:pt x="14213" y="15156"/>
                </a:cubicBezTo>
                <a:cubicBezTo>
                  <a:pt x="14245" y="15230"/>
                  <a:pt x="14238" y="15300"/>
                  <a:pt x="14238" y="15379"/>
                </a:cubicBezTo>
                <a:cubicBezTo>
                  <a:pt x="14238" y="15404"/>
                  <a:pt x="14238" y="15428"/>
                  <a:pt x="14238" y="1545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276880" y="5187960"/>
            <a:ext cx="501480" cy="482760"/>
          </a:xfrm>
          <a:custGeom>
            <a:avLst/>
            <a:gdLst/>
            <a:ahLst/>
            <a:rect l="l" t="t" r="r" b="b"/>
            <a:pathLst>
              <a:path w="1390" h="1340">
                <a:moveTo>
                  <a:pt x="14660" y="15453"/>
                </a:moveTo>
                <a:cubicBezTo>
                  <a:pt x="14660" y="15519"/>
                  <a:pt x="14660" y="15586"/>
                  <a:pt x="14660" y="15652"/>
                </a:cubicBezTo>
              </a:path>
              <a:path w="1390" h="1340">
                <a:moveTo>
                  <a:pt x="14808" y="14833"/>
                </a:moveTo>
                <a:cubicBezTo>
                  <a:pt x="14856" y="14785"/>
                  <a:pt x="14863" y="14784"/>
                  <a:pt x="14932" y="14784"/>
                </a:cubicBezTo>
                <a:cubicBezTo>
                  <a:pt x="14978" y="14784"/>
                  <a:pt x="14991" y="14812"/>
                  <a:pt x="15007" y="14833"/>
                </a:cubicBezTo>
                <a:cubicBezTo>
                  <a:pt x="15050" y="14890"/>
                  <a:pt x="15011" y="14872"/>
                  <a:pt x="15007" y="14932"/>
                </a:cubicBezTo>
                <a:cubicBezTo>
                  <a:pt x="15002" y="15000"/>
                  <a:pt x="14953" y="15049"/>
                  <a:pt x="14908" y="15106"/>
                </a:cubicBezTo>
                <a:cubicBezTo>
                  <a:pt x="14877" y="15145"/>
                  <a:pt x="14876" y="15187"/>
                  <a:pt x="14858" y="15230"/>
                </a:cubicBezTo>
                <a:cubicBezTo>
                  <a:pt x="14834" y="15287"/>
                  <a:pt x="14816" y="15307"/>
                  <a:pt x="14858" y="15354"/>
                </a:cubicBezTo>
                <a:cubicBezTo>
                  <a:pt x="14897" y="15398"/>
                  <a:pt x="14905" y="15399"/>
                  <a:pt x="14957" y="15429"/>
                </a:cubicBezTo>
                <a:cubicBezTo>
                  <a:pt x="15009" y="15460"/>
                  <a:pt x="15050" y="15485"/>
                  <a:pt x="15106" y="15453"/>
                </a:cubicBezTo>
                <a:cubicBezTo>
                  <a:pt x="15161" y="15400"/>
                  <a:pt x="15195" y="15360"/>
                  <a:pt x="15230" y="15304"/>
                </a:cubicBezTo>
              </a:path>
              <a:path w="1390" h="1340">
                <a:moveTo>
                  <a:pt x="15354" y="14833"/>
                </a:moveTo>
                <a:cubicBezTo>
                  <a:pt x="15354" y="14875"/>
                  <a:pt x="15344" y="14898"/>
                  <a:pt x="15329" y="14932"/>
                </a:cubicBezTo>
                <a:cubicBezTo>
                  <a:pt x="15290" y="15021"/>
                  <a:pt x="15296" y="15064"/>
                  <a:pt x="15304" y="15156"/>
                </a:cubicBezTo>
                <a:cubicBezTo>
                  <a:pt x="15313" y="15248"/>
                  <a:pt x="15339" y="15318"/>
                  <a:pt x="15379" y="15404"/>
                </a:cubicBezTo>
                <a:cubicBezTo>
                  <a:pt x="15411" y="15473"/>
                  <a:pt x="15431" y="15464"/>
                  <a:pt x="15478" y="15453"/>
                </a:cubicBezTo>
                <a:cubicBezTo>
                  <a:pt x="15545" y="15438"/>
                  <a:pt x="15540" y="15383"/>
                  <a:pt x="15577" y="15329"/>
                </a:cubicBezTo>
                <a:cubicBezTo>
                  <a:pt x="15626" y="15258"/>
                  <a:pt x="15627" y="15220"/>
                  <a:pt x="15627" y="15131"/>
                </a:cubicBezTo>
                <a:cubicBezTo>
                  <a:pt x="15627" y="15033"/>
                  <a:pt x="15619" y="14973"/>
                  <a:pt x="15577" y="14883"/>
                </a:cubicBezTo>
                <a:cubicBezTo>
                  <a:pt x="15540" y="14803"/>
                  <a:pt x="15516" y="14762"/>
                  <a:pt x="15453" y="14709"/>
                </a:cubicBezTo>
                <a:cubicBezTo>
                  <a:pt x="15437" y="14695"/>
                  <a:pt x="15352" y="14659"/>
                  <a:pt x="15329" y="14684"/>
                </a:cubicBezTo>
                <a:cubicBezTo>
                  <a:pt x="15263" y="14756"/>
                  <a:pt x="15280" y="14817"/>
                  <a:pt x="15280" y="14908"/>
                </a:cubicBezTo>
                <a:cubicBezTo>
                  <a:pt x="15280" y="14970"/>
                  <a:pt x="15283" y="14998"/>
                  <a:pt x="15304" y="15056"/>
                </a:cubicBezTo>
              </a:path>
              <a:path w="1390" h="1340">
                <a:moveTo>
                  <a:pt x="15701" y="14412"/>
                </a:moveTo>
                <a:cubicBezTo>
                  <a:pt x="15773" y="14462"/>
                  <a:pt x="15834" y="14550"/>
                  <a:pt x="15875" y="14635"/>
                </a:cubicBezTo>
                <a:cubicBezTo>
                  <a:pt x="15931" y="14751"/>
                  <a:pt x="15983" y="14885"/>
                  <a:pt x="16024" y="15007"/>
                </a:cubicBezTo>
                <a:cubicBezTo>
                  <a:pt x="16064" y="15125"/>
                  <a:pt x="16067" y="15306"/>
                  <a:pt x="16049" y="15429"/>
                </a:cubicBezTo>
                <a:cubicBezTo>
                  <a:pt x="16037" y="15509"/>
                  <a:pt x="16012" y="15585"/>
                  <a:pt x="15974" y="15652"/>
                </a:cubicBezTo>
                <a:cubicBezTo>
                  <a:pt x="15939" y="15714"/>
                  <a:pt x="15902" y="15716"/>
                  <a:pt x="15850" y="1575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2867040" y="5705640"/>
            <a:ext cx="1312920" cy="671400"/>
          </a:xfrm>
          <a:custGeom>
            <a:avLst/>
            <a:gdLst/>
            <a:ahLst/>
            <a:rect l="l" t="t" r="r" b="b"/>
            <a:pathLst>
              <a:path w="3648" h="1862">
                <a:moveTo>
                  <a:pt x="8136" y="15850"/>
                </a:moveTo>
                <a:cubicBezTo>
                  <a:pt x="8186" y="15900"/>
                  <a:pt x="8193" y="15910"/>
                  <a:pt x="8210" y="15974"/>
                </a:cubicBezTo>
                <a:cubicBezTo>
                  <a:pt x="8236" y="16069"/>
                  <a:pt x="8235" y="16149"/>
                  <a:pt x="8235" y="16247"/>
                </a:cubicBezTo>
                <a:cubicBezTo>
                  <a:pt x="8235" y="16345"/>
                  <a:pt x="8214" y="16451"/>
                  <a:pt x="8186" y="16545"/>
                </a:cubicBezTo>
                <a:cubicBezTo>
                  <a:pt x="8173" y="16590"/>
                  <a:pt x="8133" y="16692"/>
                  <a:pt x="8086" y="16718"/>
                </a:cubicBezTo>
                <a:cubicBezTo>
                  <a:pt x="8046" y="16740"/>
                  <a:pt x="8020" y="16698"/>
                  <a:pt x="8012" y="16694"/>
                </a:cubicBezTo>
                <a:cubicBezTo>
                  <a:pt x="7987" y="16682"/>
                  <a:pt x="7967" y="16640"/>
                  <a:pt x="7987" y="16594"/>
                </a:cubicBezTo>
                <a:cubicBezTo>
                  <a:pt x="8007" y="16547"/>
                  <a:pt x="8022" y="16510"/>
                  <a:pt x="8062" y="16470"/>
                </a:cubicBezTo>
                <a:cubicBezTo>
                  <a:pt x="8084" y="16478"/>
                  <a:pt x="8115" y="16513"/>
                  <a:pt x="8136" y="16545"/>
                </a:cubicBezTo>
                <a:cubicBezTo>
                  <a:pt x="8189" y="16626"/>
                  <a:pt x="8204" y="16746"/>
                  <a:pt x="8260" y="16818"/>
                </a:cubicBezTo>
                <a:cubicBezTo>
                  <a:pt x="8268" y="16818"/>
                  <a:pt x="8277" y="16818"/>
                  <a:pt x="8285" y="16818"/>
                </a:cubicBezTo>
              </a:path>
              <a:path w="3648" h="1862">
                <a:moveTo>
                  <a:pt x="8483" y="15974"/>
                </a:moveTo>
                <a:cubicBezTo>
                  <a:pt x="8483" y="15928"/>
                  <a:pt x="8473" y="15998"/>
                  <a:pt x="8458" y="16024"/>
                </a:cubicBezTo>
                <a:cubicBezTo>
                  <a:pt x="8416" y="16098"/>
                  <a:pt x="8408" y="16171"/>
                  <a:pt x="8384" y="16247"/>
                </a:cubicBezTo>
                <a:cubicBezTo>
                  <a:pt x="8364" y="16311"/>
                  <a:pt x="8339" y="16399"/>
                  <a:pt x="8359" y="16470"/>
                </a:cubicBezTo>
                <a:cubicBezTo>
                  <a:pt x="8372" y="16517"/>
                  <a:pt x="8404" y="16558"/>
                  <a:pt x="8434" y="16594"/>
                </a:cubicBezTo>
                <a:cubicBezTo>
                  <a:pt x="8471" y="16585"/>
                  <a:pt x="8510" y="16556"/>
                  <a:pt x="8533" y="16520"/>
                </a:cubicBezTo>
                <a:cubicBezTo>
                  <a:pt x="8582" y="16443"/>
                  <a:pt x="8582" y="16386"/>
                  <a:pt x="8582" y="16297"/>
                </a:cubicBezTo>
                <a:cubicBezTo>
                  <a:pt x="8582" y="16240"/>
                  <a:pt x="8567" y="16165"/>
                  <a:pt x="8533" y="16123"/>
                </a:cubicBezTo>
                <a:cubicBezTo>
                  <a:pt x="8508" y="16092"/>
                  <a:pt x="8496" y="16036"/>
                  <a:pt x="8458" y="16049"/>
                </a:cubicBezTo>
                <a:cubicBezTo>
                  <a:pt x="8426" y="16060"/>
                  <a:pt x="8416" y="16076"/>
                  <a:pt x="8409" y="16098"/>
                </a:cubicBezTo>
              </a:path>
              <a:path w="3648" h="1862">
                <a:moveTo>
                  <a:pt x="8731" y="16619"/>
                </a:moveTo>
                <a:cubicBezTo>
                  <a:pt x="8658" y="16693"/>
                  <a:pt x="8582" y="16749"/>
                  <a:pt x="8508" y="16818"/>
                </a:cubicBezTo>
                <a:cubicBezTo>
                  <a:pt x="8439" y="16882"/>
                  <a:pt x="8347" y="16949"/>
                  <a:pt x="8285" y="17016"/>
                </a:cubicBezTo>
                <a:cubicBezTo>
                  <a:pt x="8222" y="17084"/>
                  <a:pt x="8169" y="17169"/>
                  <a:pt x="8111" y="17239"/>
                </a:cubicBezTo>
                <a:cubicBezTo>
                  <a:pt x="8079" y="17278"/>
                  <a:pt x="8017" y="17393"/>
                  <a:pt x="7987" y="17413"/>
                </a:cubicBezTo>
                <a:cubicBezTo>
                  <a:pt x="7962" y="17413"/>
                  <a:pt x="7954" y="17413"/>
                  <a:pt x="7987" y="17413"/>
                </a:cubicBezTo>
              </a:path>
              <a:path w="3648" h="1862">
                <a:moveTo>
                  <a:pt x="8409" y="17190"/>
                </a:moveTo>
                <a:cubicBezTo>
                  <a:pt x="8467" y="17165"/>
                  <a:pt x="8494" y="17165"/>
                  <a:pt x="8558" y="17165"/>
                </a:cubicBezTo>
                <a:cubicBezTo>
                  <a:pt x="8603" y="17165"/>
                  <a:pt x="8626" y="17163"/>
                  <a:pt x="8632" y="17214"/>
                </a:cubicBezTo>
                <a:cubicBezTo>
                  <a:pt x="8637" y="17263"/>
                  <a:pt x="8629" y="17276"/>
                  <a:pt x="8607" y="17314"/>
                </a:cubicBezTo>
                <a:cubicBezTo>
                  <a:pt x="8571" y="17375"/>
                  <a:pt x="8587" y="17412"/>
                  <a:pt x="8508" y="17438"/>
                </a:cubicBezTo>
                <a:cubicBezTo>
                  <a:pt x="8456" y="17455"/>
                  <a:pt x="8469" y="17472"/>
                  <a:pt x="8434" y="17512"/>
                </a:cubicBezTo>
                <a:cubicBezTo>
                  <a:pt x="8424" y="17524"/>
                  <a:pt x="8384" y="17591"/>
                  <a:pt x="8409" y="17611"/>
                </a:cubicBezTo>
                <a:cubicBezTo>
                  <a:pt x="8423" y="17622"/>
                  <a:pt x="8489" y="17655"/>
                  <a:pt x="8508" y="17661"/>
                </a:cubicBezTo>
                <a:cubicBezTo>
                  <a:pt x="8571" y="17682"/>
                  <a:pt x="8661" y="17731"/>
                  <a:pt x="8731" y="17711"/>
                </a:cubicBezTo>
                <a:cubicBezTo>
                  <a:pt x="8780" y="17697"/>
                  <a:pt x="8834" y="17659"/>
                  <a:pt x="8880" y="17636"/>
                </a:cubicBezTo>
              </a:path>
              <a:path w="3648" h="1862">
                <a:moveTo>
                  <a:pt x="9203" y="16148"/>
                </a:moveTo>
                <a:cubicBezTo>
                  <a:pt x="9152" y="16234"/>
                  <a:pt x="9069" y="16330"/>
                  <a:pt x="9029" y="16421"/>
                </a:cubicBezTo>
                <a:cubicBezTo>
                  <a:pt x="8979" y="16536"/>
                  <a:pt x="8934" y="16669"/>
                  <a:pt x="8930" y="16793"/>
                </a:cubicBezTo>
                <a:cubicBezTo>
                  <a:pt x="8926" y="16899"/>
                  <a:pt x="8931" y="17013"/>
                  <a:pt x="8954" y="17115"/>
                </a:cubicBezTo>
                <a:cubicBezTo>
                  <a:pt x="8974" y="17203"/>
                  <a:pt x="8995" y="17308"/>
                  <a:pt x="9029" y="17388"/>
                </a:cubicBezTo>
                <a:cubicBezTo>
                  <a:pt x="9055" y="17449"/>
                  <a:pt x="9060" y="17506"/>
                  <a:pt x="9079" y="17562"/>
                </a:cubicBezTo>
              </a:path>
              <a:path w="3648" h="1862">
                <a:moveTo>
                  <a:pt x="9178" y="16644"/>
                </a:moveTo>
                <a:cubicBezTo>
                  <a:pt x="9178" y="16687"/>
                  <a:pt x="9199" y="16626"/>
                  <a:pt x="9203" y="16619"/>
                </a:cubicBezTo>
                <a:cubicBezTo>
                  <a:pt x="9220" y="16584"/>
                  <a:pt x="9241" y="16531"/>
                  <a:pt x="9252" y="16495"/>
                </a:cubicBezTo>
                <a:cubicBezTo>
                  <a:pt x="9254" y="16487"/>
                  <a:pt x="9294" y="16426"/>
                  <a:pt x="9302" y="16421"/>
                </a:cubicBezTo>
                <a:cubicBezTo>
                  <a:pt x="9315" y="16412"/>
                  <a:pt x="9386" y="16397"/>
                  <a:pt x="9401" y="16396"/>
                </a:cubicBezTo>
                <a:cubicBezTo>
                  <a:pt x="9486" y="16390"/>
                  <a:pt x="9462" y="16418"/>
                  <a:pt x="9550" y="16396"/>
                </a:cubicBezTo>
                <a:cubicBezTo>
                  <a:pt x="9579" y="16389"/>
                  <a:pt x="9619" y="16396"/>
                  <a:pt x="9649" y="16396"/>
                </a:cubicBezTo>
                <a:cubicBezTo>
                  <a:pt x="9649" y="16485"/>
                  <a:pt x="9660" y="16560"/>
                  <a:pt x="9674" y="16644"/>
                </a:cubicBezTo>
                <a:cubicBezTo>
                  <a:pt x="9691" y="16747"/>
                  <a:pt x="9686" y="16862"/>
                  <a:pt x="9699" y="16966"/>
                </a:cubicBezTo>
                <a:cubicBezTo>
                  <a:pt x="9708" y="17041"/>
                  <a:pt x="9704" y="17100"/>
                  <a:pt x="9723" y="17165"/>
                </a:cubicBezTo>
                <a:cubicBezTo>
                  <a:pt x="9733" y="17200"/>
                  <a:pt x="9723" y="17253"/>
                  <a:pt x="9723" y="17289"/>
                </a:cubicBezTo>
              </a:path>
              <a:path w="3648" h="1862">
                <a:moveTo>
                  <a:pt x="10195" y="16520"/>
                </a:moveTo>
                <a:cubicBezTo>
                  <a:pt x="10195" y="16600"/>
                  <a:pt x="10180" y="16670"/>
                  <a:pt x="10170" y="16743"/>
                </a:cubicBezTo>
                <a:cubicBezTo>
                  <a:pt x="10150" y="16895"/>
                  <a:pt x="10170" y="17061"/>
                  <a:pt x="10170" y="17214"/>
                </a:cubicBezTo>
              </a:path>
              <a:path w="3648" h="1862">
                <a:moveTo>
                  <a:pt x="10344" y="16793"/>
                </a:moveTo>
                <a:cubicBezTo>
                  <a:pt x="10230" y="16793"/>
                  <a:pt x="10132" y="16773"/>
                  <a:pt x="10021" y="16768"/>
                </a:cubicBezTo>
                <a:cubicBezTo>
                  <a:pt x="9945" y="16765"/>
                  <a:pt x="9876" y="16793"/>
                  <a:pt x="9798" y="16793"/>
                </a:cubicBezTo>
              </a:path>
              <a:path w="3648" h="1862">
                <a:moveTo>
                  <a:pt x="10418" y="16446"/>
                </a:moveTo>
                <a:cubicBezTo>
                  <a:pt x="10411" y="16497"/>
                  <a:pt x="10393" y="16519"/>
                  <a:pt x="10393" y="16570"/>
                </a:cubicBezTo>
                <a:cubicBezTo>
                  <a:pt x="10453" y="16570"/>
                  <a:pt x="10514" y="16559"/>
                  <a:pt x="10567" y="16594"/>
                </a:cubicBezTo>
                <a:cubicBezTo>
                  <a:pt x="10626" y="16633"/>
                  <a:pt x="10614" y="16663"/>
                  <a:pt x="10691" y="16669"/>
                </a:cubicBezTo>
                <a:cubicBezTo>
                  <a:pt x="10699" y="16669"/>
                  <a:pt x="10708" y="16669"/>
                  <a:pt x="10716" y="16669"/>
                </a:cubicBezTo>
              </a:path>
              <a:path w="3648" h="1862">
                <a:moveTo>
                  <a:pt x="10840" y="16197"/>
                </a:moveTo>
                <a:cubicBezTo>
                  <a:pt x="10811" y="16299"/>
                  <a:pt x="10773" y="16394"/>
                  <a:pt x="10740" y="16495"/>
                </a:cubicBezTo>
                <a:cubicBezTo>
                  <a:pt x="10705" y="16602"/>
                  <a:pt x="10713" y="16710"/>
                  <a:pt x="10691" y="16818"/>
                </a:cubicBezTo>
                <a:cubicBezTo>
                  <a:pt x="10670" y="16920"/>
                  <a:pt x="10666" y="17008"/>
                  <a:pt x="10666" y="17115"/>
                </a:cubicBezTo>
              </a:path>
              <a:path w="3648" h="1862">
                <a:moveTo>
                  <a:pt x="10964" y="16346"/>
                </a:moveTo>
                <a:cubicBezTo>
                  <a:pt x="11091" y="16316"/>
                  <a:pt x="11056" y="16335"/>
                  <a:pt x="11162" y="16346"/>
                </a:cubicBezTo>
                <a:cubicBezTo>
                  <a:pt x="11190" y="16346"/>
                  <a:pt x="11201" y="16344"/>
                  <a:pt x="11212" y="16321"/>
                </a:cubicBezTo>
              </a:path>
              <a:path w="3648" h="1862">
                <a:moveTo>
                  <a:pt x="10939" y="16371"/>
                </a:moveTo>
                <a:cubicBezTo>
                  <a:pt x="10899" y="16476"/>
                  <a:pt x="10889" y="16482"/>
                  <a:pt x="10889" y="16570"/>
                </a:cubicBezTo>
                <a:cubicBezTo>
                  <a:pt x="10889" y="16596"/>
                  <a:pt x="10897" y="16657"/>
                  <a:pt x="10914" y="16669"/>
                </a:cubicBezTo>
                <a:cubicBezTo>
                  <a:pt x="10964" y="16702"/>
                  <a:pt x="11129" y="16675"/>
                  <a:pt x="11187" y="16694"/>
                </a:cubicBezTo>
                <a:cubicBezTo>
                  <a:pt x="11252" y="16716"/>
                  <a:pt x="11258" y="16777"/>
                  <a:pt x="11261" y="16842"/>
                </a:cubicBezTo>
                <a:cubicBezTo>
                  <a:pt x="11265" y="16922"/>
                  <a:pt x="11256" y="17021"/>
                  <a:pt x="11212" y="17090"/>
                </a:cubicBezTo>
                <a:cubicBezTo>
                  <a:pt x="11163" y="17167"/>
                  <a:pt x="11104" y="17249"/>
                  <a:pt x="11038" y="17314"/>
                </a:cubicBezTo>
                <a:cubicBezTo>
                  <a:pt x="11007" y="17345"/>
                  <a:pt x="10980" y="17355"/>
                  <a:pt x="10939" y="17363"/>
                </a:cubicBezTo>
                <a:cubicBezTo>
                  <a:pt x="10904" y="17317"/>
                  <a:pt x="10897" y="17274"/>
                  <a:pt x="10889" y="17214"/>
                </a:cubicBezTo>
              </a:path>
              <a:path w="3648" h="1862">
                <a:moveTo>
                  <a:pt x="11460" y="16272"/>
                </a:moveTo>
                <a:cubicBezTo>
                  <a:pt x="11561" y="16468"/>
                  <a:pt x="11596" y="16598"/>
                  <a:pt x="11609" y="16818"/>
                </a:cubicBezTo>
                <a:cubicBezTo>
                  <a:pt x="11616" y="16936"/>
                  <a:pt x="11605" y="17111"/>
                  <a:pt x="11534" y="17214"/>
                </a:cubicBezTo>
                <a:cubicBezTo>
                  <a:pt x="11489" y="17279"/>
                  <a:pt x="11404" y="17305"/>
                  <a:pt x="11336" y="173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65920" y="5697360"/>
            <a:ext cx="160200" cy="115920"/>
          </a:xfrm>
          <a:custGeom>
            <a:avLst/>
            <a:gdLst/>
            <a:ahLst/>
            <a:rect l="l" t="t" r="r" b="b"/>
            <a:pathLst>
              <a:path w="447" h="324">
                <a:moveTo>
                  <a:pt x="16570" y="15825"/>
                </a:moveTo>
                <a:cubicBezTo>
                  <a:pt x="16675" y="15825"/>
                  <a:pt x="16766" y="15835"/>
                  <a:pt x="16867" y="15850"/>
                </a:cubicBezTo>
                <a:cubicBezTo>
                  <a:pt x="16925" y="15850"/>
                  <a:pt x="16950" y="15850"/>
                  <a:pt x="16991" y="15850"/>
                </a:cubicBezTo>
              </a:path>
              <a:path w="447" h="324">
                <a:moveTo>
                  <a:pt x="16743" y="16098"/>
                </a:moveTo>
                <a:cubicBezTo>
                  <a:pt x="16828" y="16141"/>
                  <a:pt x="16870" y="16148"/>
                  <a:pt x="16966" y="16148"/>
                </a:cubicBezTo>
                <a:cubicBezTo>
                  <a:pt x="16983" y="16148"/>
                  <a:pt x="16999" y="16148"/>
                  <a:pt x="17016" y="1614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6303960" y="5510160"/>
            <a:ext cx="652320" cy="455760"/>
          </a:xfrm>
          <a:custGeom>
            <a:avLst/>
            <a:gdLst/>
            <a:ahLst/>
            <a:rect l="l" t="t" r="r" b="b"/>
            <a:pathLst>
              <a:path w="1812" h="1267">
                <a:moveTo>
                  <a:pt x="17711" y="15329"/>
                </a:moveTo>
                <a:cubicBezTo>
                  <a:pt x="17823" y="15324"/>
                  <a:pt x="17905" y="15304"/>
                  <a:pt x="18008" y="15304"/>
                </a:cubicBezTo>
              </a:path>
              <a:path w="1812" h="1267">
                <a:moveTo>
                  <a:pt x="17562" y="15453"/>
                </a:moveTo>
                <a:cubicBezTo>
                  <a:pt x="17530" y="15528"/>
                  <a:pt x="17478" y="15586"/>
                  <a:pt x="17537" y="15652"/>
                </a:cubicBezTo>
                <a:cubicBezTo>
                  <a:pt x="17581" y="15701"/>
                  <a:pt x="17606" y="15655"/>
                  <a:pt x="17661" y="15677"/>
                </a:cubicBezTo>
                <a:cubicBezTo>
                  <a:pt x="17710" y="15696"/>
                  <a:pt x="17763" y="15716"/>
                  <a:pt x="17810" y="15751"/>
                </a:cubicBezTo>
                <a:cubicBezTo>
                  <a:pt x="17871" y="15797"/>
                  <a:pt x="17880" y="15859"/>
                  <a:pt x="17909" y="15925"/>
                </a:cubicBezTo>
                <a:cubicBezTo>
                  <a:pt x="17944" y="16005"/>
                  <a:pt x="17978" y="16083"/>
                  <a:pt x="17959" y="16173"/>
                </a:cubicBezTo>
                <a:cubicBezTo>
                  <a:pt x="17942" y="16253"/>
                  <a:pt x="17930" y="16350"/>
                  <a:pt x="17884" y="16421"/>
                </a:cubicBezTo>
                <a:cubicBezTo>
                  <a:pt x="17857" y="16463"/>
                  <a:pt x="17831" y="16470"/>
                  <a:pt x="17785" y="16470"/>
                </a:cubicBezTo>
                <a:cubicBezTo>
                  <a:pt x="17749" y="16470"/>
                  <a:pt x="17682" y="16452"/>
                  <a:pt x="17661" y="16421"/>
                </a:cubicBezTo>
                <a:cubicBezTo>
                  <a:pt x="17631" y="16361"/>
                  <a:pt x="17617" y="16335"/>
                  <a:pt x="17587" y="16297"/>
                </a:cubicBezTo>
              </a:path>
              <a:path w="1812" h="1267">
                <a:moveTo>
                  <a:pt x="18306" y="15553"/>
                </a:moveTo>
                <a:cubicBezTo>
                  <a:pt x="18352" y="15543"/>
                  <a:pt x="18473" y="15505"/>
                  <a:pt x="18529" y="15528"/>
                </a:cubicBezTo>
                <a:cubicBezTo>
                  <a:pt x="18621" y="15566"/>
                  <a:pt x="18667" y="15701"/>
                  <a:pt x="18703" y="15776"/>
                </a:cubicBezTo>
                <a:cubicBezTo>
                  <a:pt x="18745" y="15862"/>
                  <a:pt x="18720" y="15958"/>
                  <a:pt x="18703" y="16049"/>
                </a:cubicBezTo>
                <a:cubicBezTo>
                  <a:pt x="18685" y="16145"/>
                  <a:pt x="18626" y="16259"/>
                  <a:pt x="18579" y="16346"/>
                </a:cubicBezTo>
                <a:cubicBezTo>
                  <a:pt x="18536" y="16427"/>
                  <a:pt x="18484" y="16480"/>
                  <a:pt x="18430" y="16545"/>
                </a:cubicBezTo>
                <a:cubicBezTo>
                  <a:pt x="18422" y="16553"/>
                  <a:pt x="18413" y="16562"/>
                  <a:pt x="18405" y="16570"/>
                </a:cubicBezTo>
                <a:cubicBezTo>
                  <a:pt x="18367" y="16557"/>
                  <a:pt x="18380" y="16540"/>
                  <a:pt x="18380" y="16495"/>
                </a:cubicBezTo>
                <a:cubicBezTo>
                  <a:pt x="18380" y="16445"/>
                  <a:pt x="18399" y="16384"/>
                  <a:pt x="18430" y="16346"/>
                </a:cubicBezTo>
                <a:cubicBezTo>
                  <a:pt x="18445" y="16327"/>
                  <a:pt x="18503" y="16302"/>
                  <a:pt x="18529" y="16321"/>
                </a:cubicBezTo>
                <a:cubicBezTo>
                  <a:pt x="18584" y="16360"/>
                  <a:pt x="18664" y="16422"/>
                  <a:pt x="18703" y="16470"/>
                </a:cubicBezTo>
                <a:cubicBezTo>
                  <a:pt x="18738" y="16514"/>
                  <a:pt x="18757" y="16534"/>
                  <a:pt x="18802" y="16570"/>
                </a:cubicBezTo>
              </a:path>
              <a:path w="1812" h="1267">
                <a:moveTo>
                  <a:pt x="19075" y="15602"/>
                </a:moveTo>
                <a:cubicBezTo>
                  <a:pt x="19004" y="15643"/>
                  <a:pt x="18971" y="15682"/>
                  <a:pt x="18926" y="15751"/>
                </a:cubicBezTo>
                <a:cubicBezTo>
                  <a:pt x="18871" y="15835"/>
                  <a:pt x="18811" y="15943"/>
                  <a:pt x="18827" y="16049"/>
                </a:cubicBezTo>
                <a:cubicBezTo>
                  <a:pt x="18843" y="16157"/>
                  <a:pt x="18859" y="16267"/>
                  <a:pt x="18901" y="16371"/>
                </a:cubicBezTo>
                <a:cubicBezTo>
                  <a:pt x="18923" y="16424"/>
                  <a:pt x="18968" y="16489"/>
                  <a:pt x="19025" y="16495"/>
                </a:cubicBezTo>
                <a:cubicBezTo>
                  <a:pt x="19090" y="16502"/>
                  <a:pt x="19143" y="16417"/>
                  <a:pt x="19174" y="16371"/>
                </a:cubicBezTo>
                <a:cubicBezTo>
                  <a:pt x="19226" y="16292"/>
                  <a:pt x="19284" y="16194"/>
                  <a:pt x="19298" y="16098"/>
                </a:cubicBezTo>
                <a:cubicBezTo>
                  <a:pt x="19316" y="15978"/>
                  <a:pt x="19327" y="15845"/>
                  <a:pt x="19298" y="15726"/>
                </a:cubicBezTo>
                <a:cubicBezTo>
                  <a:pt x="19286" y="15678"/>
                  <a:pt x="19216" y="15429"/>
                  <a:pt x="19124" y="15429"/>
                </a:cubicBezTo>
                <a:cubicBezTo>
                  <a:pt x="19049" y="15429"/>
                  <a:pt x="18939" y="15555"/>
                  <a:pt x="18901" y="15602"/>
                </a:cubicBezTo>
                <a:cubicBezTo>
                  <a:pt x="18885" y="15627"/>
                  <a:pt x="18868" y="15652"/>
                  <a:pt x="18852" y="1567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7.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9.  Find the sum of the first 100 positive odd integers.</a:t>
            </a:r>
            <a:endParaRPr b="0" lang="en-US" sz="2800" spc="-1" strike="noStrike">
              <a:solidFill>
                <a:srgbClr val="ffffff"/>
              </a:solidFill>
              <a:latin typeface="Arial"/>
            </a:endParaRPr>
          </a:p>
        </p:txBody>
      </p:sp>
      <p:graphicFrame>
        <p:nvGraphicFramePr>
          <p:cNvPr id="72" name=""/>
          <p:cNvGraphicFramePr/>
          <p:nvPr/>
        </p:nvGraphicFramePr>
        <p:xfrm>
          <a:off x="1219320" y="1523880"/>
          <a:ext cx="1523880" cy="773280"/>
        </p:xfrm>
        <a:graphic>
          <a:graphicData uri="http://schemas.openxmlformats.org/presentationml/2006/ole">
            <p:oleObj r:id="rId1" spid="">
              <p:embed/>
              <p:pic>
                <p:nvPicPr>
                  <p:cNvPr id="73" name="" descr=""/>
                  <p:cNvPicPr/>
                  <p:nvPr/>
                </p:nvPicPr>
                <p:blipFill>
                  <a:blip r:embed="rId2"/>
                  <a:stretch/>
                </p:blipFill>
                <p:spPr>
                  <a:xfrm>
                    <a:off x="1219320" y="1523880"/>
                    <a:ext cx="1523880" cy="773280"/>
                  </a:xfrm>
                  <a:prstGeom prst="rect">
                    <a:avLst/>
                  </a:prstGeom>
                  <a:ln w="0">
                    <a:noFill/>
                  </a:ln>
                </p:spPr>
              </p:pic>
            </p:oleObj>
          </a:graphicData>
        </a:graphic>
      </p:graphicFrame>
      <p:sp>
        <p:nvSpPr>
          <p:cNvPr id="74" name=""/>
          <p:cNvSpPr/>
          <p:nvPr/>
        </p:nvSpPr>
        <p:spPr>
          <a:xfrm>
            <a:off x="3571920" y="1152360"/>
            <a:ext cx="758880" cy="285840"/>
          </a:xfrm>
          <a:custGeom>
            <a:avLst/>
            <a:gdLst/>
            <a:ahLst/>
            <a:rect l="l" t="t" r="r" b="b"/>
            <a:pathLst>
              <a:path w="2109" h="795">
                <a:moveTo>
                  <a:pt x="10542" y="3349"/>
                </a:moveTo>
                <a:cubicBezTo>
                  <a:pt x="10542" y="3323"/>
                  <a:pt x="10535" y="3261"/>
                  <a:pt x="10517" y="3249"/>
                </a:cubicBezTo>
                <a:cubicBezTo>
                  <a:pt x="10504" y="3240"/>
                  <a:pt x="10434" y="3203"/>
                  <a:pt x="10418" y="3200"/>
                </a:cubicBezTo>
                <a:cubicBezTo>
                  <a:pt x="10377" y="3191"/>
                  <a:pt x="10280" y="3227"/>
                  <a:pt x="10244" y="3249"/>
                </a:cubicBezTo>
                <a:cubicBezTo>
                  <a:pt x="10183" y="3287"/>
                  <a:pt x="10131" y="3321"/>
                  <a:pt x="10096" y="3373"/>
                </a:cubicBezTo>
                <a:cubicBezTo>
                  <a:pt x="10067" y="3416"/>
                  <a:pt x="10057" y="3430"/>
                  <a:pt x="10096" y="3473"/>
                </a:cubicBezTo>
                <a:cubicBezTo>
                  <a:pt x="10142" y="3525"/>
                  <a:pt x="10216" y="3531"/>
                  <a:pt x="10269" y="3572"/>
                </a:cubicBezTo>
                <a:cubicBezTo>
                  <a:pt x="10335" y="3623"/>
                  <a:pt x="10418" y="3659"/>
                  <a:pt x="10468" y="3721"/>
                </a:cubicBezTo>
                <a:cubicBezTo>
                  <a:pt x="10509" y="3773"/>
                  <a:pt x="10517" y="3838"/>
                  <a:pt x="10492" y="3894"/>
                </a:cubicBezTo>
                <a:cubicBezTo>
                  <a:pt x="10465" y="3952"/>
                  <a:pt x="10394" y="3947"/>
                  <a:pt x="10344" y="3969"/>
                </a:cubicBezTo>
                <a:cubicBezTo>
                  <a:pt x="10270" y="4002"/>
                  <a:pt x="10202" y="3994"/>
                  <a:pt x="10120" y="3994"/>
                </a:cubicBezTo>
                <a:cubicBezTo>
                  <a:pt x="10064" y="3994"/>
                  <a:pt x="9995" y="3998"/>
                  <a:pt x="9947" y="3969"/>
                </a:cubicBezTo>
                <a:cubicBezTo>
                  <a:pt x="9922" y="3944"/>
                  <a:pt x="9914" y="3936"/>
                  <a:pt x="9947" y="3919"/>
                </a:cubicBezTo>
              </a:path>
              <a:path w="2109" h="795">
                <a:moveTo>
                  <a:pt x="10691" y="3671"/>
                </a:moveTo>
                <a:cubicBezTo>
                  <a:pt x="10707" y="3746"/>
                  <a:pt x="10694" y="3859"/>
                  <a:pt x="10790" y="3870"/>
                </a:cubicBezTo>
                <a:cubicBezTo>
                  <a:pt x="10828" y="3874"/>
                  <a:pt x="10885" y="3875"/>
                  <a:pt x="10914" y="3845"/>
                </a:cubicBezTo>
                <a:cubicBezTo>
                  <a:pt x="10981" y="3774"/>
                  <a:pt x="10978" y="3721"/>
                  <a:pt x="11013" y="3646"/>
                </a:cubicBezTo>
                <a:cubicBezTo>
                  <a:pt x="11037" y="3595"/>
                  <a:pt x="11038" y="3560"/>
                  <a:pt x="11038" y="3497"/>
                </a:cubicBezTo>
                <a:cubicBezTo>
                  <a:pt x="11038" y="3489"/>
                  <a:pt x="11038" y="3481"/>
                  <a:pt x="11038" y="3473"/>
                </a:cubicBezTo>
                <a:cubicBezTo>
                  <a:pt x="11048" y="3520"/>
                  <a:pt x="11046" y="3603"/>
                  <a:pt x="11063" y="3646"/>
                </a:cubicBezTo>
                <a:cubicBezTo>
                  <a:pt x="11081" y="3693"/>
                  <a:pt x="11117" y="3746"/>
                  <a:pt x="11137" y="3795"/>
                </a:cubicBezTo>
                <a:cubicBezTo>
                  <a:pt x="11156" y="3842"/>
                  <a:pt x="11157" y="3845"/>
                  <a:pt x="11212" y="3845"/>
                </a:cubicBezTo>
              </a:path>
              <a:path w="2109" h="795">
                <a:moveTo>
                  <a:pt x="11311" y="3746"/>
                </a:moveTo>
                <a:cubicBezTo>
                  <a:pt x="11311" y="3796"/>
                  <a:pt x="11311" y="3889"/>
                  <a:pt x="11311" y="3795"/>
                </a:cubicBezTo>
                <a:cubicBezTo>
                  <a:pt x="11311" y="3766"/>
                  <a:pt x="11326" y="3702"/>
                  <a:pt x="11336" y="3671"/>
                </a:cubicBezTo>
                <a:cubicBezTo>
                  <a:pt x="11357" y="3608"/>
                  <a:pt x="11368" y="3552"/>
                  <a:pt x="11410" y="3497"/>
                </a:cubicBezTo>
                <a:cubicBezTo>
                  <a:pt x="11442" y="3454"/>
                  <a:pt x="11485" y="3448"/>
                  <a:pt x="11534" y="3448"/>
                </a:cubicBezTo>
                <a:cubicBezTo>
                  <a:pt x="11591" y="3448"/>
                  <a:pt x="11645" y="3489"/>
                  <a:pt x="11658" y="3547"/>
                </a:cubicBezTo>
                <a:cubicBezTo>
                  <a:pt x="11669" y="3594"/>
                  <a:pt x="11664" y="3677"/>
                  <a:pt x="11683" y="3721"/>
                </a:cubicBezTo>
                <a:cubicBezTo>
                  <a:pt x="11700" y="3761"/>
                  <a:pt x="11708" y="3748"/>
                  <a:pt x="11708" y="3795"/>
                </a:cubicBezTo>
                <a:cubicBezTo>
                  <a:pt x="11741" y="3752"/>
                  <a:pt x="11721" y="3745"/>
                  <a:pt x="11733" y="3696"/>
                </a:cubicBezTo>
                <a:cubicBezTo>
                  <a:pt x="11754" y="3613"/>
                  <a:pt x="11782" y="3572"/>
                  <a:pt x="11807" y="3497"/>
                </a:cubicBezTo>
                <a:cubicBezTo>
                  <a:pt x="11816" y="3470"/>
                  <a:pt x="11842" y="3452"/>
                  <a:pt x="11881" y="3448"/>
                </a:cubicBezTo>
                <a:cubicBezTo>
                  <a:pt x="11916" y="3444"/>
                  <a:pt x="11969" y="3456"/>
                  <a:pt x="11981" y="3497"/>
                </a:cubicBezTo>
                <a:cubicBezTo>
                  <a:pt x="11999" y="3561"/>
                  <a:pt x="12005" y="3628"/>
                  <a:pt x="12005" y="3696"/>
                </a:cubicBezTo>
                <a:cubicBezTo>
                  <a:pt x="12005" y="3759"/>
                  <a:pt x="12024" y="3793"/>
                  <a:pt x="12030" y="3845"/>
                </a:cubicBezTo>
                <a:cubicBezTo>
                  <a:pt x="12030" y="3870"/>
                  <a:pt x="12030" y="3878"/>
                  <a:pt x="12005" y="387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4473720" y="1054080"/>
            <a:ext cx="465120" cy="482760"/>
          </a:xfrm>
          <a:custGeom>
            <a:avLst/>
            <a:gdLst/>
            <a:ahLst/>
            <a:rect l="l" t="t" r="r" b="b"/>
            <a:pathLst>
              <a:path w="1291" h="1340">
                <a:moveTo>
                  <a:pt x="12576" y="2927"/>
                </a:moveTo>
                <a:cubicBezTo>
                  <a:pt x="12528" y="3051"/>
                  <a:pt x="12493" y="3173"/>
                  <a:pt x="12452" y="3299"/>
                </a:cubicBezTo>
                <a:cubicBezTo>
                  <a:pt x="12415" y="3413"/>
                  <a:pt x="12427" y="3528"/>
                  <a:pt x="12427" y="3646"/>
                </a:cubicBezTo>
                <a:cubicBezTo>
                  <a:pt x="12427" y="3716"/>
                  <a:pt x="12435" y="3763"/>
                  <a:pt x="12452" y="3820"/>
                </a:cubicBezTo>
                <a:cubicBezTo>
                  <a:pt x="12467" y="3868"/>
                  <a:pt x="12474" y="3870"/>
                  <a:pt x="12526" y="3870"/>
                </a:cubicBezTo>
              </a:path>
              <a:path w="1291" h="1340">
                <a:moveTo>
                  <a:pt x="12923" y="3299"/>
                </a:moveTo>
                <a:cubicBezTo>
                  <a:pt x="12893" y="3308"/>
                  <a:pt x="12770" y="3332"/>
                  <a:pt x="12750" y="3373"/>
                </a:cubicBezTo>
                <a:cubicBezTo>
                  <a:pt x="12719" y="3437"/>
                  <a:pt x="12750" y="3437"/>
                  <a:pt x="12774" y="3497"/>
                </a:cubicBezTo>
                <a:cubicBezTo>
                  <a:pt x="12791" y="3540"/>
                  <a:pt x="12845" y="3572"/>
                  <a:pt x="12874" y="3621"/>
                </a:cubicBezTo>
                <a:cubicBezTo>
                  <a:pt x="12909" y="3680"/>
                  <a:pt x="12923" y="3701"/>
                  <a:pt x="12923" y="3770"/>
                </a:cubicBezTo>
                <a:cubicBezTo>
                  <a:pt x="12923" y="3787"/>
                  <a:pt x="12875" y="3833"/>
                  <a:pt x="12849" y="3845"/>
                </a:cubicBezTo>
                <a:cubicBezTo>
                  <a:pt x="12819" y="3858"/>
                  <a:pt x="12763" y="3889"/>
                  <a:pt x="12725" y="3870"/>
                </a:cubicBezTo>
                <a:cubicBezTo>
                  <a:pt x="12700" y="3845"/>
                  <a:pt x="12692" y="3837"/>
                  <a:pt x="12725" y="3820"/>
                </a:cubicBezTo>
              </a:path>
              <a:path w="1291" h="1340">
                <a:moveTo>
                  <a:pt x="13072" y="3671"/>
                </a:moveTo>
                <a:cubicBezTo>
                  <a:pt x="13201" y="3618"/>
                  <a:pt x="13223" y="3619"/>
                  <a:pt x="13295" y="3522"/>
                </a:cubicBezTo>
                <a:cubicBezTo>
                  <a:pt x="13341" y="3460"/>
                  <a:pt x="13364" y="3433"/>
                  <a:pt x="13370" y="3349"/>
                </a:cubicBezTo>
                <a:cubicBezTo>
                  <a:pt x="13371" y="3329"/>
                  <a:pt x="13324" y="3286"/>
                  <a:pt x="13295" y="3299"/>
                </a:cubicBezTo>
                <a:cubicBezTo>
                  <a:pt x="13244" y="3322"/>
                  <a:pt x="13208" y="3393"/>
                  <a:pt x="13171" y="3423"/>
                </a:cubicBezTo>
                <a:cubicBezTo>
                  <a:pt x="13104" y="3477"/>
                  <a:pt x="13097" y="3526"/>
                  <a:pt x="13047" y="3597"/>
                </a:cubicBezTo>
                <a:cubicBezTo>
                  <a:pt x="12998" y="3667"/>
                  <a:pt x="13001" y="3673"/>
                  <a:pt x="13022" y="3746"/>
                </a:cubicBezTo>
                <a:cubicBezTo>
                  <a:pt x="13035" y="3789"/>
                  <a:pt x="13077" y="3827"/>
                  <a:pt x="13122" y="3845"/>
                </a:cubicBezTo>
                <a:cubicBezTo>
                  <a:pt x="13155" y="3845"/>
                  <a:pt x="13171" y="3845"/>
                  <a:pt x="13196" y="3845"/>
                </a:cubicBezTo>
              </a:path>
              <a:path w="1291" h="1340">
                <a:moveTo>
                  <a:pt x="13692" y="3423"/>
                </a:moveTo>
                <a:cubicBezTo>
                  <a:pt x="13692" y="3355"/>
                  <a:pt x="13711" y="3339"/>
                  <a:pt x="13667" y="3324"/>
                </a:cubicBezTo>
                <a:cubicBezTo>
                  <a:pt x="13610" y="3324"/>
                  <a:pt x="13579" y="3346"/>
                  <a:pt x="13543" y="3398"/>
                </a:cubicBezTo>
                <a:cubicBezTo>
                  <a:pt x="13497" y="3464"/>
                  <a:pt x="13475" y="3549"/>
                  <a:pt x="13444" y="3621"/>
                </a:cubicBezTo>
                <a:cubicBezTo>
                  <a:pt x="13419" y="3680"/>
                  <a:pt x="13400" y="3721"/>
                  <a:pt x="13444" y="3770"/>
                </a:cubicBezTo>
                <a:cubicBezTo>
                  <a:pt x="13466" y="3794"/>
                  <a:pt x="13504" y="3842"/>
                  <a:pt x="13543" y="3820"/>
                </a:cubicBezTo>
                <a:cubicBezTo>
                  <a:pt x="13591" y="3793"/>
                  <a:pt x="13676" y="3692"/>
                  <a:pt x="13692" y="3646"/>
                </a:cubicBezTo>
                <a:cubicBezTo>
                  <a:pt x="13708" y="3600"/>
                  <a:pt x="13713" y="3520"/>
                  <a:pt x="13717" y="3473"/>
                </a:cubicBezTo>
                <a:cubicBezTo>
                  <a:pt x="13719" y="3448"/>
                  <a:pt x="13717" y="3423"/>
                  <a:pt x="13717" y="3398"/>
                </a:cubicBezTo>
                <a:cubicBezTo>
                  <a:pt x="13673" y="3413"/>
                  <a:pt x="13692" y="3469"/>
                  <a:pt x="13692" y="3522"/>
                </a:cubicBezTo>
                <a:cubicBezTo>
                  <a:pt x="13692" y="3750"/>
                  <a:pt x="13653" y="4034"/>
                  <a:pt x="13717" y="4242"/>
                </a:cubicBezTo>
                <a:cubicBezTo>
                  <a:pt x="13717" y="4266"/>
                  <a:pt x="13717" y="4274"/>
                  <a:pt x="13717" y="424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5099040" y="955800"/>
            <a:ext cx="125280" cy="465120"/>
          </a:xfrm>
          <a:custGeom>
            <a:avLst/>
            <a:gdLst/>
            <a:ahLst/>
            <a:rect l="l" t="t" r="r" b="b"/>
            <a:pathLst>
              <a:path w="349" h="1291">
                <a:moveTo>
                  <a:pt x="14511" y="2679"/>
                </a:moveTo>
                <a:cubicBezTo>
                  <a:pt x="14499" y="2655"/>
                  <a:pt x="14449" y="2686"/>
                  <a:pt x="14436" y="2729"/>
                </a:cubicBezTo>
                <a:cubicBezTo>
                  <a:pt x="14409" y="2823"/>
                  <a:pt x="14373" y="2885"/>
                  <a:pt x="14337" y="2977"/>
                </a:cubicBezTo>
                <a:cubicBezTo>
                  <a:pt x="14294" y="3088"/>
                  <a:pt x="14233" y="3188"/>
                  <a:pt x="14188" y="3299"/>
                </a:cubicBezTo>
                <a:cubicBezTo>
                  <a:pt x="14152" y="3388"/>
                  <a:pt x="14163" y="3478"/>
                  <a:pt x="14163" y="3572"/>
                </a:cubicBezTo>
                <a:cubicBezTo>
                  <a:pt x="14163" y="3653"/>
                  <a:pt x="14191" y="3727"/>
                  <a:pt x="14238" y="3795"/>
                </a:cubicBezTo>
                <a:cubicBezTo>
                  <a:pt x="14260" y="3827"/>
                  <a:pt x="14328" y="3878"/>
                  <a:pt x="14337" y="3894"/>
                </a:cubicBezTo>
                <a:cubicBezTo>
                  <a:pt x="14354" y="3923"/>
                  <a:pt x="14368" y="3933"/>
                  <a:pt x="14412" y="394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5357880" y="928800"/>
            <a:ext cx="3036960" cy="544320"/>
          </a:xfrm>
          <a:custGeom>
            <a:avLst/>
            <a:gdLst/>
            <a:ahLst/>
            <a:rect l="l" t="t" r="r" b="b"/>
            <a:pathLst>
              <a:path w="8434" h="1514">
                <a:moveTo>
                  <a:pt x="15205" y="3175"/>
                </a:moveTo>
                <a:cubicBezTo>
                  <a:pt x="15198" y="3361"/>
                  <a:pt x="15190" y="3392"/>
                  <a:pt x="15131" y="3547"/>
                </a:cubicBezTo>
                <a:cubicBezTo>
                  <a:pt x="15111" y="3601"/>
                  <a:pt x="15039" y="3739"/>
                  <a:pt x="14982" y="3770"/>
                </a:cubicBezTo>
                <a:cubicBezTo>
                  <a:pt x="14961" y="3781"/>
                  <a:pt x="14932" y="3789"/>
                  <a:pt x="14908" y="3795"/>
                </a:cubicBezTo>
                <a:cubicBezTo>
                  <a:pt x="14866" y="3740"/>
                  <a:pt x="14902" y="3717"/>
                  <a:pt x="14908" y="3646"/>
                </a:cubicBezTo>
                <a:cubicBezTo>
                  <a:pt x="14908" y="3638"/>
                  <a:pt x="14908" y="3629"/>
                  <a:pt x="14908" y="3621"/>
                </a:cubicBezTo>
              </a:path>
              <a:path w="8434" h="1514">
                <a:moveTo>
                  <a:pt x="15081" y="3572"/>
                </a:moveTo>
                <a:cubicBezTo>
                  <a:pt x="15094" y="3599"/>
                  <a:pt x="15113" y="3715"/>
                  <a:pt x="15131" y="3746"/>
                </a:cubicBezTo>
                <a:cubicBezTo>
                  <a:pt x="15156" y="3770"/>
                  <a:pt x="15164" y="3778"/>
                  <a:pt x="15180" y="3746"/>
                </a:cubicBezTo>
              </a:path>
              <a:path w="8434" h="1514">
                <a:moveTo>
                  <a:pt x="15503" y="3125"/>
                </a:moveTo>
                <a:cubicBezTo>
                  <a:pt x="15592" y="3125"/>
                  <a:pt x="15675" y="3116"/>
                  <a:pt x="15751" y="3101"/>
                </a:cubicBezTo>
                <a:cubicBezTo>
                  <a:pt x="15817" y="3088"/>
                  <a:pt x="15800" y="3114"/>
                  <a:pt x="15850" y="3076"/>
                </a:cubicBezTo>
              </a:path>
              <a:path w="8434" h="1514">
                <a:moveTo>
                  <a:pt x="15429" y="3274"/>
                </a:moveTo>
                <a:cubicBezTo>
                  <a:pt x="15395" y="3387"/>
                  <a:pt x="15420" y="3338"/>
                  <a:pt x="15429" y="3423"/>
                </a:cubicBezTo>
                <a:cubicBezTo>
                  <a:pt x="15429" y="3431"/>
                  <a:pt x="15429" y="3440"/>
                  <a:pt x="15429" y="3448"/>
                </a:cubicBezTo>
                <a:cubicBezTo>
                  <a:pt x="15481" y="3448"/>
                  <a:pt x="15481" y="3453"/>
                  <a:pt x="15503" y="3423"/>
                </a:cubicBezTo>
                <a:cubicBezTo>
                  <a:pt x="15523" y="3397"/>
                  <a:pt x="15595" y="3359"/>
                  <a:pt x="15627" y="3349"/>
                </a:cubicBezTo>
                <a:cubicBezTo>
                  <a:pt x="15656" y="3340"/>
                  <a:pt x="15715" y="3399"/>
                  <a:pt x="15726" y="3423"/>
                </a:cubicBezTo>
                <a:cubicBezTo>
                  <a:pt x="15743" y="3461"/>
                  <a:pt x="15769" y="3536"/>
                  <a:pt x="15776" y="3572"/>
                </a:cubicBezTo>
                <a:cubicBezTo>
                  <a:pt x="15793" y="3654"/>
                  <a:pt x="15729" y="3718"/>
                  <a:pt x="15677" y="3770"/>
                </a:cubicBezTo>
                <a:cubicBezTo>
                  <a:pt x="15629" y="3818"/>
                  <a:pt x="15592" y="3820"/>
                  <a:pt x="15528" y="3820"/>
                </a:cubicBezTo>
                <a:cubicBezTo>
                  <a:pt x="15491" y="3820"/>
                  <a:pt x="15400" y="3826"/>
                  <a:pt x="15379" y="3795"/>
                </a:cubicBezTo>
                <a:cubicBezTo>
                  <a:pt x="15379" y="3770"/>
                  <a:pt x="15379" y="3762"/>
                  <a:pt x="15379" y="3746"/>
                </a:cubicBezTo>
              </a:path>
              <a:path w="8434" h="1514">
                <a:moveTo>
                  <a:pt x="15900" y="3572"/>
                </a:moveTo>
                <a:cubicBezTo>
                  <a:pt x="15908" y="3755"/>
                  <a:pt x="15876" y="3739"/>
                  <a:pt x="15974" y="3820"/>
                </a:cubicBezTo>
                <a:cubicBezTo>
                  <a:pt x="16017" y="3855"/>
                  <a:pt x="16047" y="3854"/>
                  <a:pt x="16098" y="3820"/>
                </a:cubicBezTo>
                <a:cubicBezTo>
                  <a:pt x="16154" y="3782"/>
                  <a:pt x="16206" y="3743"/>
                  <a:pt x="16222" y="3671"/>
                </a:cubicBezTo>
                <a:cubicBezTo>
                  <a:pt x="16242" y="3581"/>
                  <a:pt x="16233" y="3531"/>
                  <a:pt x="16222" y="3448"/>
                </a:cubicBezTo>
                <a:cubicBezTo>
                  <a:pt x="16214" y="3384"/>
                  <a:pt x="16210" y="3319"/>
                  <a:pt x="16148" y="3274"/>
                </a:cubicBezTo>
                <a:cubicBezTo>
                  <a:pt x="16091" y="3233"/>
                  <a:pt x="16015" y="3249"/>
                  <a:pt x="15949" y="3249"/>
                </a:cubicBezTo>
                <a:cubicBezTo>
                  <a:pt x="15911" y="3249"/>
                  <a:pt x="15846" y="3231"/>
                  <a:pt x="15825" y="3274"/>
                </a:cubicBezTo>
                <a:cubicBezTo>
                  <a:pt x="15825" y="3282"/>
                  <a:pt x="15825" y="3291"/>
                  <a:pt x="15825" y="3299"/>
                </a:cubicBezTo>
              </a:path>
              <a:path w="8434" h="1514">
                <a:moveTo>
                  <a:pt x="16520" y="3448"/>
                </a:moveTo>
                <a:cubicBezTo>
                  <a:pt x="16584" y="3472"/>
                  <a:pt x="16625" y="3473"/>
                  <a:pt x="16694" y="3473"/>
                </a:cubicBezTo>
                <a:cubicBezTo>
                  <a:pt x="16752" y="3473"/>
                  <a:pt x="16809" y="3473"/>
                  <a:pt x="16867" y="3473"/>
                </a:cubicBezTo>
              </a:path>
              <a:path w="8434" h="1514">
                <a:moveTo>
                  <a:pt x="17388" y="2902"/>
                </a:moveTo>
                <a:cubicBezTo>
                  <a:pt x="17347" y="2943"/>
                  <a:pt x="17317" y="2974"/>
                  <a:pt x="17289" y="3026"/>
                </a:cubicBezTo>
                <a:cubicBezTo>
                  <a:pt x="17244" y="3111"/>
                  <a:pt x="17205" y="3189"/>
                  <a:pt x="17165" y="3274"/>
                </a:cubicBezTo>
                <a:cubicBezTo>
                  <a:pt x="17122" y="3363"/>
                  <a:pt x="17115" y="3424"/>
                  <a:pt x="17115" y="3522"/>
                </a:cubicBezTo>
                <a:cubicBezTo>
                  <a:pt x="17115" y="3633"/>
                  <a:pt x="17112" y="3659"/>
                  <a:pt x="17165" y="3746"/>
                </a:cubicBezTo>
                <a:cubicBezTo>
                  <a:pt x="17198" y="3799"/>
                  <a:pt x="17178" y="3830"/>
                  <a:pt x="17239" y="3845"/>
                </a:cubicBezTo>
              </a:path>
              <a:path w="8434" h="1514">
                <a:moveTo>
                  <a:pt x="17835" y="3200"/>
                </a:moveTo>
                <a:cubicBezTo>
                  <a:pt x="17808" y="3119"/>
                  <a:pt x="17796" y="3060"/>
                  <a:pt x="17686" y="3101"/>
                </a:cubicBezTo>
                <a:cubicBezTo>
                  <a:pt x="17644" y="3116"/>
                  <a:pt x="17574" y="3172"/>
                  <a:pt x="17537" y="3200"/>
                </a:cubicBezTo>
                <a:cubicBezTo>
                  <a:pt x="17504" y="3225"/>
                  <a:pt x="17499" y="3286"/>
                  <a:pt x="17512" y="3324"/>
                </a:cubicBezTo>
                <a:cubicBezTo>
                  <a:pt x="17534" y="3388"/>
                  <a:pt x="17580" y="3439"/>
                  <a:pt x="17611" y="3497"/>
                </a:cubicBezTo>
                <a:cubicBezTo>
                  <a:pt x="17638" y="3549"/>
                  <a:pt x="17676" y="3622"/>
                  <a:pt x="17686" y="3671"/>
                </a:cubicBezTo>
                <a:cubicBezTo>
                  <a:pt x="17701" y="3746"/>
                  <a:pt x="17651" y="3743"/>
                  <a:pt x="17611" y="3770"/>
                </a:cubicBezTo>
                <a:cubicBezTo>
                  <a:pt x="17588" y="3786"/>
                  <a:pt x="17547" y="3814"/>
                  <a:pt x="17512" y="3795"/>
                </a:cubicBezTo>
                <a:cubicBezTo>
                  <a:pt x="17487" y="3781"/>
                  <a:pt x="17473" y="3723"/>
                  <a:pt x="17487" y="3696"/>
                </a:cubicBezTo>
                <a:cubicBezTo>
                  <a:pt x="17528" y="3617"/>
                  <a:pt x="17600" y="3537"/>
                  <a:pt x="17661" y="3473"/>
                </a:cubicBezTo>
                <a:cubicBezTo>
                  <a:pt x="17723" y="3408"/>
                  <a:pt x="17743" y="3307"/>
                  <a:pt x="17810" y="3249"/>
                </a:cubicBezTo>
                <a:cubicBezTo>
                  <a:pt x="17859" y="3225"/>
                  <a:pt x="17876" y="3216"/>
                  <a:pt x="17884" y="3175"/>
                </a:cubicBezTo>
              </a:path>
              <a:path w="8434" h="1514">
                <a:moveTo>
                  <a:pt x="18132" y="3150"/>
                </a:moveTo>
                <a:cubicBezTo>
                  <a:pt x="18063" y="3295"/>
                  <a:pt x="18006" y="3433"/>
                  <a:pt x="17934" y="3572"/>
                </a:cubicBezTo>
                <a:cubicBezTo>
                  <a:pt x="17893" y="3652"/>
                  <a:pt x="17837" y="3747"/>
                  <a:pt x="17785" y="3820"/>
                </a:cubicBezTo>
                <a:cubicBezTo>
                  <a:pt x="17764" y="3850"/>
                  <a:pt x="17760" y="3955"/>
                  <a:pt x="17760" y="3919"/>
                </a:cubicBezTo>
                <a:cubicBezTo>
                  <a:pt x="17760" y="3911"/>
                  <a:pt x="17760" y="3902"/>
                  <a:pt x="17760" y="3894"/>
                </a:cubicBezTo>
              </a:path>
              <a:path w="8434" h="1514">
                <a:moveTo>
                  <a:pt x="18281" y="3274"/>
                </a:moveTo>
                <a:cubicBezTo>
                  <a:pt x="18356" y="3244"/>
                  <a:pt x="18378" y="3225"/>
                  <a:pt x="18455" y="3225"/>
                </a:cubicBezTo>
                <a:cubicBezTo>
                  <a:pt x="18492" y="3225"/>
                  <a:pt x="18519" y="3268"/>
                  <a:pt x="18529" y="3299"/>
                </a:cubicBezTo>
                <a:cubicBezTo>
                  <a:pt x="18545" y="3347"/>
                  <a:pt x="18484" y="3394"/>
                  <a:pt x="18455" y="3423"/>
                </a:cubicBezTo>
                <a:cubicBezTo>
                  <a:pt x="18401" y="3478"/>
                  <a:pt x="18393" y="3480"/>
                  <a:pt x="18331" y="3522"/>
                </a:cubicBezTo>
                <a:cubicBezTo>
                  <a:pt x="18304" y="3540"/>
                  <a:pt x="18236" y="3547"/>
                  <a:pt x="18281" y="3547"/>
                </a:cubicBezTo>
                <a:cubicBezTo>
                  <a:pt x="18332" y="3547"/>
                  <a:pt x="18339" y="3558"/>
                  <a:pt x="18380" y="3572"/>
                </a:cubicBezTo>
                <a:cubicBezTo>
                  <a:pt x="18411" y="3583"/>
                  <a:pt x="18462" y="3608"/>
                  <a:pt x="18479" y="3646"/>
                </a:cubicBezTo>
                <a:cubicBezTo>
                  <a:pt x="18492" y="3677"/>
                  <a:pt x="18486" y="3779"/>
                  <a:pt x="18455" y="3795"/>
                </a:cubicBezTo>
                <a:cubicBezTo>
                  <a:pt x="18426" y="3810"/>
                  <a:pt x="18341" y="3839"/>
                  <a:pt x="18306" y="3845"/>
                </a:cubicBezTo>
                <a:cubicBezTo>
                  <a:pt x="18240" y="3857"/>
                  <a:pt x="18206" y="3811"/>
                  <a:pt x="18157" y="3795"/>
                </a:cubicBezTo>
                <a:cubicBezTo>
                  <a:pt x="18149" y="3795"/>
                  <a:pt x="18140" y="3795"/>
                  <a:pt x="18132" y="3795"/>
                </a:cubicBezTo>
              </a:path>
              <a:path w="8434" h="1514">
                <a:moveTo>
                  <a:pt x="18752" y="2902"/>
                </a:moveTo>
                <a:cubicBezTo>
                  <a:pt x="18867" y="3063"/>
                  <a:pt x="18955" y="3159"/>
                  <a:pt x="18976" y="3349"/>
                </a:cubicBezTo>
                <a:cubicBezTo>
                  <a:pt x="18987" y="3448"/>
                  <a:pt x="18972" y="3557"/>
                  <a:pt x="18926" y="3646"/>
                </a:cubicBezTo>
                <a:cubicBezTo>
                  <a:pt x="18874" y="3746"/>
                  <a:pt x="18785" y="3802"/>
                  <a:pt x="18703" y="3870"/>
                </a:cubicBezTo>
                <a:cubicBezTo>
                  <a:pt x="18691" y="3880"/>
                  <a:pt x="18577" y="3992"/>
                  <a:pt x="18554" y="3969"/>
                </a:cubicBezTo>
                <a:cubicBezTo>
                  <a:pt x="18554" y="3961"/>
                  <a:pt x="18554" y="3952"/>
                  <a:pt x="18554" y="3944"/>
                </a:cubicBezTo>
              </a:path>
              <a:path w="8434" h="1514">
                <a:moveTo>
                  <a:pt x="19199" y="2952"/>
                </a:moveTo>
                <a:cubicBezTo>
                  <a:pt x="19237" y="3027"/>
                  <a:pt x="19227" y="3076"/>
                  <a:pt x="19248" y="3150"/>
                </a:cubicBezTo>
                <a:cubicBezTo>
                  <a:pt x="19274" y="3244"/>
                  <a:pt x="19346" y="3321"/>
                  <a:pt x="19397" y="3398"/>
                </a:cubicBezTo>
                <a:cubicBezTo>
                  <a:pt x="19424" y="3438"/>
                  <a:pt x="19509" y="3514"/>
                  <a:pt x="19521" y="3547"/>
                </a:cubicBezTo>
                <a:cubicBezTo>
                  <a:pt x="19538" y="3595"/>
                  <a:pt x="19546" y="3595"/>
                  <a:pt x="19546" y="3646"/>
                </a:cubicBezTo>
              </a:path>
              <a:path w="8434" h="1514">
                <a:moveTo>
                  <a:pt x="19521" y="3001"/>
                </a:moveTo>
                <a:cubicBezTo>
                  <a:pt x="19508" y="3068"/>
                  <a:pt x="19460" y="3169"/>
                  <a:pt x="19422" y="3225"/>
                </a:cubicBezTo>
                <a:cubicBezTo>
                  <a:pt x="19367" y="3305"/>
                  <a:pt x="19293" y="3379"/>
                  <a:pt x="19224" y="3448"/>
                </a:cubicBezTo>
                <a:cubicBezTo>
                  <a:pt x="19159" y="3513"/>
                  <a:pt x="19111" y="3580"/>
                  <a:pt x="19050" y="3646"/>
                </a:cubicBezTo>
                <a:cubicBezTo>
                  <a:pt x="19019" y="3679"/>
                  <a:pt x="18971" y="3703"/>
                  <a:pt x="19025" y="3721"/>
                </a:cubicBezTo>
                <a:cubicBezTo>
                  <a:pt x="19000" y="3721"/>
                  <a:pt x="18992" y="3721"/>
                  <a:pt x="19000" y="3696"/>
                </a:cubicBezTo>
              </a:path>
              <a:path w="8434" h="1514">
                <a:moveTo>
                  <a:pt x="19769" y="3721"/>
                </a:moveTo>
                <a:cubicBezTo>
                  <a:pt x="19740" y="3794"/>
                  <a:pt x="19726" y="3850"/>
                  <a:pt x="19695" y="3919"/>
                </a:cubicBezTo>
                <a:cubicBezTo>
                  <a:pt x="19674" y="3967"/>
                  <a:pt x="19640" y="3999"/>
                  <a:pt x="19621" y="4043"/>
                </a:cubicBezTo>
                <a:cubicBezTo>
                  <a:pt x="19605" y="4079"/>
                  <a:pt x="19609" y="4055"/>
                  <a:pt x="19596" y="4093"/>
                </a:cubicBezTo>
              </a:path>
              <a:path w="8434" h="1514">
                <a:moveTo>
                  <a:pt x="20265" y="3101"/>
                </a:moveTo>
                <a:cubicBezTo>
                  <a:pt x="20272" y="3171"/>
                  <a:pt x="20293" y="3232"/>
                  <a:pt x="20315" y="3299"/>
                </a:cubicBezTo>
                <a:cubicBezTo>
                  <a:pt x="20342" y="3379"/>
                  <a:pt x="20395" y="3431"/>
                  <a:pt x="20439" y="3497"/>
                </a:cubicBezTo>
                <a:cubicBezTo>
                  <a:pt x="20497" y="3584"/>
                  <a:pt x="20482" y="3581"/>
                  <a:pt x="20563" y="3621"/>
                </a:cubicBezTo>
                <a:cubicBezTo>
                  <a:pt x="20602" y="3641"/>
                  <a:pt x="20597" y="3669"/>
                  <a:pt x="20613" y="3621"/>
                </a:cubicBezTo>
              </a:path>
              <a:path w="8434" h="1514">
                <a:moveTo>
                  <a:pt x="20464" y="3249"/>
                </a:moveTo>
                <a:cubicBezTo>
                  <a:pt x="20387" y="3375"/>
                  <a:pt x="20318" y="3513"/>
                  <a:pt x="20216" y="3621"/>
                </a:cubicBezTo>
                <a:cubicBezTo>
                  <a:pt x="20188" y="3651"/>
                  <a:pt x="20110" y="3706"/>
                  <a:pt x="20092" y="3746"/>
                </a:cubicBezTo>
                <a:cubicBezTo>
                  <a:pt x="20089" y="3752"/>
                  <a:pt x="20092" y="3839"/>
                  <a:pt x="20092" y="3770"/>
                </a:cubicBezTo>
              </a:path>
              <a:path w="8434" h="1514">
                <a:moveTo>
                  <a:pt x="20886" y="3572"/>
                </a:moveTo>
                <a:cubicBezTo>
                  <a:pt x="20858" y="3646"/>
                  <a:pt x="20865" y="3723"/>
                  <a:pt x="20836" y="3795"/>
                </a:cubicBezTo>
                <a:cubicBezTo>
                  <a:pt x="20812" y="3855"/>
                  <a:pt x="20781" y="3899"/>
                  <a:pt x="20737" y="3944"/>
                </a:cubicBezTo>
                <a:cubicBezTo>
                  <a:pt x="20708" y="3973"/>
                  <a:pt x="20674" y="4006"/>
                  <a:pt x="20638" y="4018"/>
                </a:cubicBezTo>
                <a:cubicBezTo>
                  <a:pt x="20595" y="4032"/>
                  <a:pt x="20603" y="4048"/>
                  <a:pt x="20588" y="4018"/>
                </a:cubicBezTo>
              </a:path>
              <a:path w="8434" h="1514">
                <a:moveTo>
                  <a:pt x="21357" y="3150"/>
                </a:moveTo>
                <a:cubicBezTo>
                  <a:pt x="21341" y="3257"/>
                  <a:pt x="21335" y="3394"/>
                  <a:pt x="21307" y="3497"/>
                </a:cubicBezTo>
                <a:cubicBezTo>
                  <a:pt x="21286" y="3573"/>
                  <a:pt x="21291" y="3676"/>
                  <a:pt x="21258" y="3746"/>
                </a:cubicBezTo>
                <a:cubicBezTo>
                  <a:pt x="21240" y="3785"/>
                  <a:pt x="21233" y="3773"/>
                  <a:pt x="21233" y="3820"/>
                </a:cubicBezTo>
              </a:path>
              <a:path w="8434" h="1514">
                <a:moveTo>
                  <a:pt x="21704" y="3621"/>
                </a:moveTo>
                <a:cubicBezTo>
                  <a:pt x="21676" y="3697"/>
                  <a:pt x="21649" y="3824"/>
                  <a:pt x="21605" y="3894"/>
                </a:cubicBezTo>
                <a:cubicBezTo>
                  <a:pt x="21579" y="3935"/>
                  <a:pt x="21557" y="3978"/>
                  <a:pt x="21530" y="4018"/>
                </a:cubicBezTo>
              </a:path>
              <a:path w="8434" h="1514">
                <a:moveTo>
                  <a:pt x="22175" y="3001"/>
                </a:moveTo>
                <a:cubicBezTo>
                  <a:pt x="22155" y="3100"/>
                  <a:pt x="22141" y="3181"/>
                  <a:pt x="22101" y="3274"/>
                </a:cubicBezTo>
                <a:cubicBezTo>
                  <a:pt x="22064" y="3361"/>
                  <a:pt x="22051" y="3437"/>
                  <a:pt x="22027" y="3522"/>
                </a:cubicBezTo>
                <a:cubicBezTo>
                  <a:pt x="22011" y="3580"/>
                  <a:pt x="21988" y="3621"/>
                  <a:pt x="22027" y="3671"/>
                </a:cubicBezTo>
                <a:cubicBezTo>
                  <a:pt x="22073" y="3731"/>
                  <a:pt x="22113" y="3738"/>
                  <a:pt x="22175" y="3696"/>
                </a:cubicBezTo>
                <a:cubicBezTo>
                  <a:pt x="22222" y="3664"/>
                  <a:pt x="22285" y="3635"/>
                  <a:pt x="22299" y="3572"/>
                </a:cubicBezTo>
                <a:cubicBezTo>
                  <a:pt x="22311" y="3518"/>
                  <a:pt x="22324" y="3482"/>
                  <a:pt x="22324" y="3423"/>
                </a:cubicBezTo>
                <a:cubicBezTo>
                  <a:pt x="22324" y="3415"/>
                  <a:pt x="22324" y="3406"/>
                  <a:pt x="22324" y="3398"/>
                </a:cubicBezTo>
                <a:cubicBezTo>
                  <a:pt x="22253" y="3398"/>
                  <a:pt x="22267" y="3418"/>
                  <a:pt x="22225" y="3473"/>
                </a:cubicBezTo>
                <a:cubicBezTo>
                  <a:pt x="22184" y="3526"/>
                  <a:pt x="22176" y="3570"/>
                  <a:pt x="22151" y="3621"/>
                </a:cubicBezTo>
                <a:cubicBezTo>
                  <a:pt x="22126" y="3671"/>
                  <a:pt x="22113" y="3670"/>
                  <a:pt x="22151" y="3721"/>
                </a:cubicBezTo>
              </a:path>
              <a:path w="8434" h="1514">
                <a:moveTo>
                  <a:pt x="22448" y="3423"/>
                </a:moveTo>
                <a:cubicBezTo>
                  <a:pt x="22448" y="3495"/>
                  <a:pt x="22430" y="3583"/>
                  <a:pt x="22473" y="3646"/>
                </a:cubicBezTo>
                <a:cubicBezTo>
                  <a:pt x="22510" y="3701"/>
                  <a:pt x="22535" y="3658"/>
                  <a:pt x="22572" y="3646"/>
                </a:cubicBezTo>
                <a:cubicBezTo>
                  <a:pt x="22624" y="3628"/>
                  <a:pt x="22637" y="3582"/>
                  <a:pt x="22647" y="3522"/>
                </a:cubicBezTo>
                <a:cubicBezTo>
                  <a:pt x="22665" y="3413"/>
                  <a:pt x="22639" y="3301"/>
                  <a:pt x="22622" y="3200"/>
                </a:cubicBezTo>
                <a:cubicBezTo>
                  <a:pt x="22610" y="3130"/>
                  <a:pt x="22599" y="3119"/>
                  <a:pt x="22523" y="3101"/>
                </a:cubicBezTo>
                <a:cubicBezTo>
                  <a:pt x="22473" y="3089"/>
                  <a:pt x="22411" y="3098"/>
                  <a:pt x="22374" y="3125"/>
                </a:cubicBezTo>
              </a:path>
              <a:path w="8434" h="1514">
                <a:moveTo>
                  <a:pt x="23019" y="2580"/>
                </a:moveTo>
                <a:cubicBezTo>
                  <a:pt x="23083" y="2651"/>
                  <a:pt x="23171" y="2744"/>
                  <a:pt x="23217" y="2828"/>
                </a:cubicBezTo>
                <a:cubicBezTo>
                  <a:pt x="23275" y="2935"/>
                  <a:pt x="23309" y="3083"/>
                  <a:pt x="23316" y="3200"/>
                </a:cubicBezTo>
                <a:cubicBezTo>
                  <a:pt x="23323" y="3328"/>
                  <a:pt x="23285" y="3400"/>
                  <a:pt x="23217" y="3497"/>
                </a:cubicBezTo>
                <a:cubicBezTo>
                  <a:pt x="23147" y="3597"/>
                  <a:pt x="23069" y="3656"/>
                  <a:pt x="22994" y="3746"/>
                </a:cubicBezTo>
                <a:cubicBezTo>
                  <a:pt x="22938" y="3814"/>
                  <a:pt x="22883" y="3855"/>
                  <a:pt x="22820" y="3919"/>
                </a:cubicBezTo>
                <a:cubicBezTo>
                  <a:pt x="22792" y="3948"/>
                  <a:pt x="22774" y="3953"/>
                  <a:pt x="22746" y="396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500280" y="1785960"/>
            <a:ext cx="2197080" cy="669960"/>
          </a:xfrm>
          <a:custGeom>
            <a:avLst/>
            <a:gdLst/>
            <a:ahLst/>
            <a:rect l="l" t="t" r="r" b="b"/>
            <a:pathLst>
              <a:path w="6103" h="1861">
                <a:moveTo>
                  <a:pt x="10021" y="4986"/>
                </a:moveTo>
                <a:cubicBezTo>
                  <a:pt x="9980" y="5108"/>
                  <a:pt x="9936" y="5232"/>
                  <a:pt x="9922" y="5358"/>
                </a:cubicBezTo>
                <a:cubicBezTo>
                  <a:pt x="9913" y="5435"/>
                  <a:pt x="9925" y="5534"/>
                  <a:pt x="9947" y="5606"/>
                </a:cubicBezTo>
                <a:cubicBezTo>
                  <a:pt x="9952" y="5623"/>
                  <a:pt x="10019" y="5733"/>
                  <a:pt x="10046" y="5730"/>
                </a:cubicBezTo>
                <a:cubicBezTo>
                  <a:pt x="10088" y="5725"/>
                  <a:pt x="10136" y="5688"/>
                  <a:pt x="10170" y="5655"/>
                </a:cubicBezTo>
                <a:cubicBezTo>
                  <a:pt x="10214" y="5612"/>
                  <a:pt x="10235" y="5540"/>
                  <a:pt x="10244" y="5482"/>
                </a:cubicBezTo>
                <a:cubicBezTo>
                  <a:pt x="10256" y="5408"/>
                  <a:pt x="10219" y="5392"/>
                  <a:pt x="10195" y="5333"/>
                </a:cubicBezTo>
                <a:cubicBezTo>
                  <a:pt x="10187" y="5313"/>
                  <a:pt x="10156" y="5287"/>
                  <a:pt x="10120" y="5308"/>
                </a:cubicBezTo>
                <a:cubicBezTo>
                  <a:pt x="10088" y="5326"/>
                  <a:pt x="10033" y="5421"/>
                  <a:pt x="10021" y="5457"/>
                </a:cubicBezTo>
                <a:cubicBezTo>
                  <a:pt x="10001" y="5516"/>
                  <a:pt x="10014" y="5654"/>
                  <a:pt x="10046" y="5705"/>
                </a:cubicBezTo>
                <a:cubicBezTo>
                  <a:pt x="10054" y="5713"/>
                  <a:pt x="10063" y="5722"/>
                  <a:pt x="10071" y="5730"/>
                </a:cubicBezTo>
              </a:path>
              <a:path w="6103" h="1861">
                <a:moveTo>
                  <a:pt x="10418" y="5110"/>
                </a:moveTo>
                <a:cubicBezTo>
                  <a:pt x="10399" y="5218"/>
                  <a:pt x="10372" y="5323"/>
                  <a:pt x="10368" y="5432"/>
                </a:cubicBezTo>
                <a:cubicBezTo>
                  <a:pt x="10365" y="5524"/>
                  <a:pt x="10379" y="5596"/>
                  <a:pt x="10393" y="5680"/>
                </a:cubicBezTo>
                <a:cubicBezTo>
                  <a:pt x="10410" y="5782"/>
                  <a:pt x="10409" y="5797"/>
                  <a:pt x="10517" y="5804"/>
                </a:cubicBezTo>
                <a:cubicBezTo>
                  <a:pt x="10572" y="5808"/>
                  <a:pt x="10609" y="5805"/>
                  <a:pt x="10641" y="5755"/>
                </a:cubicBezTo>
                <a:cubicBezTo>
                  <a:pt x="10685" y="5686"/>
                  <a:pt x="10691" y="5635"/>
                  <a:pt x="10691" y="5556"/>
                </a:cubicBezTo>
                <a:cubicBezTo>
                  <a:pt x="10691" y="5460"/>
                  <a:pt x="10684" y="5418"/>
                  <a:pt x="10641" y="5333"/>
                </a:cubicBezTo>
                <a:cubicBezTo>
                  <a:pt x="10614" y="5279"/>
                  <a:pt x="10552" y="5229"/>
                  <a:pt x="10492" y="5209"/>
                </a:cubicBezTo>
                <a:cubicBezTo>
                  <a:pt x="10451" y="5195"/>
                  <a:pt x="10413" y="5184"/>
                  <a:pt x="10368" y="5184"/>
                </a:cubicBezTo>
                <a:cubicBezTo>
                  <a:pt x="10323" y="5184"/>
                  <a:pt x="10307" y="5171"/>
                  <a:pt x="10294" y="5209"/>
                </a:cubicBezTo>
              </a:path>
              <a:path w="6103" h="1861">
                <a:moveTo>
                  <a:pt x="9723" y="5978"/>
                </a:moveTo>
                <a:cubicBezTo>
                  <a:pt x="9908" y="5978"/>
                  <a:pt x="10087" y="5966"/>
                  <a:pt x="10269" y="5953"/>
                </a:cubicBezTo>
                <a:cubicBezTo>
                  <a:pt x="10442" y="5940"/>
                  <a:pt x="10909" y="5914"/>
                  <a:pt x="10740" y="5953"/>
                </a:cubicBezTo>
                <a:cubicBezTo>
                  <a:pt x="10707" y="5961"/>
                  <a:pt x="10674" y="5970"/>
                  <a:pt x="10641" y="5978"/>
                </a:cubicBezTo>
              </a:path>
              <a:path w="6103" h="1861">
                <a:moveTo>
                  <a:pt x="9996" y="6276"/>
                </a:moveTo>
                <a:cubicBezTo>
                  <a:pt x="10056" y="6216"/>
                  <a:pt x="10075" y="6253"/>
                  <a:pt x="10145" y="6226"/>
                </a:cubicBezTo>
                <a:cubicBezTo>
                  <a:pt x="10214" y="6199"/>
                  <a:pt x="10228" y="6213"/>
                  <a:pt x="10294" y="6226"/>
                </a:cubicBezTo>
                <a:cubicBezTo>
                  <a:pt x="10359" y="6239"/>
                  <a:pt x="10368" y="6230"/>
                  <a:pt x="10368" y="6300"/>
                </a:cubicBezTo>
                <a:cubicBezTo>
                  <a:pt x="10368" y="6386"/>
                  <a:pt x="10326" y="6438"/>
                  <a:pt x="10269" y="6499"/>
                </a:cubicBezTo>
                <a:cubicBezTo>
                  <a:pt x="10198" y="6575"/>
                  <a:pt x="10080" y="6646"/>
                  <a:pt x="10021" y="6722"/>
                </a:cubicBezTo>
                <a:cubicBezTo>
                  <a:pt x="10003" y="6745"/>
                  <a:pt x="9996" y="6787"/>
                  <a:pt x="9996" y="6821"/>
                </a:cubicBezTo>
                <a:cubicBezTo>
                  <a:pt x="10057" y="6821"/>
                  <a:pt x="10091" y="6803"/>
                  <a:pt x="10145" y="6796"/>
                </a:cubicBezTo>
                <a:cubicBezTo>
                  <a:pt x="10206" y="6788"/>
                  <a:pt x="10560" y="6831"/>
                  <a:pt x="10567" y="6772"/>
                </a:cubicBezTo>
                <a:cubicBezTo>
                  <a:pt x="10567" y="6764"/>
                  <a:pt x="10567" y="6755"/>
                  <a:pt x="10567" y="6747"/>
                </a:cubicBezTo>
              </a:path>
              <a:path w="6103" h="1861">
                <a:moveTo>
                  <a:pt x="11361" y="5011"/>
                </a:moveTo>
                <a:cubicBezTo>
                  <a:pt x="11325" y="5072"/>
                  <a:pt x="11299" y="5152"/>
                  <a:pt x="11261" y="5209"/>
                </a:cubicBezTo>
                <a:cubicBezTo>
                  <a:pt x="11194" y="5311"/>
                  <a:pt x="11161" y="5416"/>
                  <a:pt x="11112" y="5531"/>
                </a:cubicBezTo>
                <a:cubicBezTo>
                  <a:pt x="11044" y="5690"/>
                  <a:pt x="11060" y="5787"/>
                  <a:pt x="11038" y="5953"/>
                </a:cubicBezTo>
                <a:cubicBezTo>
                  <a:pt x="11025" y="6057"/>
                  <a:pt x="11023" y="6198"/>
                  <a:pt x="11063" y="6300"/>
                </a:cubicBezTo>
                <a:cubicBezTo>
                  <a:pt x="11094" y="6379"/>
                  <a:pt x="11162" y="6502"/>
                  <a:pt x="11212" y="6573"/>
                </a:cubicBezTo>
                <a:cubicBezTo>
                  <a:pt x="11235" y="6606"/>
                  <a:pt x="11243" y="6587"/>
                  <a:pt x="11261" y="6623"/>
                </a:cubicBezTo>
                <a:cubicBezTo>
                  <a:pt x="11286" y="6623"/>
                  <a:pt x="11294" y="6623"/>
                  <a:pt x="11261" y="6623"/>
                </a:cubicBezTo>
              </a:path>
              <a:path w="6103" h="1861">
                <a:moveTo>
                  <a:pt x="11708" y="5184"/>
                </a:moveTo>
                <a:cubicBezTo>
                  <a:pt x="11670" y="5171"/>
                  <a:pt x="11683" y="5155"/>
                  <a:pt x="11683" y="5110"/>
                </a:cubicBezTo>
                <a:cubicBezTo>
                  <a:pt x="11683" y="5093"/>
                  <a:pt x="11731" y="5047"/>
                  <a:pt x="11757" y="5035"/>
                </a:cubicBezTo>
                <a:cubicBezTo>
                  <a:pt x="11801" y="5015"/>
                  <a:pt x="11883" y="4994"/>
                  <a:pt x="11931" y="4986"/>
                </a:cubicBezTo>
                <a:cubicBezTo>
                  <a:pt x="11980" y="4978"/>
                  <a:pt x="12177" y="4958"/>
                  <a:pt x="12204" y="5011"/>
                </a:cubicBezTo>
                <a:cubicBezTo>
                  <a:pt x="12219" y="5040"/>
                  <a:pt x="12188" y="5088"/>
                  <a:pt x="12179" y="5110"/>
                </a:cubicBezTo>
                <a:cubicBezTo>
                  <a:pt x="12145" y="5188"/>
                  <a:pt x="12128" y="5233"/>
                  <a:pt x="12105" y="5308"/>
                </a:cubicBezTo>
                <a:cubicBezTo>
                  <a:pt x="12085" y="5376"/>
                  <a:pt x="12074" y="5441"/>
                  <a:pt x="12055" y="5507"/>
                </a:cubicBezTo>
                <a:cubicBezTo>
                  <a:pt x="12046" y="5538"/>
                  <a:pt x="12042" y="5631"/>
                  <a:pt x="12030" y="5655"/>
                </a:cubicBezTo>
                <a:cubicBezTo>
                  <a:pt x="12007" y="5678"/>
                  <a:pt x="11996" y="5686"/>
                  <a:pt x="12030" y="5680"/>
                </a:cubicBezTo>
                <a:cubicBezTo>
                  <a:pt x="12030" y="5625"/>
                  <a:pt x="12052" y="5606"/>
                  <a:pt x="12080" y="5556"/>
                </a:cubicBezTo>
              </a:path>
              <a:path w="6103" h="1861">
                <a:moveTo>
                  <a:pt x="12353" y="5135"/>
                </a:moveTo>
                <a:cubicBezTo>
                  <a:pt x="12318" y="5205"/>
                  <a:pt x="12278" y="5257"/>
                  <a:pt x="12278" y="5333"/>
                </a:cubicBezTo>
                <a:cubicBezTo>
                  <a:pt x="12278" y="5376"/>
                  <a:pt x="12283" y="5393"/>
                  <a:pt x="12328" y="5407"/>
                </a:cubicBezTo>
                <a:cubicBezTo>
                  <a:pt x="12380" y="5424"/>
                  <a:pt x="12431" y="5393"/>
                  <a:pt x="12477" y="5383"/>
                </a:cubicBezTo>
                <a:cubicBezTo>
                  <a:pt x="12522" y="5373"/>
                  <a:pt x="12536" y="5382"/>
                  <a:pt x="12576" y="5358"/>
                </a:cubicBezTo>
              </a:path>
              <a:path w="6103" h="1861">
                <a:moveTo>
                  <a:pt x="12576" y="5035"/>
                </a:moveTo>
                <a:cubicBezTo>
                  <a:pt x="12564" y="5140"/>
                  <a:pt x="12577" y="5322"/>
                  <a:pt x="12551" y="5432"/>
                </a:cubicBezTo>
                <a:cubicBezTo>
                  <a:pt x="12533" y="5509"/>
                  <a:pt x="12526" y="5573"/>
                  <a:pt x="12526" y="5655"/>
                </a:cubicBezTo>
                <a:cubicBezTo>
                  <a:pt x="12526" y="5696"/>
                  <a:pt x="12526" y="5738"/>
                  <a:pt x="12526" y="5779"/>
                </a:cubicBezTo>
                <a:cubicBezTo>
                  <a:pt x="12538" y="5744"/>
                  <a:pt x="12543" y="5754"/>
                  <a:pt x="12576" y="5705"/>
                </a:cubicBezTo>
              </a:path>
              <a:path w="6103" h="1861">
                <a:moveTo>
                  <a:pt x="12998" y="4961"/>
                </a:moveTo>
                <a:cubicBezTo>
                  <a:pt x="13086" y="5015"/>
                  <a:pt x="13140" y="5031"/>
                  <a:pt x="13146" y="5135"/>
                </a:cubicBezTo>
                <a:cubicBezTo>
                  <a:pt x="13150" y="5197"/>
                  <a:pt x="13111" y="5283"/>
                  <a:pt x="13072" y="5333"/>
                </a:cubicBezTo>
                <a:cubicBezTo>
                  <a:pt x="13022" y="5398"/>
                  <a:pt x="12955" y="5445"/>
                  <a:pt x="12898" y="5507"/>
                </a:cubicBezTo>
                <a:cubicBezTo>
                  <a:pt x="12862" y="5547"/>
                  <a:pt x="12849" y="5552"/>
                  <a:pt x="12849" y="5606"/>
                </a:cubicBezTo>
                <a:cubicBezTo>
                  <a:pt x="12849" y="5614"/>
                  <a:pt x="12849" y="5623"/>
                  <a:pt x="12849" y="5631"/>
                </a:cubicBezTo>
                <a:cubicBezTo>
                  <a:pt x="12929" y="5631"/>
                  <a:pt x="13021" y="5669"/>
                  <a:pt x="13097" y="5655"/>
                </a:cubicBezTo>
                <a:cubicBezTo>
                  <a:pt x="13159" y="5644"/>
                  <a:pt x="13204" y="5631"/>
                  <a:pt x="13271" y="5631"/>
                </a:cubicBezTo>
                <a:cubicBezTo>
                  <a:pt x="13280" y="5631"/>
                  <a:pt x="13361" y="5631"/>
                  <a:pt x="13295" y="5631"/>
                </a:cubicBezTo>
              </a:path>
              <a:path w="6103" h="1861">
                <a:moveTo>
                  <a:pt x="11881" y="5953"/>
                </a:moveTo>
                <a:cubicBezTo>
                  <a:pt x="12018" y="5953"/>
                  <a:pt x="12146" y="5940"/>
                  <a:pt x="12278" y="5928"/>
                </a:cubicBezTo>
                <a:cubicBezTo>
                  <a:pt x="12362" y="5920"/>
                  <a:pt x="12901" y="5887"/>
                  <a:pt x="12923" y="5953"/>
                </a:cubicBezTo>
              </a:path>
              <a:path w="6103" h="1861">
                <a:moveTo>
                  <a:pt x="12278" y="6251"/>
                </a:moveTo>
                <a:cubicBezTo>
                  <a:pt x="12332" y="6251"/>
                  <a:pt x="12380" y="6243"/>
                  <a:pt x="12427" y="6226"/>
                </a:cubicBezTo>
                <a:cubicBezTo>
                  <a:pt x="12509" y="6197"/>
                  <a:pt x="12544" y="6195"/>
                  <a:pt x="12626" y="6226"/>
                </a:cubicBezTo>
                <a:cubicBezTo>
                  <a:pt x="12626" y="6285"/>
                  <a:pt x="12606" y="6278"/>
                  <a:pt x="12576" y="6325"/>
                </a:cubicBezTo>
                <a:cubicBezTo>
                  <a:pt x="12544" y="6375"/>
                  <a:pt x="12469" y="6423"/>
                  <a:pt x="12402" y="6449"/>
                </a:cubicBezTo>
                <a:cubicBezTo>
                  <a:pt x="12363" y="6464"/>
                  <a:pt x="12340" y="6464"/>
                  <a:pt x="12328" y="6499"/>
                </a:cubicBezTo>
                <a:cubicBezTo>
                  <a:pt x="12403" y="6499"/>
                  <a:pt x="12457" y="6512"/>
                  <a:pt x="12526" y="6524"/>
                </a:cubicBezTo>
                <a:cubicBezTo>
                  <a:pt x="12593" y="6535"/>
                  <a:pt x="12601" y="6548"/>
                  <a:pt x="12650" y="6598"/>
                </a:cubicBezTo>
                <a:cubicBezTo>
                  <a:pt x="12696" y="6644"/>
                  <a:pt x="12665" y="6658"/>
                  <a:pt x="12626" y="6697"/>
                </a:cubicBezTo>
                <a:cubicBezTo>
                  <a:pt x="12567" y="6757"/>
                  <a:pt x="12551" y="6726"/>
                  <a:pt x="12477" y="6747"/>
                </a:cubicBezTo>
                <a:cubicBezTo>
                  <a:pt x="12410" y="6766"/>
                  <a:pt x="12335" y="6769"/>
                  <a:pt x="12278" y="6722"/>
                </a:cubicBezTo>
                <a:cubicBezTo>
                  <a:pt x="12216" y="6672"/>
                  <a:pt x="12265" y="6655"/>
                  <a:pt x="12303" y="6623"/>
                </a:cubicBezTo>
              </a:path>
              <a:path w="6103" h="1861">
                <a:moveTo>
                  <a:pt x="13643" y="5705"/>
                </a:moveTo>
                <a:cubicBezTo>
                  <a:pt x="13628" y="5817"/>
                  <a:pt x="13611" y="5923"/>
                  <a:pt x="13593" y="6028"/>
                </a:cubicBezTo>
                <a:cubicBezTo>
                  <a:pt x="13584" y="6083"/>
                  <a:pt x="13618" y="6121"/>
                  <a:pt x="13618" y="6176"/>
                </a:cubicBezTo>
                <a:cubicBezTo>
                  <a:pt x="13618" y="6201"/>
                  <a:pt x="13618" y="6209"/>
                  <a:pt x="13643" y="6201"/>
                </a:cubicBezTo>
              </a:path>
              <a:path w="6103" h="1861">
                <a:moveTo>
                  <a:pt x="13370" y="5928"/>
                </a:moveTo>
                <a:cubicBezTo>
                  <a:pt x="13468" y="5928"/>
                  <a:pt x="13552" y="5915"/>
                  <a:pt x="13643" y="5904"/>
                </a:cubicBezTo>
                <a:cubicBezTo>
                  <a:pt x="13668" y="5904"/>
                  <a:pt x="13692" y="5904"/>
                  <a:pt x="13717" y="5904"/>
                </a:cubicBezTo>
              </a:path>
              <a:path w="6103" h="1861">
                <a:moveTo>
                  <a:pt x="14560" y="5259"/>
                </a:moveTo>
                <a:cubicBezTo>
                  <a:pt x="14413" y="5310"/>
                  <a:pt x="14367" y="5328"/>
                  <a:pt x="14263" y="5432"/>
                </a:cubicBezTo>
                <a:cubicBezTo>
                  <a:pt x="14224" y="5471"/>
                  <a:pt x="14155" y="5540"/>
                  <a:pt x="14188" y="5606"/>
                </a:cubicBezTo>
                <a:cubicBezTo>
                  <a:pt x="14215" y="5660"/>
                  <a:pt x="14224" y="5675"/>
                  <a:pt x="14288" y="5680"/>
                </a:cubicBezTo>
                <a:cubicBezTo>
                  <a:pt x="14349" y="5685"/>
                  <a:pt x="14388" y="5680"/>
                  <a:pt x="14436" y="5655"/>
                </a:cubicBezTo>
                <a:cubicBezTo>
                  <a:pt x="14508" y="5617"/>
                  <a:pt x="14514" y="5593"/>
                  <a:pt x="14560" y="5531"/>
                </a:cubicBezTo>
                <a:cubicBezTo>
                  <a:pt x="14592" y="5488"/>
                  <a:pt x="14585" y="5492"/>
                  <a:pt x="14585" y="5432"/>
                </a:cubicBezTo>
                <a:cubicBezTo>
                  <a:pt x="14585" y="5351"/>
                  <a:pt x="14585" y="5528"/>
                  <a:pt x="14585" y="5531"/>
                </a:cubicBezTo>
                <a:cubicBezTo>
                  <a:pt x="14585" y="5643"/>
                  <a:pt x="14565" y="5746"/>
                  <a:pt x="14560" y="5854"/>
                </a:cubicBezTo>
                <a:cubicBezTo>
                  <a:pt x="14557" y="5919"/>
                  <a:pt x="14528" y="6207"/>
                  <a:pt x="14585" y="6226"/>
                </a:cubicBezTo>
                <a:cubicBezTo>
                  <a:pt x="14610" y="6185"/>
                  <a:pt x="14616" y="6151"/>
                  <a:pt x="14635" y="6102"/>
                </a:cubicBezTo>
              </a:path>
              <a:path w="6103" h="1861">
                <a:moveTo>
                  <a:pt x="14908" y="5680"/>
                </a:moveTo>
                <a:cubicBezTo>
                  <a:pt x="14873" y="5784"/>
                  <a:pt x="14799" y="5929"/>
                  <a:pt x="14833" y="6052"/>
                </a:cubicBezTo>
                <a:cubicBezTo>
                  <a:pt x="14857" y="6138"/>
                  <a:pt x="14886" y="6157"/>
                  <a:pt x="14957" y="6176"/>
                </a:cubicBezTo>
                <a:cubicBezTo>
                  <a:pt x="15066" y="6206"/>
                  <a:pt x="15092" y="6181"/>
                  <a:pt x="15180" y="6127"/>
                </a:cubicBezTo>
                <a:cubicBezTo>
                  <a:pt x="15275" y="6069"/>
                  <a:pt x="15253" y="6024"/>
                  <a:pt x="15280" y="5928"/>
                </a:cubicBezTo>
                <a:cubicBezTo>
                  <a:pt x="15297" y="5868"/>
                  <a:pt x="15287" y="5782"/>
                  <a:pt x="15230" y="5730"/>
                </a:cubicBezTo>
                <a:cubicBezTo>
                  <a:pt x="15183" y="5686"/>
                  <a:pt x="15093" y="5658"/>
                  <a:pt x="15032" y="5655"/>
                </a:cubicBezTo>
                <a:cubicBezTo>
                  <a:pt x="15014" y="5654"/>
                  <a:pt x="14831" y="5646"/>
                  <a:pt x="14908" y="5680"/>
                </a:cubicBezTo>
                <a:cubicBezTo>
                  <a:pt x="14916" y="5680"/>
                  <a:pt x="14924" y="5680"/>
                  <a:pt x="14932" y="5680"/>
                </a:cubicBezTo>
              </a:path>
              <a:path w="6103" h="1861">
                <a:moveTo>
                  <a:pt x="15503" y="5159"/>
                </a:moveTo>
                <a:cubicBezTo>
                  <a:pt x="15633" y="5391"/>
                  <a:pt x="15745" y="5573"/>
                  <a:pt x="15801" y="5829"/>
                </a:cubicBezTo>
                <a:cubicBezTo>
                  <a:pt x="15832" y="5970"/>
                  <a:pt x="15825" y="6108"/>
                  <a:pt x="15825" y="6251"/>
                </a:cubicBezTo>
                <a:cubicBezTo>
                  <a:pt x="15825" y="6372"/>
                  <a:pt x="15806" y="6458"/>
                  <a:pt x="15726" y="6548"/>
                </a:cubicBezTo>
                <a:cubicBezTo>
                  <a:pt x="15652" y="6631"/>
                  <a:pt x="15603" y="6693"/>
                  <a:pt x="15503" y="6747"/>
                </a:cubicBezTo>
                <a:cubicBezTo>
                  <a:pt x="15453" y="6772"/>
                  <a:pt x="15404" y="6796"/>
                  <a:pt x="15354" y="682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4705200" y="2867040"/>
            <a:ext cx="1206720" cy="507960"/>
          </a:xfrm>
          <a:custGeom>
            <a:avLst/>
            <a:gdLst/>
            <a:ahLst/>
            <a:rect l="l" t="t" r="r" b="b"/>
            <a:pathLst>
              <a:path w="3350" h="1415">
                <a:moveTo>
                  <a:pt x="13072" y="7962"/>
                </a:moveTo>
                <a:cubicBezTo>
                  <a:pt x="13112" y="7975"/>
                  <a:pt x="13119" y="8010"/>
                  <a:pt x="13122" y="8062"/>
                </a:cubicBezTo>
                <a:cubicBezTo>
                  <a:pt x="13127" y="8148"/>
                  <a:pt x="13146" y="8222"/>
                  <a:pt x="13146" y="8310"/>
                </a:cubicBezTo>
                <a:cubicBezTo>
                  <a:pt x="13146" y="8566"/>
                  <a:pt x="13146" y="8823"/>
                  <a:pt x="13146" y="9079"/>
                </a:cubicBezTo>
              </a:path>
              <a:path w="3350" h="1415">
                <a:moveTo>
                  <a:pt x="13593" y="8111"/>
                </a:moveTo>
                <a:cubicBezTo>
                  <a:pt x="13593" y="8185"/>
                  <a:pt x="13585" y="8264"/>
                  <a:pt x="13568" y="8334"/>
                </a:cubicBezTo>
                <a:cubicBezTo>
                  <a:pt x="13544" y="8433"/>
                  <a:pt x="13523" y="8530"/>
                  <a:pt x="13519" y="8632"/>
                </a:cubicBezTo>
                <a:cubicBezTo>
                  <a:pt x="13515" y="8734"/>
                  <a:pt x="13500" y="8868"/>
                  <a:pt x="13543" y="8954"/>
                </a:cubicBezTo>
                <a:cubicBezTo>
                  <a:pt x="13581" y="9030"/>
                  <a:pt x="13584" y="9087"/>
                  <a:pt x="13667" y="9103"/>
                </a:cubicBezTo>
                <a:cubicBezTo>
                  <a:pt x="13696" y="9109"/>
                  <a:pt x="13826" y="9099"/>
                  <a:pt x="13841" y="9079"/>
                </a:cubicBezTo>
                <a:cubicBezTo>
                  <a:pt x="13877" y="9031"/>
                  <a:pt x="13955" y="8919"/>
                  <a:pt x="13965" y="8855"/>
                </a:cubicBezTo>
                <a:cubicBezTo>
                  <a:pt x="13980" y="8764"/>
                  <a:pt x="14007" y="8652"/>
                  <a:pt x="13990" y="8558"/>
                </a:cubicBezTo>
                <a:cubicBezTo>
                  <a:pt x="13979" y="8496"/>
                  <a:pt x="13940" y="8356"/>
                  <a:pt x="13891" y="8310"/>
                </a:cubicBezTo>
                <a:cubicBezTo>
                  <a:pt x="13835" y="8258"/>
                  <a:pt x="13771" y="8166"/>
                  <a:pt x="13692" y="8136"/>
                </a:cubicBezTo>
                <a:cubicBezTo>
                  <a:pt x="13640" y="8116"/>
                  <a:pt x="13582" y="8138"/>
                  <a:pt x="13543" y="8161"/>
                </a:cubicBezTo>
                <a:cubicBezTo>
                  <a:pt x="13485" y="8195"/>
                  <a:pt x="13457" y="8223"/>
                  <a:pt x="13444" y="8285"/>
                </a:cubicBezTo>
                <a:cubicBezTo>
                  <a:pt x="13444" y="8301"/>
                  <a:pt x="13444" y="8318"/>
                  <a:pt x="13444" y="8334"/>
                </a:cubicBezTo>
              </a:path>
              <a:path w="3350" h="1415">
                <a:moveTo>
                  <a:pt x="14188" y="8930"/>
                </a:moveTo>
                <a:cubicBezTo>
                  <a:pt x="14188" y="9070"/>
                  <a:pt x="14187" y="9203"/>
                  <a:pt x="14163" y="9327"/>
                </a:cubicBezTo>
                <a:cubicBezTo>
                  <a:pt x="14163" y="9376"/>
                  <a:pt x="14163" y="9392"/>
                  <a:pt x="14163" y="9327"/>
                </a:cubicBezTo>
              </a:path>
              <a:path w="3350" h="1415">
                <a:moveTo>
                  <a:pt x="14610" y="8037"/>
                </a:moveTo>
                <a:cubicBezTo>
                  <a:pt x="14636" y="8097"/>
                  <a:pt x="14651" y="8170"/>
                  <a:pt x="14660" y="8235"/>
                </a:cubicBezTo>
                <a:cubicBezTo>
                  <a:pt x="14690" y="8446"/>
                  <a:pt x="14664" y="8758"/>
                  <a:pt x="14635" y="8930"/>
                </a:cubicBezTo>
                <a:cubicBezTo>
                  <a:pt x="14635" y="8988"/>
                  <a:pt x="14619" y="9012"/>
                  <a:pt x="14660" y="9004"/>
                </a:cubicBezTo>
              </a:path>
              <a:path w="3350" h="1415">
                <a:moveTo>
                  <a:pt x="14858" y="8310"/>
                </a:moveTo>
                <a:cubicBezTo>
                  <a:pt x="14892" y="8199"/>
                  <a:pt x="14900" y="8180"/>
                  <a:pt x="14982" y="8111"/>
                </a:cubicBezTo>
                <a:cubicBezTo>
                  <a:pt x="15022" y="8077"/>
                  <a:pt x="15102" y="8074"/>
                  <a:pt x="15156" y="8086"/>
                </a:cubicBezTo>
                <a:cubicBezTo>
                  <a:pt x="15221" y="8100"/>
                  <a:pt x="15246" y="8129"/>
                  <a:pt x="15280" y="8186"/>
                </a:cubicBezTo>
                <a:cubicBezTo>
                  <a:pt x="15315" y="8244"/>
                  <a:pt x="15302" y="8349"/>
                  <a:pt x="15280" y="8409"/>
                </a:cubicBezTo>
                <a:cubicBezTo>
                  <a:pt x="15254" y="8479"/>
                  <a:pt x="15206" y="8556"/>
                  <a:pt x="15180" y="8632"/>
                </a:cubicBezTo>
                <a:cubicBezTo>
                  <a:pt x="15152" y="8714"/>
                  <a:pt x="15107" y="8786"/>
                  <a:pt x="15056" y="8855"/>
                </a:cubicBezTo>
                <a:cubicBezTo>
                  <a:pt x="15030" y="8890"/>
                  <a:pt x="15013" y="8926"/>
                  <a:pt x="15007" y="8954"/>
                </a:cubicBezTo>
                <a:cubicBezTo>
                  <a:pt x="15007" y="8971"/>
                  <a:pt x="15007" y="8987"/>
                  <a:pt x="15007" y="9004"/>
                </a:cubicBezTo>
                <a:cubicBezTo>
                  <a:pt x="15044" y="8953"/>
                  <a:pt x="15047" y="8946"/>
                  <a:pt x="15106" y="8930"/>
                </a:cubicBezTo>
                <a:cubicBezTo>
                  <a:pt x="15199" y="8905"/>
                  <a:pt x="15318" y="8943"/>
                  <a:pt x="15404" y="8954"/>
                </a:cubicBezTo>
                <a:cubicBezTo>
                  <a:pt x="15462" y="8961"/>
                  <a:pt x="15509" y="8936"/>
                  <a:pt x="15553" y="8930"/>
                </a:cubicBezTo>
                <a:cubicBezTo>
                  <a:pt x="15586" y="8930"/>
                  <a:pt x="15602" y="8930"/>
                  <a:pt x="15627" y="8930"/>
                </a:cubicBezTo>
              </a:path>
              <a:path w="3350" h="1415">
                <a:moveTo>
                  <a:pt x="15825" y="8086"/>
                </a:moveTo>
                <a:cubicBezTo>
                  <a:pt x="15800" y="8144"/>
                  <a:pt x="15780" y="8196"/>
                  <a:pt x="15776" y="8260"/>
                </a:cubicBezTo>
                <a:cubicBezTo>
                  <a:pt x="15771" y="8345"/>
                  <a:pt x="15736" y="8423"/>
                  <a:pt x="15726" y="8508"/>
                </a:cubicBezTo>
                <a:cubicBezTo>
                  <a:pt x="15715" y="8609"/>
                  <a:pt x="15717" y="8760"/>
                  <a:pt x="15751" y="8855"/>
                </a:cubicBezTo>
                <a:cubicBezTo>
                  <a:pt x="15780" y="8936"/>
                  <a:pt x="15868" y="9042"/>
                  <a:pt x="15949" y="9079"/>
                </a:cubicBezTo>
                <a:cubicBezTo>
                  <a:pt x="16037" y="9119"/>
                  <a:pt x="16158" y="9069"/>
                  <a:pt x="16222" y="9029"/>
                </a:cubicBezTo>
                <a:cubicBezTo>
                  <a:pt x="16278" y="8995"/>
                  <a:pt x="16379" y="8906"/>
                  <a:pt x="16396" y="8855"/>
                </a:cubicBezTo>
                <a:cubicBezTo>
                  <a:pt x="16424" y="8772"/>
                  <a:pt x="16440" y="8594"/>
                  <a:pt x="16421" y="8508"/>
                </a:cubicBezTo>
                <a:cubicBezTo>
                  <a:pt x="16410" y="8459"/>
                  <a:pt x="16313" y="8320"/>
                  <a:pt x="16272" y="8285"/>
                </a:cubicBezTo>
                <a:cubicBezTo>
                  <a:pt x="16203" y="8225"/>
                  <a:pt x="16108" y="8192"/>
                  <a:pt x="16024" y="8161"/>
                </a:cubicBezTo>
                <a:cubicBezTo>
                  <a:pt x="15950" y="8133"/>
                  <a:pt x="15872" y="8135"/>
                  <a:pt x="15801" y="8111"/>
                </a:cubicBezTo>
                <a:cubicBezTo>
                  <a:pt x="15784" y="8103"/>
                  <a:pt x="15768" y="8094"/>
                  <a:pt x="15751" y="808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089000" y="4589640"/>
            <a:ext cx="2036880" cy="1001520"/>
          </a:xfrm>
          <a:custGeom>
            <a:avLst/>
            <a:gdLst/>
            <a:ahLst/>
            <a:rect l="l" t="t" r="r" b="b"/>
            <a:pathLst>
              <a:path w="5657" h="2779">
                <a:moveTo>
                  <a:pt x="3125" y="12750"/>
                </a:moveTo>
                <a:cubicBezTo>
                  <a:pt x="3114" y="12784"/>
                  <a:pt x="3101" y="12791"/>
                  <a:pt x="3101" y="12849"/>
                </a:cubicBezTo>
                <a:cubicBezTo>
                  <a:pt x="3101" y="12947"/>
                  <a:pt x="3112" y="13028"/>
                  <a:pt x="3125" y="13122"/>
                </a:cubicBezTo>
                <a:cubicBezTo>
                  <a:pt x="3136" y="13203"/>
                  <a:pt x="3140" y="13293"/>
                  <a:pt x="3150" y="13370"/>
                </a:cubicBezTo>
                <a:cubicBezTo>
                  <a:pt x="3160" y="13447"/>
                  <a:pt x="3155" y="13543"/>
                  <a:pt x="3175" y="13618"/>
                </a:cubicBezTo>
                <a:cubicBezTo>
                  <a:pt x="3189" y="13671"/>
                  <a:pt x="3200" y="13687"/>
                  <a:pt x="3200" y="13742"/>
                </a:cubicBezTo>
                <a:cubicBezTo>
                  <a:pt x="3200" y="13770"/>
                  <a:pt x="3202" y="13776"/>
                  <a:pt x="3225" y="13742"/>
                </a:cubicBezTo>
              </a:path>
              <a:path w="5657" h="2779">
                <a:moveTo>
                  <a:pt x="3522" y="12948"/>
                </a:moveTo>
                <a:cubicBezTo>
                  <a:pt x="3479" y="13013"/>
                  <a:pt x="3471" y="13077"/>
                  <a:pt x="3448" y="13146"/>
                </a:cubicBezTo>
                <a:cubicBezTo>
                  <a:pt x="3416" y="13240"/>
                  <a:pt x="3398" y="13294"/>
                  <a:pt x="3398" y="13395"/>
                </a:cubicBezTo>
                <a:cubicBezTo>
                  <a:pt x="3398" y="13504"/>
                  <a:pt x="3423" y="13560"/>
                  <a:pt x="3473" y="13643"/>
                </a:cubicBezTo>
                <a:cubicBezTo>
                  <a:pt x="3517" y="13716"/>
                  <a:pt x="3556" y="13743"/>
                  <a:pt x="3621" y="13791"/>
                </a:cubicBezTo>
                <a:cubicBezTo>
                  <a:pt x="3659" y="13819"/>
                  <a:pt x="3725" y="13797"/>
                  <a:pt x="3770" y="13767"/>
                </a:cubicBezTo>
                <a:cubicBezTo>
                  <a:pt x="3824" y="13731"/>
                  <a:pt x="3838" y="13623"/>
                  <a:pt x="3845" y="13568"/>
                </a:cubicBezTo>
                <a:cubicBezTo>
                  <a:pt x="3859" y="13457"/>
                  <a:pt x="3854" y="13323"/>
                  <a:pt x="3820" y="13221"/>
                </a:cubicBezTo>
                <a:cubicBezTo>
                  <a:pt x="3796" y="13148"/>
                  <a:pt x="3765" y="13062"/>
                  <a:pt x="3721" y="12998"/>
                </a:cubicBezTo>
                <a:cubicBezTo>
                  <a:pt x="3698" y="12964"/>
                  <a:pt x="3659" y="12927"/>
                  <a:pt x="3621" y="12923"/>
                </a:cubicBezTo>
                <a:cubicBezTo>
                  <a:pt x="3551" y="12915"/>
                  <a:pt x="3538" y="13006"/>
                  <a:pt x="3522" y="13047"/>
                </a:cubicBezTo>
                <a:cubicBezTo>
                  <a:pt x="3493" y="13120"/>
                  <a:pt x="3456" y="13189"/>
                  <a:pt x="3473" y="13271"/>
                </a:cubicBezTo>
                <a:cubicBezTo>
                  <a:pt x="3481" y="13296"/>
                  <a:pt x="3489" y="13320"/>
                  <a:pt x="3497" y="13345"/>
                </a:cubicBezTo>
              </a:path>
              <a:path w="5657" h="2779">
                <a:moveTo>
                  <a:pt x="4093" y="12923"/>
                </a:moveTo>
                <a:cubicBezTo>
                  <a:pt x="4081" y="12970"/>
                  <a:pt x="4050" y="13020"/>
                  <a:pt x="4043" y="13072"/>
                </a:cubicBezTo>
                <a:cubicBezTo>
                  <a:pt x="4029" y="13178"/>
                  <a:pt x="4006" y="13315"/>
                  <a:pt x="4018" y="13419"/>
                </a:cubicBezTo>
                <a:cubicBezTo>
                  <a:pt x="4031" y="13533"/>
                  <a:pt x="4064" y="13617"/>
                  <a:pt x="4118" y="13717"/>
                </a:cubicBezTo>
                <a:cubicBezTo>
                  <a:pt x="4156" y="13787"/>
                  <a:pt x="4197" y="13829"/>
                  <a:pt x="4266" y="13866"/>
                </a:cubicBezTo>
                <a:cubicBezTo>
                  <a:pt x="4311" y="13890"/>
                  <a:pt x="4376" y="13916"/>
                  <a:pt x="4415" y="13866"/>
                </a:cubicBezTo>
                <a:cubicBezTo>
                  <a:pt x="4455" y="13814"/>
                  <a:pt x="4504" y="13707"/>
                  <a:pt x="4514" y="13643"/>
                </a:cubicBezTo>
                <a:cubicBezTo>
                  <a:pt x="4530" y="13539"/>
                  <a:pt x="4518" y="13419"/>
                  <a:pt x="4490" y="13320"/>
                </a:cubicBezTo>
                <a:cubicBezTo>
                  <a:pt x="4463" y="13226"/>
                  <a:pt x="4427" y="13145"/>
                  <a:pt x="4366" y="13072"/>
                </a:cubicBezTo>
                <a:cubicBezTo>
                  <a:pt x="4314" y="13009"/>
                  <a:pt x="4205" y="12939"/>
                  <a:pt x="4118" y="12973"/>
                </a:cubicBezTo>
                <a:cubicBezTo>
                  <a:pt x="4083" y="12987"/>
                  <a:pt x="4052" y="13003"/>
                  <a:pt x="4018" y="13022"/>
                </a:cubicBezTo>
              </a:path>
              <a:path w="5657" h="2779">
                <a:moveTo>
                  <a:pt x="3026" y="13965"/>
                </a:moveTo>
                <a:cubicBezTo>
                  <a:pt x="3455" y="13965"/>
                  <a:pt x="3892" y="13983"/>
                  <a:pt x="4316" y="13940"/>
                </a:cubicBezTo>
                <a:cubicBezTo>
                  <a:pt x="4413" y="13930"/>
                  <a:pt x="4529" y="13945"/>
                  <a:pt x="4589" y="13915"/>
                </a:cubicBezTo>
                <a:cubicBezTo>
                  <a:pt x="4608" y="13905"/>
                  <a:pt x="4603" y="13900"/>
                  <a:pt x="4564" y="13891"/>
                </a:cubicBezTo>
              </a:path>
              <a:path w="5657" h="2779">
                <a:moveTo>
                  <a:pt x="3969" y="14362"/>
                </a:moveTo>
                <a:cubicBezTo>
                  <a:pt x="3901" y="14452"/>
                  <a:pt x="3938" y="14387"/>
                  <a:pt x="3919" y="14461"/>
                </a:cubicBezTo>
                <a:cubicBezTo>
                  <a:pt x="3946" y="14434"/>
                  <a:pt x="3964" y="14407"/>
                  <a:pt x="3994" y="14387"/>
                </a:cubicBezTo>
                <a:cubicBezTo>
                  <a:pt x="4027" y="14365"/>
                  <a:pt x="4079" y="14335"/>
                  <a:pt x="4118" y="14312"/>
                </a:cubicBezTo>
                <a:cubicBezTo>
                  <a:pt x="4161" y="14286"/>
                  <a:pt x="4211" y="14288"/>
                  <a:pt x="4266" y="14288"/>
                </a:cubicBezTo>
                <a:cubicBezTo>
                  <a:pt x="4355" y="14288"/>
                  <a:pt x="4358" y="14304"/>
                  <a:pt x="4415" y="14362"/>
                </a:cubicBezTo>
                <a:cubicBezTo>
                  <a:pt x="4464" y="14411"/>
                  <a:pt x="4487" y="14469"/>
                  <a:pt x="4490" y="14536"/>
                </a:cubicBezTo>
                <a:cubicBezTo>
                  <a:pt x="4495" y="14658"/>
                  <a:pt x="4478" y="14766"/>
                  <a:pt x="4465" y="14883"/>
                </a:cubicBezTo>
                <a:cubicBezTo>
                  <a:pt x="4452" y="14998"/>
                  <a:pt x="4414" y="15074"/>
                  <a:pt x="4366" y="15180"/>
                </a:cubicBezTo>
                <a:cubicBezTo>
                  <a:pt x="4331" y="15256"/>
                  <a:pt x="4274" y="15303"/>
                  <a:pt x="4217" y="15354"/>
                </a:cubicBezTo>
                <a:cubicBezTo>
                  <a:pt x="4146" y="15417"/>
                  <a:pt x="4120" y="15423"/>
                  <a:pt x="4018" y="15379"/>
                </a:cubicBezTo>
                <a:cubicBezTo>
                  <a:pt x="3970" y="15359"/>
                  <a:pt x="3952" y="15271"/>
                  <a:pt x="3944" y="15230"/>
                </a:cubicBezTo>
                <a:cubicBezTo>
                  <a:pt x="3933" y="15172"/>
                  <a:pt x="3950" y="15130"/>
                  <a:pt x="3969" y="15106"/>
                </a:cubicBezTo>
                <a:cubicBezTo>
                  <a:pt x="3996" y="15072"/>
                  <a:pt x="4022" y="15045"/>
                  <a:pt x="4068" y="15056"/>
                </a:cubicBezTo>
                <a:cubicBezTo>
                  <a:pt x="4134" y="15072"/>
                  <a:pt x="4179" y="15135"/>
                  <a:pt x="4217" y="15180"/>
                </a:cubicBezTo>
                <a:cubicBezTo>
                  <a:pt x="4276" y="15251"/>
                  <a:pt x="4294" y="15297"/>
                  <a:pt x="4316" y="15379"/>
                </a:cubicBezTo>
                <a:cubicBezTo>
                  <a:pt x="4332" y="15440"/>
                  <a:pt x="4370" y="15521"/>
                  <a:pt x="4440" y="15528"/>
                </a:cubicBezTo>
                <a:cubicBezTo>
                  <a:pt x="4468" y="15528"/>
                  <a:pt x="4479" y="15526"/>
                  <a:pt x="4490" y="15503"/>
                </a:cubicBezTo>
              </a:path>
              <a:path w="5657" h="2779">
                <a:moveTo>
                  <a:pt x="5011" y="12948"/>
                </a:moveTo>
                <a:cubicBezTo>
                  <a:pt x="5011" y="12906"/>
                  <a:pt x="5011" y="12881"/>
                  <a:pt x="5011" y="12923"/>
                </a:cubicBezTo>
                <a:cubicBezTo>
                  <a:pt x="5001" y="12940"/>
                  <a:pt x="4965" y="13000"/>
                  <a:pt x="4961" y="13047"/>
                </a:cubicBezTo>
                <a:cubicBezTo>
                  <a:pt x="4950" y="13190"/>
                  <a:pt x="4936" y="13324"/>
                  <a:pt x="4936" y="13469"/>
                </a:cubicBezTo>
                <a:cubicBezTo>
                  <a:pt x="4936" y="13630"/>
                  <a:pt x="4933" y="13782"/>
                  <a:pt x="4961" y="13940"/>
                </a:cubicBezTo>
                <a:cubicBezTo>
                  <a:pt x="5006" y="14190"/>
                  <a:pt x="5049" y="14446"/>
                  <a:pt x="5135" y="14684"/>
                </a:cubicBezTo>
                <a:cubicBezTo>
                  <a:pt x="5185" y="14824"/>
                  <a:pt x="5253" y="14956"/>
                  <a:pt x="5333" y="15081"/>
                </a:cubicBezTo>
                <a:cubicBezTo>
                  <a:pt x="5381" y="15156"/>
                  <a:pt x="5404" y="15235"/>
                  <a:pt x="5457" y="15304"/>
                </a:cubicBezTo>
                <a:cubicBezTo>
                  <a:pt x="5482" y="15336"/>
                  <a:pt x="5515" y="15363"/>
                  <a:pt x="5531" y="15379"/>
                </a:cubicBezTo>
                <a:cubicBezTo>
                  <a:pt x="5553" y="15401"/>
                  <a:pt x="5522" y="15399"/>
                  <a:pt x="5531" y="15354"/>
                </a:cubicBezTo>
              </a:path>
              <a:path w="5657" h="2779">
                <a:moveTo>
                  <a:pt x="5854" y="13246"/>
                </a:moveTo>
                <a:cubicBezTo>
                  <a:pt x="5880" y="13298"/>
                  <a:pt x="5879" y="13328"/>
                  <a:pt x="5879" y="13395"/>
                </a:cubicBezTo>
                <a:cubicBezTo>
                  <a:pt x="5879" y="13637"/>
                  <a:pt x="5886" y="13876"/>
                  <a:pt x="5904" y="14114"/>
                </a:cubicBezTo>
                <a:cubicBezTo>
                  <a:pt x="5915" y="14257"/>
                  <a:pt x="5948" y="14393"/>
                  <a:pt x="5953" y="14536"/>
                </a:cubicBezTo>
                <a:cubicBezTo>
                  <a:pt x="5956" y="14616"/>
                  <a:pt x="5975" y="14678"/>
                  <a:pt x="5978" y="14759"/>
                </a:cubicBezTo>
                <a:cubicBezTo>
                  <a:pt x="5980" y="14811"/>
                  <a:pt x="5988" y="14784"/>
                  <a:pt x="6003" y="14808"/>
                </a:cubicBezTo>
              </a:path>
              <a:path w="5657" h="2779">
                <a:moveTo>
                  <a:pt x="6722" y="13469"/>
                </a:moveTo>
                <a:cubicBezTo>
                  <a:pt x="6722" y="13524"/>
                  <a:pt x="6745" y="13562"/>
                  <a:pt x="6747" y="13618"/>
                </a:cubicBezTo>
                <a:cubicBezTo>
                  <a:pt x="6752" y="13725"/>
                  <a:pt x="6722" y="13830"/>
                  <a:pt x="6722" y="13940"/>
                </a:cubicBezTo>
                <a:cubicBezTo>
                  <a:pt x="6722" y="14073"/>
                  <a:pt x="6718" y="14180"/>
                  <a:pt x="6722" y="14312"/>
                </a:cubicBezTo>
                <a:cubicBezTo>
                  <a:pt x="6724" y="14386"/>
                  <a:pt x="6747" y="14438"/>
                  <a:pt x="6747" y="14511"/>
                </a:cubicBezTo>
                <a:cubicBezTo>
                  <a:pt x="6747" y="14519"/>
                  <a:pt x="6747" y="14528"/>
                  <a:pt x="6747" y="14536"/>
                </a:cubicBezTo>
              </a:path>
              <a:path w="5657" h="2779">
                <a:moveTo>
                  <a:pt x="6375" y="13990"/>
                </a:moveTo>
                <a:cubicBezTo>
                  <a:pt x="6493" y="14018"/>
                  <a:pt x="6604" y="14042"/>
                  <a:pt x="6722" y="14064"/>
                </a:cubicBezTo>
                <a:cubicBezTo>
                  <a:pt x="6755" y="14072"/>
                  <a:pt x="6788" y="14081"/>
                  <a:pt x="6821" y="14089"/>
                </a:cubicBezTo>
              </a:path>
              <a:path w="5657" h="2779">
                <a:moveTo>
                  <a:pt x="7218" y="13618"/>
                </a:moveTo>
                <a:cubicBezTo>
                  <a:pt x="7218" y="13949"/>
                  <a:pt x="7218" y="14279"/>
                  <a:pt x="7218" y="14610"/>
                </a:cubicBezTo>
              </a:path>
              <a:path w="5657" h="2779">
                <a:moveTo>
                  <a:pt x="7665" y="13915"/>
                </a:moveTo>
                <a:cubicBezTo>
                  <a:pt x="7673" y="13869"/>
                  <a:pt x="7727" y="13691"/>
                  <a:pt x="7665" y="13643"/>
                </a:cubicBezTo>
                <a:cubicBezTo>
                  <a:pt x="7621" y="13608"/>
                  <a:pt x="7470" y="13550"/>
                  <a:pt x="7417" y="13618"/>
                </a:cubicBezTo>
                <a:cubicBezTo>
                  <a:pt x="7344" y="13711"/>
                  <a:pt x="7358" y="13793"/>
                  <a:pt x="7367" y="13891"/>
                </a:cubicBezTo>
                <a:cubicBezTo>
                  <a:pt x="7376" y="13984"/>
                  <a:pt x="7410" y="14041"/>
                  <a:pt x="7466" y="14114"/>
                </a:cubicBezTo>
                <a:cubicBezTo>
                  <a:pt x="7499" y="14157"/>
                  <a:pt x="7541" y="14163"/>
                  <a:pt x="7590" y="14163"/>
                </a:cubicBezTo>
                <a:cubicBezTo>
                  <a:pt x="7636" y="14163"/>
                  <a:pt x="7679" y="14108"/>
                  <a:pt x="7689" y="14064"/>
                </a:cubicBezTo>
                <a:cubicBezTo>
                  <a:pt x="7694" y="14040"/>
                  <a:pt x="7720" y="13905"/>
                  <a:pt x="7714" y="13891"/>
                </a:cubicBezTo>
                <a:cubicBezTo>
                  <a:pt x="7698" y="13852"/>
                  <a:pt x="7689" y="13863"/>
                  <a:pt x="7689" y="13816"/>
                </a:cubicBezTo>
                <a:cubicBezTo>
                  <a:pt x="7666" y="13903"/>
                  <a:pt x="7665" y="13973"/>
                  <a:pt x="7665" y="14064"/>
                </a:cubicBezTo>
                <a:cubicBezTo>
                  <a:pt x="7665" y="14163"/>
                  <a:pt x="7671" y="14289"/>
                  <a:pt x="7689" y="14387"/>
                </a:cubicBezTo>
                <a:cubicBezTo>
                  <a:pt x="7702" y="14462"/>
                  <a:pt x="7734" y="14534"/>
                  <a:pt x="7739" y="14610"/>
                </a:cubicBezTo>
                <a:cubicBezTo>
                  <a:pt x="7743" y="14675"/>
                  <a:pt x="7734" y="14660"/>
                  <a:pt x="7789" y="14660"/>
                </a:cubicBezTo>
              </a:path>
              <a:path w="5657" h="2779">
                <a:moveTo>
                  <a:pt x="8210" y="13841"/>
                </a:moveTo>
                <a:cubicBezTo>
                  <a:pt x="8188" y="13767"/>
                  <a:pt x="8173" y="13691"/>
                  <a:pt x="8086" y="13667"/>
                </a:cubicBezTo>
                <a:cubicBezTo>
                  <a:pt x="8049" y="13657"/>
                  <a:pt x="7931" y="13706"/>
                  <a:pt x="7913" y="13742"/>
                </a:cubicBezTo>
                <a:cubicBezTo>
                  <a:pt x="7882" y="13804"/>
                  <a:pt x="7878" y="13951"/>
                  <a:pt x="7888" y="14015"/>
                </a:cubicBezTo>
                <a:cubicBezTo>
                  <a:pt x="7902" y="14103"/>
                  <a:pt x="7953" y="14154"/>
                  <a:pt x="8012" y="14213"/>
                </a:cubicBezTo>
                <a:cubicBezTo>
                  <a:pt x="8049" y="14250"/>
                  <a:pt x="8074" y="14246"/>
                  <a:pt x="8111" y="14213"/>
                </a:cubicBezTo>
                <a:cubicBezTo>
                  <a:pt x="8168" y="14162"/>
                  <a:pt x="8165" y="14129"/>
                  <a:pt x="8186" y="14064"/>
                </a:cubicBezTo>
                <a:cubicBezTo>
                  <a:pt x="8211" y="13988"/>
                  <a:pt x="8211" y="13967"/>
                  <a:pt x="8186" y="13891"/>
                </a:cubicBezTo>
                <a:cubicBezTo>
                  <a:pt x="8186" y="13823"/>
                  <a:pt x="8186" y="13976"/>
                  <a:pt x="8186" y="13990"/>
                </a:cubicBezTo>
                <a:cubicBezTo>
                  <a:pt x="8186" y="14083"/>
                  <a:pt x="8195" y="14196"/>
                  <a:pt x="8210" y="14288"/>
                </a:cubicBezTo>
                <a:cubicBezTo>
                  <a:pt x="8227" y="14397"/>
                  <a:pt x="8258" y="14531"/>
                  <a:pt x="8285" y="14635"/>
                </a:cubicBezTo>
                <a:cubicBezTo>
                  <a:pt x="8297" y="14680"/>
                  <a:pt x="8311" y="14718"/>
                  <a:pt x="8334" y="14734"/>
                </a:cubicBezTo>
              </a:path>
              <a:path w="5657" h="2779">
                <a:moveTo>
                  <a:pt x="8409" y="13295"/>
                </a:moveTo>
                <a:cubicBezTo>
                  <a:pt x="8433" y="13339"/>
                  <a:pt x="8480" y="13444"/>
                  <a:pt x="8508" y="13519"/>
                </a:cubicBezTo>
                <a:cubicBezTo>
                  <a:pt x="8578" y="13704"/>
                  <a:pt x="8622" y="13895"/>
                  <a:pt x="8657" y="14089"/>
                </a:cubicBezTo>
                <a:cubicBezTo>
                  <a:pt x="8691" y="14280"/>
                  <a:pt x="8670" y="14422"/>
                  <a:pt x="8632" y="14610"/>
                </a:cubicBezTo>
                <a:cubicBezTo>
                  <a:pt x="8602" y="14758"/>
                  <a:pt x="8556" y="14912"/>
                  <a:pt x="8458" y="15032"/>
                </a:cubicBezTo>
                <a:cubicBezTo>
                  <a:pt x="8392" y="15098"/>
                  <a:pt x="8375" y="15115"/>
                  <a:pt x="8334" y="1515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5322960" y="4214880"/>
            <a:ext cx="642960" cy="438120"/>
          </a:xfrm>
          <a:custGeom>
            <a:avLst/>
            <a:gdLst/>
            <a:ahLst/>
            <a:rect l="l" t="t" r="r" b="b"/>
            <a:pathLst>
              <a:path w="1787" h="1216">
                <a:moveTo>
                  <a:pt x="15478" y="11956"/>
                </a:moveTo>
                <a:cubicBezTo>
                  <a:pt x="15463" y="12004"/>
                  <a:pt x="15434" y="12061"/>
                  <a:pt x="15429" y="12105"/>
                </a:cubicBezTo>
                <a:cubicBezTo>
                  <a:pt x="15429" y="12113"/>
                  <a:pt x="15429" y="12121"/>
                  <a:pt x="15429" y="12129"/>
                </a:cubicBezTo>
                <a:cubicBezTo>
                  <a:pt x="15410" y="12123"/>
                  <a:pt x="15385" y="12085"/>
                  <a:pt x="15379" y="12055"/>
                </a:cubicBezTo>
                <a:cubicBezTo>
                  <a:pt x="15364" y="11983"/>
                  <a:pt x="15346" y="11902"/>
                  <a:pt x="15304" y="11832"/>
                </a:cubicBezTo>
                <a:cubicBezTo>
                  <a:pt x="15267" y="11769"/>
                  <a:pt x="15212" y="11767"/>
                  <a:pt x="15156" y="11733"/>
                </a:cubicBezTo>
                <a:cubicBezTo>
                  <a:pt x="15116" y="11709"/>
                  <a:pt x="15049" y="11721"/>
                  <a:pt x="15007" y="11757"/>
                </a:cubicBezTo>
                <a:cubicBezTo>
                  <a:pt x="14935" y="11819"/>
                  <a:pt x="14898" y="11872"/>
                  <a:pt x="14858" y="11956"/>
                </a:cubicBezTo>
                <a:cubicBezTo>
                  <a:pt x="14820" y="12036"/>
                  <a:pt x="14788" y="12115"/>
                  <a:pt x="14784" y="12204"/>
                </a:cubicBezTo>
                <a:cubicBezTo>
                  <a:pt x="14781" y="12277"/>
                  <a:pt x="14780" y="12386"/>
                  <a:pt x="14808" y="12452"/>
                </a:cubicBezTo>
                <a:cubicBezTo>
                  <a:pt x="14830" y="12504"/>
                  <a:pt x="14874" y="12547"/>
                  <a:pt x="14932" y="12551"/>
                </a:cubicBezTo>
                <a:cubicBezTo>
                  <a:pt x="14996" y="12555"/>
                  <a:pt x="15033" y="12547"/>
                  <a:pt x="15081" y="12502"/>
                </a:cubicBezTo>
                <a:cubicBezTo>
                  <a:pt x="15134" y="12453"/>
                  <a:pt x="15172" y="12391"/>
                  <a:pt x="15205" y="12328"/>
                </a:cubicBezTo>
                <a:cubicBezTo>
                  <a:pt x="15230" y="12281"/>
                  <a:pt x="15255" y="12125"/>
                  <a:pt x="15255" y="12179"/>
                </a:cubicBezTo>
                <a:cubicBezTo>
                  <a:pt x="15255" y="12187"/>
                  <a:pt x="15255" y="12196"/>
                  <a:pt x="15255" y="12204"/>
                </a:cubicBezTo>
                <a:cubicBezTo>
                  <a:pt x="15262" y="12284"/>
                  <a:pt x="15272" y="12354"/>
                  <a:pt x="15304" y="12427"/>
                </a:cubicBezTo>
                <a:cubicBezTo>
                  <a:pt x="15331" y="12489"/>
                  <a:pt x="15362" y="12543"/>
                  <a:pt x="15404" y="12576"/>
                </a:cubicBezTo>
                <a:cubicBezTo>
                  <a:pt x="15412" y="12584"/>
                  <a:pt x="15421" y="12593"/>
                  <a:pt x="15429" y="12601"/>
                </a:cubicBezTo>
              </a:path>
              <a:path w="1787" h="1216">
                <a:moveTo>
                  <a:pt x="15627" y="12427"/>
                </a:moveTo>
                <a:cubicBezTo>
                  <a:pt x="15627" y="12568"/>
                  <a:pt x="15627" y="12708"/>
                  <a:pt x="15627" y="12849"/>
                </a:cubicBezTo>
              </a:path>
              <a:path w="1787" h="1216">
                <a:moveTo>
                  <a:pt x="15751" y="12526"/>
                </a:moveTo>
                <a:cubicBezTo>
                  <a:pt x="15733" y="12621"/>
                  <a:pt x="15726" y="12681"/>
                  <a:pt x="15726" y="12774"/>
                </a:cubicBezTo>
                <a:cubicBezTo>
                  <a:pt x="15726" y="12841"/>
                  <a:pt x="15784" y="12903"/>
                  <a:pt x="15850" y="12923"/>
                </a:cubicBezTo>
                <a:cubicBezTo>
                  <a:pt x="15880" y="12932"/>
                  <a:pt x="15957" y="12931"/>
                  <a:pt x="15974" y="12898"/>
                </a:cubicBezTo>
                <a:cubicBezTo>
                  <a:pt x="15996" y="12854"/>
                  <a:pt x="15999" y="12801"/>
                  <a:pt x="15999" y="12750"/>
                </a:cubicBezTo>
                <a:cubicBezTo>
                  <a:pt x="15999" y="12683"/>
                  <a:pt x="15964" y="12629"/>
                  <a:pt x="15925" y="12576"/>
                </a:cubicBezTo>
                <a:cubicBezTo>
                  <a:pt x="15888" y="12526"/>
                  <a:pt x="15865" y="12548"/>
                  <a:pt x="15825" y="12526"/>
                </a:cubicBezTo>
                <a:cubicBezTo>
                  <a:pt x="15787" y="12505"/>
                  <a:pt x="15791" y="12482"/>
                  <a:pt x="15776" y="12526"/>
                </a:cubicBezTo>
              </a:path>
              <a:path w="1787" h="1216">
                <a:moveTo>
                  <a:pt x="16049" y="12626"/>
                </a:moveTo>
                <a:cubicBezTo>
                  <a:pt x="16023" y="12669"/>
                  <a:pt x="15969" y="12739"/>
                  <a:pt x="15999" y="12799"/>
                </a:cubicBezTo>
                <a:cubicBezTo>
                  <a:pt x="16022" y="12845"/>
                  <a:pt x="16072" y="12886"/>
                  <a:pt x="16123" y="12898"/>
                </a:cubicBezTo>
                <a:cubicBezTo>
                  <a:pt x="16168" y="12909"/>
                  <a:pt x="16217" y="12876"/>
                  <a:pt x="16247" y="12849"/>
                </a:cubicBezTo>
                <a:cubicBezTo>
                  <a:pt x="16275" y="12824"/>
                  <a:pt x="16288" y="12738"/>
                  <a:pt x="16272" y="12700"/>
                </a:cubicBezTo>
                <a:cubicBezTo>
                  <a:pt x="16246" y="12639"/>
                  <a:pt x="16197" y="12613"/>
                  <a:pt x="16148" y="12576"/>
                </a:cubicBezTo>
                <a:cubicBezTo>
                  <a:pt x="16135" y="12566"/>
                  <a:pt x="16036" y="12496"/>
                  <a:pt x="16024" y="12502"/>
                </a:cubicBezTo>
                <a:cubicBezTo>
                  <a:pt x="16024" y="12510"/>
                  <a:pt x="16024" y="12518"/>
                  <a:pt x="16024" y="12526"/>
                </a:cubicBezTo>
              </a:path>
              <a:path w="1787" h="1216">
                <a:moveTo>
                  <a:pt x="16297" y="12105"/>
                </a:moveTo>
                <a:cubicBezTo>
                  <a:pt x="16392" y="12105"/>
                  <a:pt x="16483" y="12117"/>
                  <a:pt x="16570" y="12080"/>
                </a:cubicBezTo>
              </a:path>
              <a:path w="1787" h="1216">
                <a:moveTo>
                  <a:pt x="16396" y="12303"/>
                </a:moveTo>
                <a:cubicBezTo>
                  <a:pt x="16429" y="12311"/>
                  <a:pt x="16462" y="12320"/>
                  <a:pt x="16495" y="1232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143760" y="4249800"/>
            <a:ext cx="17280" cy="304560"/>
          </a:xfrm>
          <a:custGeom>
            <a:avLst/>
            <a:gdLst/>
            <a:ahLst/>
            <a:rect l="l" t="t" r="r" b="b"/>
            <a:pathLst>
              <a:path w="50" h="844">
                <a:moveTo>
                  <a:pt x="17090" y="11807"/>
                </a:moveTo>
                <a:cubicBezTo>
                  <a:pt x="17058" y="11862"/>
                  <a:pt x="17066" y="11914"/>
                  <a:pt x="17066" y="11981"/>
                </a:cubicBezTo>
                <a:cubicBezTo>
                  <a:pt x="17066" y="12060"/>
                  <a:pt x="17086" y="12127"/>
                  <a:pt x="17090" y="12204"/>
                </a:cubicBezTo>
                <a:cubicBezTo>
                  <a:pt x="17094" y="12281"/>
                  <a:pt x="17115" y="12348"/>
                  <a:pt x="17115" y="12427"/>
                </a:cubicBezTo>
                <a:cubicBezTo>
                  <a:pt x="17115" y="12456"/>
                  <a:pt x="17102" y="12550"/>
                  <a:pt x="17090" y="12576"/>
                </a:cubicBezTo>
                <a:cubicBezTo>
                  <a:pt x="17079" y="12599"/>
                  <a:pt x="17066" y="12671"/>
                  <a:pt x="17066" y="1262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6286680" y="4160880"/>
            <a:ext cx="1571400" cy="447480"/>
          </a:xfrm>
          <a:custGeom>
            <a:avLst/>
            <a:gdLst/>
            <a:ahLst/>
            <a:rect l="l" t="t" r="r" b="b"/>
            <a:pathLst>
              <a:path w="4367" h="1241">
                <a:moveTo>
                  <a:pt x="17661" y="11931"/>
                </a:moveTo>
                <a:cubicBezTo>
                  <a:pt x="17661" y="12084"/>
                  <a:pt x="17665" y="12230"/>
                  <a:pt x="17686" y="12378"/>
                </a:cubicBezTo>
                <a:cubicBezTo>
                  <a:pt x="17695" y="12441"/>
                  <a:pt x="17707" y="12514"/>
                  <a:pt x="17711" y="12576"/>
                </a:cubicBezTo>
                <a:cubicBezTo>
                  <a:pt x="17715" y="12632"/>
                  <a:pt x="17694" y="12636"/>
                  <a:pt x="17735" y="12650"/>
                </a:cubicBezTo>
              </a:path>
              <a:path w="4367" h="1241">
                <a:moveTo>
                  <a:pt x="17462" y="12179"/>
                </a:moveTo>
                <a:cubicBezTo>
                  <a:pt x="17539" y="12208"/>
                  <a:pt x="17602" y="12204"/>
                  <a:pt x="17686" y="12204"/>
                </a:cubicBezTo>
                <a:cubicBezTo>
                  <a:pt x="17773" y="12204"/>
                  <a:pt x="17847" y="12229"/>
                  <a:pt x="17934" y="12229"/>
                </a:cubicBezTo>
                <a:cubicBezTo>
                  <a:pt x="17950" y="12229"/>
                  <a:pt x="17967" y="12229"/>
                  <a:pt x="17983" y="12229"/>
                </a:cubicBezTo>
              </a:path>
              <a:path w="4367" h="1241">
                <a:moveTo>
                  <a:pt x="18430" y="11782"/>
                </a:moveTo>
                <a:cubicBezTo>
                  <a:pt x="18430" y="11741"/>
                  <a:pt x="18410" y="11802"/>
                  <a:pt x="18380" y="11832"/>
                </a:cubicBezTo>
                <a:cubicBezTo>
                  <a:pt x="18311" y="11901"/>
                  <a:pt x="18294" y="11968"/>
                  <a:pt x="18256" y="12055"/>
                </a:cubicBezTo>
                <a:cubicBezTo>
                  <a:pt x="18213" y="12154"/>
                  <a:pt x="18228" y="12250"/>
                  <a:pt x="18256" y="12353"/>
                </a:cubicBezTo>
                <a:cubicBezTo>
                  <a:pt x="18272" y="12413"/>
                  <a:pt x="18324" y="12525"/>
                  <a:pt x="18380" y="12551"/>
                </a:cubicBezTo>
                <a:cubicBezTo>
                  <a:pt x="18397" y="12551"/>
                  <a:pt x="18413" y="12551"/>
                  <a:pt x="18430" y="12551"/>
                </a:cubicBezTo>
              </a:path>
              <a:path w="4367" h="1241">
                <a:moveTo>
                  <a:pt x="18628" y="11931"/>
                </a:moveTo>
                <a:cubicBezTo>
                  <a:pt x="18628" y="12050"/>
                  <a:pt x="18647" y="12141"/>
                  <a:pt x="18653" y="12254"/>
                </a:cubicBezTo>
                <a:cubicBezTo>
                  <a:pt x="18657" y="12326"/>
                  <a:pt x="18673" y="12383"/>
                  <a:pt x="18678" y="12452"/>
                </a:cubicBezTo>
                <a:cubicBezTo>
                  <a:pt x="18678" y="12480"/>
                  <a:pt x="18680" y="12491"/>
                  <a:pt x="18703" y="12502"/>
                </a:cubicBezTo>
              </a:path>
              <a:path w="4367" h="1241">
                <a:moveTo>
                  <a:pt x="18876" y="11956"/>
                </a:moveTo>
                <a:cubicBezTo>
                  <a:pt x="18849" y="12032"/>
                  <a:pt x="18806" y="12100"/>
                  <a:pt x="18802" y="12179"/>
                </a:cubicBezTo>
                <a:cubicBezTo>
                  <a:pt x="18798" y="12252"/>
                  <a:pt x="18797" y="12312"/>
                  <a:pt x="18827" y="12378"/>
                </a:cubicBezTo>
                <a:cubicBezTo>
                  <a:pt x="18852" y="12434"/>
                  <a:pt x="18900" y="12492"/>
                  <a:pt x="18951" y="12526"/>
                </a:cubicBezTo>
                <a:cubicBezTo>
                  <a:pt x="19006" y="12563"/>
                  <a:pt x="19069" y="12562"/>
                  <a:pt x="19124" y="12526"/>
                </a:cubicBezTo>
                <a:cubicBezTo>
                  <a:pt x="19186" y="12486"/>
                  <a:pt x="19174" y="12415"/>
                  <a:pt x="19174" y="12353"/>
                </a:cubicBezTo>
                <a:cubicBezTo>
                  <a:pt x="19174" y="12269"/>
                  <a:pt x="19161" y="12229"/>
                  <a:pt x="19124" y="12154"/>
                </a:cubicBezTo>
                <a:cubicBezTo>
                  <a:pt x="19087" y="12079"/>
                  <a:pt x="19035" y="12030"/>
                  <a:pt x="18976" y="11981"/>
                </a:cubicBezTo>
                <a:cubicBezTo>
                  <a:pt x="18951" y="11961"/>
                  <a:pt x="18887" y="11936"/>
                  <a:pt x="18852" y="11956"/>
                </a:cubicBezTo>
                <a:cubicBezTo>
                  <a:pt x="18794" y="11989"/>
                  <a:pt x="18807" y="12052"/>
                  <a:pt x="18802" y="12105"/>
                </a:cubicBezTo>
              </a:path>
              <a:path w="4367" h="1241">
                <a:moveTo>
                  <a:pt x="19273" y="11956"/>
                </a:moveTo>
                <a:cubicBezTo>
                  <a:pt x="19193" y="12135"/>
                  <a:pt x="19198" y="12101"/>
                  <a:pt x="19224" y="12254"/>
                </a:cubicBezTo>
                <a:cubicBezTo>
                  <a:pt x="19234" y="12314"/>
                  <a:pt x="19260" y="12372"/>
                  <a:pt x="19298" y="12427"/>
                </a:cubicBezTo>
                <a:cubicBezTo>
                  <a:pt x="19328" y="12470"/>
                  <a:pt x="19393" y="12538"/>
                  <a:pt x="19447" y="12551"/>
                </a:cubicBezTo>
                <a:cubicBezTo>
                  <a:pt x="19498" y="12563"/>
                  <a:pt x="19565" y="12546"/>
                  <a:pt x="19596" y="12502"/>
                </a:cubicBezTo>
                <a:cubicBezTo>
                  <a:pt x="19641" y="12439"/>
                  <a:pt x="19645" y="12404"/>
                  <a:pt x="19645" y="12328"/>
                </a:cubicBezTo>
                <a:cubicBezTo>
                  <a:pt x="19645" y="12230"/>
                  <a:pt x="19616" y="12179"/>
                  <a:pt x="19571" y="12105"/>
                </a:cubicBezTo>
                <a:cubicBezTo>
                  <a:pt x="19534" y="12045"/>
                  <a:pt x="19499" y="11998"/>
                  <a:pt x="19422" y="11981"/>
                </a:cubicBezTo>
                <a:cubicBezTo>
                  <a:pt x="19374" y="11971"/>
                  <a:pt x="19287" y="11981"/>
                  <a:pt x="19248" y="12005"/>
                </a:cubicBezTo>
                <a:cubicBezTo>
                  <a:pt x="19219" y="12035"/>
                  <a:pt x="19208" y="12050"/>
                  <a:pt x="19199" y="12080"/>
                </a:cubicBezTo>
              </a:path>
              <a:path w="4367" h="1241">
                <a:moveTo>
                  <a:pt x="19794" y="12303"/>
                </a:moveTo>
                <a:cubicBezTo>
                  <a:pt x="19877" y="12303"/>
                  <a:pt x="19893" y="12303"/>
                  <a:pt x="19943" y="12303"/>
                </a:cubicBezTo>
              </a:path>
              <a:path w="4367" h="1241">
                <a:moveTo>
                  <a:pt x="20092" y="11881"/>
                </a:moveTo>
                <a:cubicBezTo>
                  <a:pt x="20092" y="12017"/>
                  <a:pt x="20101" y="12149"/>
                  <a:pt x="20117" y="12278"/>
                </a:cubicBezTo>
                <a:cubicBezTo>
                  <a:pt x="20129" y="12372"/>
                  <a:pt x="20139" y="12413"/>
                  <a:pt x="20166" y="12502"/>
                </a:cubicBezTo>
                <a:cubicBezTo>
                  <a:pt x="20166" y="12530"/>
                  <a:pt x="20169" y="12540"/>
                  <a:pt x="20191" y="12551"/>
                </a:cubicBezTo>
              </a:path>
              <a:path w="4367" h="1241">
                <a:moveTo>
                  <a:pt x="20117" y="11559"/>
                </a:moveTo>
                <a:cubicBezTo>
                  <a:pt x="20165" y="11584"/>
                  <a:pt x="20236" y="11675"/>
                  <a:pt x="20265" y="11733"/>
                </a:cubicBezTo>
                <a:cubicBezTo>
                  <a:pt x="20341" y="11885"/>
                  <a:pt x="20382" y="12042"/>
                  <a:pt x="20414" y="12204"/>
                </a:cubicBezTo>
                <a:cubicBezTo>
                  <a:pt x="20443" y="12347"/>
                  <a:pt x="20414" y="12390"/>
                  <a:pt x="20389" y="12526"/>
                </a:cubicBezTo>
                <a:cubicBezTo>
                  <a:pt x="20376" y="12598"/>
                  <a:pt x="20341" y="12636"/>
                  <a:pt x="20315" y="12700"/>
                </a:cubicBezTo>
                <a:cubicBezTo>
                  <a:pt x="20315" y="12708"/>
                  <a:pt x="20315" y="12717"/>
                  <a:pt x="20315" y="12725"/>
                </a:cubicBezTo>
              </a:path>
              <a:path w="4367" h="1241">
                <a:moveTo>
                  <a:pt x="20786" y="11658"/>
                </a:moveTo>
                <a:cubicBezTo>
                  <a:pt x="20734" y="11756"/>
                  <a:pt x="20720" y="11808"/>
                  <a:pt x="20687" y="11906"/>
                </a:cubicBezTo>
                <a:cubicBezTo>
                  <a:pt x="20650" y="12015"/>
                  <a:pt x="20642" y="12139"/>
                  <a:pt x="20638" y="12254"/>
                </a:cubicBezTo>
                <a:cubicBezTo>
                  <a:pt x="20635" y="12354"/>
                  <a:pt x="20667" y="12487"/>
                  <a:pt x="20712" y="12576"/>
                </a:cubicBezTo>
                <a:cubicBezTo>
                  <a:pt x="20751" y="12653"/>
                  <a:pt x="20813" y="12727"/>
                  <a:pt x="20861" y="12799"/>
                </a:cubicBezTo>
              </a:path>
              <a:path w="4367" h="1241">
                <a:moveTo>
                  <a:pt x="20886" y="12030"/>
                </a:moveTo>
                <a:cubicBezTo>
                  <a:pt x="20922" y="12018"/>
                  <a:pt x="20915" y="12007"/>
                  <a:pt x="20935" y="11981"/>
                </a:cubicBezTo>
                <a:cubicBezTo>
                  <a:pt x="20943" y="11970"/>
                  <a:pt x="21008" y="11907"/>
                  <a:pt x="21010" y="11906"/>
                </a:cubicBezTo>
                <a:cubicBezTo>
                  <a:pt x="21041" y="11884"/>
                  <a:pt x="21113" y="11912"/>
                  <a:pt x="21134" y="11931"/>
                </a:cubicBezTo>
                <a:cubicBezTo>
                  <a:pt x="21175" y="11968"/>
                  <a:pt x="21158" y="12028"/>
                  <a:pt x="21158" y="12080"/>
                </a:cubicBezTo>
                <a:cubicBezTo>
                  <a:pt x="21158" y="12147"/>
                  <a:pt x="21098" y="12168"/>
                  <a:pt x="21084" y="12229"/>
                </a:cubicBezTo>
                <a:cubicBezTo>
                  <a:pt x="21070" y="12289"/>
                  <a:pt x="21056" y="12327"/>
                  <a:pt x="21010" y="12378"/>
                </a:cubicBezTo>
                <a:cubicBezTo>
                  <a:pt x="20979" y="12412"/>
                  <a:pt x="20940" y="12431"/>
                  <a:pt x="20935" y="12477"/>
                </a:cubicBezTo>
                <a:cubicBezTo>
                  <a:pt x="20930" y="12519"/>
                  <a:pt x="20923" y="12487"/>
                  <a:pt x="20910" y="12526"/>
                </a:cubicBezTo>
                <a:cubicBezTo>
                  <a:pt x="20960" y="12556"/>
                  <a:pt x="20997" y="12551"/>
                  <a:pt x="21059" y="12551"/>
                </a:cubicBezTo>
                <a:cubicBezTo>
                  <a:pt x="21131" y="12551"/>
                  <a:pt x="21215" y="12590"/>
                  <a:pt x="21282" y="12576"/>
                </a:cubicBezTo>
                <a:cubicBezTo>
                  <a:pt x="21299" y="12568"/>
                  <a:pt x="21315" y="12559"/>
                  <a:pt x="21332" y="12551"/>
                </a:cubicBezTo>
              </a:path>
              <a:path w="4367" h="1241">
                <a:moveTo>
                  <a:pt x="21506" y="11757"/>
                </a:moveTo>
                <a:cubicBezTo>
                  <a:pt x="21506" y="11713"/>
                  <a:pt x="21564" y="11829"/>
                  <a:pt x="21580" y="11857"/>
                </a:cubicBezTo>
                <a:cubicBezTo>
                  <a:pt x="21652" y="11983"/>
                  <a:pt x="21731" y="12117"/>
                  <a:pt x="21779" y="12254"/>
                </a:cubicBezTo>
                <a:cubicBezTo>
                  <a:pt x="21835" y="12416"/>
                  <a:pt x="21862" y="12552"/>
                  <a:pt x="21754" y="12700"/>
                </a:cubicBezTo>
                <a:cubicBezTo>
                  <a:pt x="21697" y="12728"/>
                  <a:pt x="21674" y="12739"/>
                  <a:pt x="21630" y="1275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5384880" y="4840200"/>
            <a:ext cx="679320" cy="490680"/>
          </a:xfrm>
          <a:custGeom>
            <a:avLst/>
            <a:gdLst/>
            <a:ahLst/>
            <a:rect l="l" t="t" r="r" b="b"/>
            <a:pathLst>
              <a:path w="1886" h="1365">
                <a:moveTo>
                  <a:pt x="15577" y="13667"/>
                </a:moveTo>
                <a:cubicBezTo>
                  <a:pt x="15577" y="13742"/>
                  <a:pt x="15577" y="13816"/>
                  <a:pt x="15577" y="13891"/>
                </a:cubicBezTo>
                <a:cubicBezTo>
                  <a:pt x="15577" y="13847"/>
                  <a:pt x="15561" y="13859"/>
                  <a:pt x="15553" y="13816"/>
                </a:cubicBezTo>
                <a:cubicBezTo>
                  <a:pt x="15540" y="13747"/>
                  <a:pt x="15532" y="13684"/>
                  <a:pt x="15503" y="13618"/>
                </a:cubicBezTo>
                <a:cubicBezTo>
                  <a:pt x="15472" y="13549"/>
                  <a:pt x="15443" y="13508"/>
                  <a:pt x="15379" y="13469"/>
                </a:cubicBezTo>
                <a:cubicBezTo>
                  <a:pt x="15316" y="13431"/>
                  <a:pt x="15245" y="13431"/>
                  <a:pt x="15180" y="13469"/>
                </a:cubicBezTo>
                <a:cubicBezTo>
                  <a:pt x="15123" y="13502"/>
                  <a:pt x="15058" y="13583"/>
                  <a:pt x="15032" y="13643"/>
                </a:cubicBezTo>
                <a:cubicBezTo>
                  <a:pt x="14991" y="13738"/>
                  <a:pt x="14961" y="13838"/>
                  <a:pt x="14957" y="13940"/>
                </a:cubicBezTo>
                <a:cubicBezTo>
                  <a:pt x="14954" y="14027"/>
                  <a:pt x="14948" y="14165"/>
                  <a:pt x="15007" y="14238"/>
                </a:cubicBezTo>
                <a:cubicBezTo>
                  <a:pt x="15052" y="14293"/>
                  <a:pt x="15106" y="14331"/>
                  <a:pt x="15180" y="14337"/>
                </a:cubicBezTo>
                <a:cubicBezTo>
                  <a:pt x="15244" y="14342"/>
                  <a:pt x="15276" y="14285"/>
                  <a:pt x="15304" y="14238"/>
                </a:cubicBezTo>
                <a:cubicBezTo>
                  <a:pt x="15345" y="14168"/>
                  <a:pt x="15348" y="14081"/>
                  <a:pt x="15379" y="14015"/>
                </a:cubicBezTo>
                <a:cubicBezTo>
                  <a:pt x="15391" y="13989"/>
                  <a:pt x="15404" y="13888"/>
                  <a:pt x="15404" y="13940"/>
                </a:cubicBezTo>
                <a:cubicBezTo>
                  <a:pt x="15404" y="14014"/>
                  <a:pt x="15402" y="14068"/>
                  <a:pt x="15429" y="14139"/>
                </a:cubicBezTo>
                <a:cubicBezTo>
                  <a:pt x="15455" y="14207"/>
                  <a:pt x="15494" y="14277"/>
                  <a:pt x="15528" y="14337"/>
                </a:cubicBezTo>
                <a:cubicBezTo>
                  <a:pt x="15563" y="14399"/>
                  <a:pt x="15563" y="14387"/>
                  <a:pt x="15627" y="14387"/>
                </a:cubicBezTo>
              </a:path>
              <a:path w="1886" h="1365">
                <a:moveTo>
                  <a:pt x="15726" y="14288"/>
                </a:moveTo>
                <a:cubicBezTo>
                  <a:pt x="15726" y="14408"/>
                  <a:pt x="15726" y="14479"/>
                  <a:pt x="15751" y="14585"/>
                </a:cubicBezTo>
                <a:cubicBezTo>
                  <a:pt x="15751" y="14610"/>
                  <a:pt x="15751" y="14618"/>
                  <a:pt x="15751" y="14635"/>
                </a:cubicBezTo>
              </a:path>
              <a:path w="1886" h="1365">
                <a:moveTo>
                  <a:pt x="15900" y="14213"/>
                </a:moveTo>
                <a:cubicBezTo>
                  <a:pt x="15880" y="14283"/>
                  <a:pt x="15828" y="14384"/>
                  <a:pt x="15850" y="14461"/>
                </a:cubicBezTo>
                <a:cubicBezTo>
                  <a:pt x="15868" y="14525"/>
                  <a:pt x="15886" y="14581"/>
                  <a:pt x="15949" y="14610"/>
                </a:cubicBezTo>
                <a:cubicBezTo>
                  <a:pt x="15991" y="14629"/>
                  <a:pt x="16065" y="14675"/>
                  <a:pt x="16098" y="14635"/>
                </a:cubicBezTo>
                <a:cubicBezTo>
                  <a:pt x="16123" y="14604"/>
                  <a:pt x="16160" y="14499"/>
                  <a:pt x="16148" y="14461"/>
                </a:cubicBezTo>
                <a:cubicBezTo>
                  <a:pt x="16134" y="14416"/>
                  <a:pt x="16106" y="14356"/>
                  <a:pt x="16073" y="14312"/>
                </a:cubicBezTo>
                <a:cubicBezTo>
                  <a:pt x="16054" y="14286"/>
                  <a:pt x="16004" y="14266"/>
                  <a:pt x="15974" y="14263"/>
                </a:cubicBezTo>
                <a:cubicBezTo>
                  <a:pt x="15921" y="14257"/>
                  <a:pt x="15925" y="14299"/>
                  <a:pt x="15925" y="14337"/>
                </a:cubicBezTo>
              </a:path>
              <a:path w="1886" h="1365">
                <a:moveTo>
                  <a:pt x="16247" y="14461"/>
                </a:moveTo>
                <a:cubicBezTo>
                  <a:pt x="16223" y="14550"/>
                  <a:pt x="16209" y="14599"/>
                  <a:pt x="16247" y="14684"/>
                </a:cubicBezTo>
                <a:cubicBezTo>
                  <a:pt x="16280" y="14757"/>
                  <a:pt x="16320" y="14796"/>
                  <a:pt x="16396" y="14808"/>
                </a:cubicBezTo>
                <a:cubicBezTo>
                  <a:pt x="16449" y="14816"/>
                  <a:pt x="16482" y="14789"/>
                  <a:pt x="16495" y="14734"/>
                </a:cubicBezTo>
                <a:cubicBezTo>
                  <a:pt x="16505" y="14690"/>
                  <a:pt x="16472" y="14573"/>
                  <a:pt x="16446" y="14536"/>
                </a:cubicBezTo>
                <a:cubicBezTo>
                  <a:pt x="16406" y="14481"/>
                  <a:pt x="16337" y="14431"/>
                  <a:pt x="16272" y="14412"/>
                </a:cubicBezTo>
                <a:cubicBezTo>
                  <a:pt x="16223" y="14397"/>
                  <a:pt x="16241" y="14390"/>
                  <a:pt x="16197" y="14412"/>
                </a:cubicBezTo>
              </a:path>
              <a:path w="1886" h="1365">
                <a:moveTo>
                  <a:pt x="16594" y="14089"/>
                </a:moveTo>
                <a:cubicBezTo>
                  <a:pt x="16688" y="14094"/>
                  <a:pt x="16757" y="14114"/>
                  <a:pt x="16842" y="14114"/>
                </a:cubicBezTo>
              </a:path>
              <a:path w="1886" h="1365">
                <a:moveTo>
                  <a:pt x="16619" y="14362"/>
                </a:moveTo>
                <a:cubicBezTo>
                  <a:pt x="16677" y="14370"/>
                  <a:pt x="16735" y="14379"/>
                  <a:pt x="16793" y="1438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276960" y="4938840"/>
            <a:ext cx="411120" cy="401400"/>
          </a:xfrm>
          <a:custGeom>
            <a:avLst/>
            <a:gdLst/>
            <a:ahLst/>
            <a:rect l="l" t="t" r="r" b="b"/>
            <a:pathLst>
              <a:path w="1142" h="1117">
                <a:moveTo>
                  <a:pt x="17462" y="13791"/>
                </a:moveTo>
                <a:cubicBezTo>
                  <a:pt x="17446" y="13944"/>
                  <a:pt x="17438" y="14085"/>
                  <a:pt x="17438" y="14238"/>
                </a:cubicBezTo>
                <a:cubicBezTo>
                  <a:pt x="17438" y="14317"/>
                  <a:pt x="17442" y="14435"/>
                  <a:pt x="17462" y="14511"/>
                </a:cubicBezTo>
                <a:cubicBezTo>
                  <a:pt x="17482" y="14551"/>
                  <a:pt x="17491" y="14557"/>
                  <a:pt x="17487" y="14585"/>
                </a:cubicBezTo>
              </a:path>
              <a:path w="1142" h="1117">
                <a:moveTo>
                  <a:pt x="17909" y="14188"/>
                </a:moveTo>
                <a:cubicBezTo>
                  <a:pt x="17947" y="14063"/>
                  <a:pt x="18015" y="13942"/>
                  <a:pt x="17959" y="13816"/>
                </a:cubicBezTo>
                <a:cubicBezTo>
                  <a:pt x="17934" y="13759"/>
                  <a:pt x="17901" y="13720"/>
                  <a:pt x="17835" y="13717"/>
                </a:cubicBezTo>
                <a:cubicBezTo>
                  <a:pt x="17744" y="13712"/>
                  <a:pt x="17656" y="13754"/>
                  <a:pt x="17611" y="13841"/>
                </a:cubicBezTo>
                <a:cubicBezTo>
                  <a:pt x="17573" y="13915"/>
                  <a:pt x="17580" y="13993"/>
                  <a:pt x="17611" y="14064"/>
                </a:cubicBezTo>
                <a:cubicBezTo>
                  <a:pt x="17639" y="14128"/>
                  <a:pt x="17663" y="14189"/>
                  <a:pt x="17735" y="14213"/>
                </a:cubicBezTo>
                <a:cubicBezTo>
                  <a:pt x="17779" y="14228"/>
                  <a:pt x="17847" y="14213"/>
                  <a:pt x="17884" y="14188"/>
                </a:cubicBezTo>
                <a:cubicBezTo>
                  <a:pt x="17934" y="14155"/>
                  <a:pt x="17935" y="14109"/>
                  <a:pt x="17959" y="14064"/>
                </a:cubicBezTo>
                <a:cubicBezTo>
                  <a:pt x="17985" y="14015"/>
                  <a:pt x="17983" y="13992"/>
                  <a:pt x="17983" y="13940"/>
                </a:cubicBezTo>
                <a:cubicBezTo>
                  <a:pt x="17983" y="14010"/>
                  <a:pt x="17966" y="14075"/>
                  <a:pt x="17959" y="14139"/>
                </a:cubicBezTo>
                <a:cubicBezTo>
                  <a:pt x="17940" y="14300"/>
                  <a:pt x="17959" y="14473"/>
                  <a:pt x="17959" y="14635"/>
                </a:cubicBezTo>
              </a:path>
              <a:path w="1142" h="1117">
                <a:moveTo>
                  <a:pt x="18455" y="14015"/>
                </a:moveTo>
                <a:cubicBezTo>
                  <a:pt x="18455" y="13981"/>
                  <a:pt x="18487" y="13814"/>
                  <a:pt x="18405" y="13791"/>
                </a:cubicBezTo>
                <a:cubicBezTo>
                  <a:pt x="18356" y="13777"/>
                  <a:pt x="18264" y="13805"/>
                  <a:pt x="18231" y="13841"/>
                </a:cubicBezTo>
                <a:cubicBezTo>
                  <a:pt x="18145" y="13935"/>
                  <a:pt x="18163" y="14075"/>
                  <a:pt x="18207" y="14188"/>
                </a:cubicBezTo>
                <a:cubicBezTo>
                  <a:pt x="18229" y="14243"/>
                  <a:pt x="18274" y="14274"/>
                  <a:pt x="18331" y="14288"/>
                </a:cubicBezTo>
                <a:cubicBezTo>
                  <a:pt x="18373" y="14299"/>
                  <a:pt x="18408" y="14273"/>
                  <a:pt x="18430" y="14238"/>
                </a:cubicBezTo>
                <a:cubicBezTo>
                  <a:pt x="18469" y="14178"/>
                  <a:pt x="18498" y="14136"/>
                  <a:pt x="18504" y="14064"/>
                </a:cubicBezTo>
                <a:cubicBezTo>
                  <a:pt x="18506" y="14040"/>
                  <a:pt x="18504" y="14014"/>
                  <a:pt x="18504" y="13990"/>
                </a:cubicBezTo>
                <a:cubicBezTo>
                  <a:pt x="18504" y="14118"/>
                  <a:pt x="18515" y="14239"/>
                  <a:pt x="18529" y="14362"/>
                </a:cubicBezTo>
                <a:cubicBezTo>
                  <a:pt x="18540" y="14464"/>
                  <a:pt x="18538" y="14563"/>
                  <a:pt x="18554" y="14660"/>
                </a:cubicBezTo>
                <a:cubicBezTo>
                  <a:pt x="18564" y="14720"/>
                  <a:pt x="18562" y="14758"/>
                  <a:pt x="18579" y="14808"/>
                </a:cubicBezTo>
                <a:cubicBezTo>
                  <a:pt x="18579" y="14816"/>
                  <a:pt x="18579" y="14825"/>
                  <a:pt x="18579" y="1483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456160" y="5537160"/>
            <a:ext cx="554040" cy="490680"/>
          </a:xfrm>
          <a:custGeom>
            <a:avLst/>
            <a:gdLst/>
            <a:ahLst/>
            <a:rect l="l" t="t" r="r" b="b"/>
            <a:pathLst>
              <a:path w="1539" h="1365">
                <a:moveTo>
                  <a:pt x="15825" y="15701"/>
                </a:moveTo>
                <a:cubicBezTo>
                  <a:pt x="15844" y="15751"/>
                  <a:pt x="15850" y="15784"/>
                  <a:pt x="15875" y="15825"/>
                </a:cubicBezTo>
                <a:cubicBezTo>
                  <a:pt x="15856" y="15776"/>
                  <a:pt x="15865" y="15730"/>
                  <a:pt x="15850" y="15677"/>
                </a:cubicBezTo>
                <a:cubicBezTo>
                  <a:pt x="15832" y="15612"/>
                  <a:pt x="15817" y="15537"/>
                  <a:pt x="15776" y="15478"/>
                </a:cubicBezTo>
                <a:cubicBezTo>
                  <a:pt x="15746" y="15435"/>
                  <a:pt x="15677" y="15390"/>
                  <a:pt x="15627" y="15379"/>
                </a:cubicBezTo>
                <a:cubicBezTo>
                  <a:pt x="15577" y="15368"/>
                  <a:pt x="15444" y="15426"/>
                  <a:pt x="15404" y="15453"/>
                </a:cubicBezTo>
                <a:cubicBezTo>
                  <a:pt x="15325" y="15505"/>
                  <a:pt x="15245" y="15618"/>
                  <a:pt x="15205" y="15701"/>
                </a:cubicBezTo>
                <a:cubicBezTo>
                  <a:pt x="15138" y="15841"/>
                  <a:pt x="15154" y="15973"/>
                  <a:pt x="15180" y="16123"/>
                </a:cubicBezTo>
                <a:cubicBezTo>
                  <a:pt x="15203" y="16251"/>
                  <a:pt x="15238" y="16315"/>
                  <a:pt x="15329" y="16396"/>
                </a:cubicBezTo>
                <a:cubicBezTo>
                  <a:pt x="15383" y="16444"/>
                  <a:pt x="15402" y="16459"/>
                  <a:pt x="15478" y="16446"/>
                </a:cubicBezTo>
                <a:cubicBezTo>
                  <a:pt x="15522" y="16438"/>
                  <a:pt x="15557" y="16306"/>
                  <a:pt x="15577" y="16272"/>
                </a:cubicBezTo>
                <a:cubicBezTo>
                  <a:pt x="15635" y="16176"/>
                  <a:pt x="15695" y="16062"/>
                  <a:pt x="15701" y="15949"/>
                </a:cubicBezTo>
                <a:cubicBezTo>
                  <a:pt x="15703" y="15913"/>
                  <a:pt x="15701" y="15911"/>
                  <a:pt x="15701" y="15875"/>
                </a:cubicBezTo>
                <a:cubicBezTo>
                  <a:pt x="15701" y="15979"/>
                  <a:pt x="15701" y="16072"/>
                  <a:pt x="15726" y="16173"/>
                </a:cubicBezTo>
                <a:cubicBezTo>
                  <a:pt x="15754" y="16287"/>
                  <a:pt x="15775" y="16380"/>
                  <a:pt x="15850" y="16470"/>
                </a:cubicBezTo>
                <a:cubicBezTo>
                  <a:pt x="15867" y="16487"/>
                  <a:pt x="15883" y="16503"/>
                  <a:pt x="15900" y="16520"/>
                </a:cubicBezTo>
              </a:path>
              <a:path w="1539" h="1365">
                <a:moveTo>
                  <a:pt x="15949" y="16321"/>
                </a:moveTo>
                <a:cubicBezTo>
                  <a:pt x="15949" y="16401"/>
                  <a:pt x="15935" y="16480"/>
                  <a:pt x="15974" y="16545"/>
                </a:cubicBezTo>
                <a:cubicBezTo>
                  <a:pt x="15974" y="16604"/>
                  <a:pt x="15996" y="16484"/>
                  <a:pt x="15999" y="16470"/>
                </a:cubicBezTo>
                <a:cubicBezTo>
                  <a:pt x="16012" y="16408"/>
                  <a:pt x="16021" y="16334"/>
                  <a:pt x="16024" y="16272"/>
                </a:cubicBezTo>
                <a:cubicBezTo>
                  <a:pt x="16027" y="16220"/>
                  <a:pt x="16038" y="16216"/>
                  <a:pt x="16049" y="16173"/>
                </a:cubicBezTo>
                <a:cubicBezTo>
                  <a:pt x="16075" y="16182"/>
                  <a:pt x="16113" y="16230"/>
                  <a:pt x="16123" y="16272"/>
                </a:cubicBezTo>
                <a:cubicBezTo>
                  <a:pt x="16145" y="16363"/>
                  <a:pt x="16169" y="16453"/>
                  <a:pt x="16197" y="16545"/>
                </a:cubicBezTo>
                <a:cubicBezTo>
                  <a:pt x="16218" y="16613"/>
                  <a:pt x="16248" y="16676"/>
                  <a:pt x="16272" y="16743"/>
                </a:cubicBezTo>
              </a:path>
              <a:path w="1539" h="1365">
                <a:moveTo>
                  <a:pt x="16446" y="15999"/>
                </a:moveTo>
                <a:cubicBezTo>
                  <a:pt x="16522" y="16029"/>
                  <a:pt x="16628" y="16058"/>
                  <a:pt x="16694" y="16098"/>
                </a:cubicBezTo>
              </a:path>
              <a:path w="1539" h="1365">
                <a:moveTo>
                  <a:pt x="16396" y="16247"/>
                </a:moveTo>
                <a:cubicBezTo>
                  <a:pt x="16492" y="16327"/>
                  <a:pt x="16497" y="16336"/>
                  <a:pt x="16619" y="1634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107040" y="5537160"/>
            <a:ext cx="1322640" cy="606600"/>
          </a:xfrm>
          <a:custGeom>
            <a:avLst/>
            <a:gdLst/>
            <a:ahLst/>
            <a:rect l="l" t="t" r="r" b="b"/>
            <a:pathLst>
              <a:path w="3673" h="1688">
                <a:moveTo>
                  <a:pt x="17388" y="15751"/>
                </a:moveTo>
                <a:cubicBezTo>
                  <a:pt x="17420" y="15800"/>
                  <a:pt x="17435" y="15859"/>
                  <a:pt x="17462" y="15900"/>
                </a:cubicBezTo>
                <a:cubicBezTo>
                  <a:pt x="17470" y="15908"/>
                  <a:pt x="17479" y="15917"/>
                  <a:pt x="17487" y="15925"/>
                </a:cubicBezTo>
                <a:cubicBezTo>
                  <a:pt x="17501" y="15873"/>
                  <a:pt x="17554" y="15754"/>
                  <a:pt x="17537" y="15701"/>
                </a:cubicBezTo>
                <a:cubicBezTo>
                  <a:pt x="17522" y="15653"/>
                  <a:pt x="17500" y="15596"/>
                  <a:pt x="17462" y="15553"/>
                </a:cubicBezTo>
                <a:cubicBezTo>
                  <a:pt x="17424" y="15510"/>
                  <a:pt x="17371" y="15491"/>
                  <a:pt x="17314" y="15503"/>
                </a:cubicBezTo>
                <a:cubicBezTo>
                  <a:pt x="17178" y="15532"/>
                  <a:pt x="17079" y="15672"/>
                  <a:pt x="17016" y="15776"/>
                </a:cubicBezTo>
                <a:cubicBezTo>
                  <a:pt x="16962" y="15866"/>
                  <a:pt x="16966" y="15973"/>
                  <a:pt x="16966" y="16073"/>
                </a:cubicBezTo>
                <a:cubicBezTo>
                  <a:pt x="16966" y="16139"/>
                  <a:pt x="16988" y="16290"/>
                  <a:pt x="17066" y="16321"/>
                </a:cubicBezTo>
                <a:cubicBezTo>
                  <a:pt x="17147" y="16353"/>
                  <a:pt x="17187" y="16292"/>
                  <a:pt x="17239" y="16247"/>
                </a:cubicBezTo>
                <a:cubicBezTo>
                  <a:pt x="17289" y="16204"/>
                  <a:pt x="17348" y="16116"/>
                  <a:pt x="17363" y="16049"/>
                </a:cubicBezTo>
                <a:cubicBezTo>
                  <a:pt x="17371" y="16012"/>
                  <a:pt x="17363" y="15963"/>
                  <a:pt x="17363" y="15925"/>
                </a:cubicBezTo>
                <a:cubicBezTo>
                  <a:pt x="17405" y="15883"/>
                  <a:pt x="17350" y="15983"/>
                  <a:pt x="17363" y="16049"/>
                </a:cubicBezTo>
                <a:cubicBezTo>
                  <a:pt x="17385" y="16161"/>
                  <a:pt x="17388" y="16286"/>
                  <a:pt x="17413" y="16396"/>
                </a:cubicBezTo>
                <a:cubicBezTo>
                  <a:pt x="17431" y="16474"/>
                  <a:pt x="17477" y="16539"/>
                  <a:pt x="17487" y="16619"/>
                </a:cubicBezTo>
              </a:path>
              <a:path w="3673" h="1688">
                <a:moveTo>
                  <a:pt x="17661" y="16619"/>
                </a:moveTo>
                <a:cubicBezTo>
                  <a:pt x="17675" y="16719"/>
                  <a:pt x="17661" y="16768"/>
                  <a:pt x="17661" y="16867"/>
                </a:cubicBezTo>
                <a:cubicBezTo>
                  <a:pt x="17661" y="16895"/>
                  <a:pt x="17663" y="16906"/>
                  <a:pt x="17686" y="16917"/>
                </a:cubicBezTo>
              </a:path>
              <a:path w="3673" h="1688">
                <a:moveTo>
                  <a:pt x="18083" y="15900"/>
                </a:moveTo>
                <a:cubicBezTo>
                  <a:pt x="18091" y="16018"/>
                  <a:pt x="18121" y="16131"/>
                  <a:pt x="18132" y="16247"/>
                </a:cubicBezTo>
                <a:cubicBezTo>
                  <a:pt x="18142" y="16359"/>
                  <a:pt x="18144" y="16437"/>
                  <a:pt x="18132" y="16545"/>
                </a:cubicBezTo>
              </a:path>
              <a:path w="3673" h="1688">
                <a:moveTo>
                  <a:pt x="17859" y="16222"/>
                </a:moveTo>
                <a:cubicBezTo>
                  <a:pt x="17972" y="16254"/>
                  <a:pt x="18067" y="16309"/>
                  <a:pt x="18182" y="16321"/>
                </a:cubicBezTo>
              </a:path>
              <a:path w="3673" h="1688">
                <a:moveTo>
                  <a:pt x="18728" y="16396"/>
                </a:moveTo>
                <a:cubicBezTo>
                  <a:pt x="18707" y="16480"/>
                  <a:pt x="18705" y="16499"/>
                  <a:pt x="18678" y="16545"/>
                </a:cubicBezTo>
                <a:cubicBezTo>
                  <a:pt x="18678" y="16612"/>
                  <a:pt x="18700" y="16479"/>
                  <a:pt x="18703" y="16470"/>
                </a:cubicBezTo>
                <a:cubicBezTo>
                  <a:pt x="18732" y="16388"/>
                  <a:pt x="18733" y="16307"/>
                  <a:pt x="18752" y="16222"/>
                </a:cubicBezTo>
                <a:cubicBezTo>
                  <a:pt x="18776" y="16114"/>
                  <a:pt x="18791" y="16034"/>
                  <a:pt x="18752" y="15925"/>
                </a:cubicBezTo>
                <a:cubicBezTo>
                  <a:pt x="18730" y="15864"/>
                  <a:pt x="18693" y="15756"/>
                  <a:pt x="18628" y="15726"/>
                </a:cubicBezTo>
                <a:cubicBezTo>
                  <a:pt x="18620" y="15726"/>
                  <a:pt x="18612" y="15726"/>
                  <a:pt x="18604" y="15726"/>
                </a:cubicBezTo>
                <a:cubicBezTo>
                  <a:pt x="18466" y="15726"/>
                  <a:pt x="18483" y="15707"/>
                  <a:pt x="18380" y="15850"/>
                </a:cubicBezTo>
                <a:cubicBezTo>
                  <a:pt x="18323" y="15929"/>
                  <a:pt x="18350" y="16040"/>
                  <a:pt x="18355" y="16123"/>
                </a:cubicBezTo>
                <a:cubicBezTo>
                  <a:pt x="18362" y="16245"/>
                  <a:pt x="18383" y="16319"/>
                  <a:pt x="18455" y="16421"/>
                </a:cubicBezTo>
                <a:cubicBezTo>
                  <a:pt x="18481" y="16459"/>
                  <a:pt x="18515" y="16473"/>
                  <a:pt x="18554" y="16495"/>
                </a:cubicBezTo>
                <a:cubicBezTo>
                  <a:pt x="18617" y="16479"/>
                  <a:pt x="18637" y="16443"/>
                  <a:pt x="18678" y="16396"/>
                </a:cubicBezTo>
                <a:cubicBezTo>
                  <a:pt x="18756" y="16307"/>
                  <a:pt x="18768" y="16211"/>
                  <a:pt x="18802" y="16098"/>
                </a:cubicBezTo>
                <a:cubicBezTo>
                  <a:pt x="18833" y="15995"/>
                  <a:pt x="18872" y="15909"/>
                  <a:pt x="18876" y="15801"/>
                </a:cubicBezTo>
                <a:cubicBezTo>
                  <a:pt x="18880" y="15702"/>
                  <a:pt x="18874" y="15611"/>
                  <a:pt x="18852" y="15528"/>
                </a:cubicBezTo>
                <a:cubicBezTo>
                  <a:pt x="18852" y="15503"/>
                  <a:pt x="18852" y="15495"/>
                  <a:pt x="18827" y="15503"/>
                </a:cubicBezTo>
                <a:cubicBezTo>
                  <a:pt x="18791" y="15551"/>
                  <a:pt x="18792" y="15594"/>
                  <a:pt x="18777" y="15652"/>
                </a:cubicBezTo>
                <a:cubicBezTo>
                  <a:pt x="18745" y="15774"/>
                  <a:pt x="18757" y="15899"/>
                  <a:pt x="18777" y="16024"/>
                </a:cubicBezTo>
                <a:cubicBezTo>
                  <a:pt x="18807" y="16212"/>
                  <a:pt x="18879" y="16388"/>
                  <a:pt x="18901" y="16570"/>
                </a:cubicBezTo>
              </a:path>
              <a:path w="3673" h="1688">
                <a:moveTo>
                  <a:pt x="19199" y="15577"/>
                </a:moveTo>
                <a:cubicBezTo>
                  <a:pt x="19115" y="15737"/>
                  <a:pt x="19075" y="15820"/>
                  <a:pt x="19075" y="15999"/>
                </a:cubicBezTo>
                <a:cubicBezTo>
                  <a:pt x="19075" y="16148"/>
                  <a:pt x="19106" y="16275"/>
                  <a:pt x="19124" y="16421"/>
                </a:cubicBezTo>
                <a:cubicBezTo>
                  <a:pt x="19134" y="16499"/>
                  <a:pt x="19141" y="16546"/>
                  <a:pt x="19174" y="16619"/>
                </a:cubicBezTo>
              </a:path>
              <a:path w="3673" h="1688">
                <a:moveTo>
                  <a:pt x="19372" y="16049"/>
                </a:moveTo>
                <a:cubicBezTo>
                  <a:pt x="19372" y="16189"/>
                  <a:pt x="19372" y="16330"/>
                  <a:pt x="19372" y="16470"/>
                </a:cubicBezTo>
                <a:cubicBezTo>
                  <a:pt x="19397" y="16404"/>
                  <a:pt x="19436" y="16319"/>
                  <a:pt x="19447" y="16247"/>
                </a:cubicBezTo>
                <a:cubicBezTo>
                  <a:pt x="19461" y="16159"/>
                  <a:pt x="19492" y="16104"/>
                  <a:pt x="19521" y="16024"/>
                </a:cubicBezTo>
                <a:cubicBezTo>
                  <a:pt x="19535" y="15985"/>
                  <a:pt x="19528" y="15985"/>
                  <a:pt x="19571" y="15974"/>
                </a:cubicBezTo>
                <a:cubicBezTo>
                  <a:pt x="19612" y="16056"/>
                  <a:pt x="19636" y="16138"/>
                  <a:pt x="19670" y="16222"/>
                </a:cubicBezTo>
                <a:cubicBezTo>
                  <a:pt x="19705" y="16309"/>
                  <a:pt x="19752" y="16402"/>
                  <a:pt x="19769" y="16495"/>
                </a:cubicBezTo>
                <a:cubicBezTo>
                  <a:pt x="19774" y="16524"/>
                  <a:pt x="19769" y="16564"/>
                  <a:pt x="19769" y="16594"/>
                </a:cubicBezTo>
              </a:path>
              <a:path w="3673" h="1688">
                <a:moveTo>
                  <a:pt x="19869" y="16222"/>
                </a:moveTo>
                <a:cubicBezTo>
                  <a:pt x="20002" y="16242"/>
                  <a:pt x="20013" y="16261"/>
                  <a:pt x="20117" y="16222"/>
                </a:cubicBezTo>
              </a:path>
              <a:path w="3673" h="1688">
                <a:moveTo>
                  <a:pt x="20315" y="15801"/>
                </a:moveTo>
                <a:cubicBezTo>
                  <a:pt x="20339" y="15888"/>
                  <a:pt x="20355" y="15985"/>
                  <a:pt x="20365" y="16073"/>
                </a:cubicBezTo>
                <a:cubicBezTo>
                  <a:pt x="20376" y="16173"/>
                  <a:pt x="20376" y="16272"/>
                  <a:pt x="20389" y="16371"/>
                </a:cubicBezTo>
                <a:cubicBezTo>
                  <a:pt x="20393" y="16402"/>
                  <a:pt x="20389" y="16438"/>
                  <a:pt x="20389" y="16470"/>
                </a:cubicBezTo>
              </a:path>
              <a:path w="3673" h="1688">
                <a:moveTo>
                  <a:pt x="20489" y="15379"/>
                </a:moveTo>
                <a:cubicBezTo>
                  <a:pt x="20556" y="15647"/>
                  <a:pt x="20623" y="15919"/>
                  <a:pt x="20638" y="16197"/>
                </a:cubicBezTo>
                <a:cubicBezTo>
                  <a:pt x="20651" y="16447"/>
                  <a:pt x="20634" y="16778"/>
                  <a:pt x="20489" y="16991"/>
                </a:cubicBezTo>
                <a:cubicBezTo>
                  <a:pt x="20435" y="17018"/>
                  <a:pt x="20414" y="17030"/>
                  <a:pt x="20389" y="1706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1411200" y="5786280"/>
            <a:ext cx="1170000" cy="544680"/>
          </a:xfrm>
          <a:custGeom>
            <a:avLst/>
            <a:gdLst/>
            <a:ahLst/>
            <a:rect l="l" t="t" r="r" b="b"/>
            <a:pathLst>
              <a:path w="3251" h="1515">
                <a:moveTo>
                  <a:pt x="4093" y="16073"/>
                </a:moveTo>
                <a:cubicBezTo>
                  <a:pt x="4093" y="16250"/>
                  <a:pt x="4080" y="16420"/>
                  <a:pt x="4068" y="16594"/>
                </a:cubicBezTo>
                <a:cubicBezTo>
                  <a:pt x="4057" y="16760"/>
                  <a:pt x="4050" y="16926"/>
                  <a:pt x="4018" y="17090"/>
                </a:cubicBezTo>
                <a:cubicBezTo>
                  <a:pt x="3999" y="17188"/>
                  <a:pt x="3978" y="17324"/>
                  <a:pt x="3944" y="17413"/>
                </a:cubicBezTo>
                <a:cubicBezTo>
                  <a:pt x="3936" y="17421"/>
                  <a:pt x="3927" y="17430"/>
                  <a:pt x="3919" y="17438"/>
                </a:cubicBezTo>
              </a:path>
              <a:path w="3251" h="1515">
                <a:moveTo>
                  <a:pt x="4390" y="16222"/>
                </a:moveTo>
                <a:cubicBezTo>
                  <a:pt x="4361" y="16302"/>
                  <a:pt x="4340" y="16386"/>
                  <a:pt x="4316" y="16470"/>
                </a:cubicBezTo>
                <a:cubicBezTo>
                  <a:pt x="4282" y="16589"/>
                  <a:pt x="4269" y="16719"/>
                  <a:pt x="4266" y="16842"/>
                </a:cubicBezTo>
                <a:cubicBezTo>
                  <a:pt x="4262" y="16985"/>
                  <a:pt x="4296" y="17151"/>
                  <a:pt x="4390" y="17264"/>
                </a:cubicBezTo>
                <a:cubicBezTo>
                  <a:pt x="4440" y="17324"/>
                  <a:pt x="4502" y="17317"/>
                  <a:pt x="4564" y="17289"/>
                </a:cubicBezTo>
                <a:cubicBezTo>
                  <a:pt x="4647" y="17252"/>
                  <a:pt x="4682" y="17148"/>
                  <a:pt x="4713" y="17066"/>
                </a:cubicBezTo>
                <a:cubicBezTo>
                  <a:pt x="4756" y="16951"/>
                  <a:pt x="4783" y="16839"/>
                  <a:pt x="4787" y="16718"/>
                </a:cubicBezTo>
                <a:cubicBezTo>
                  <a:pt x="4791" y="16597"/>
                  <a:pt x="4784" y="16476"/>
                  <a:pt x="4713" y="16371"/>
                </a:cubicBezTo>
                <a:cubicBezTo>
                  <a:pt x="4663" y="16298"/>
                  <a:pt x="4621" y="16272"/>
                  <a:pt x="4539" y="16272"/>
                </a:cubicBezTo>
                <a:cubicBezTo>
                  <a:pt x="4460" y="16272"/>
                  <a:pt x="4381" y="16326"/>
                  <a:pt x="4341" y="16396"/>
                </a:cubicBezTo>
                <a:cubicBezTo>
                  <a:pt x="4288" y="16490"/>
                  <a:pt x="4270" y="16614"/>
                  <a:pt x="4266" y="16718"/>
                </a:cubicBezTo>
                <a:cubicBezTo>
                  <a:pt x="4266" y="16794"/>
                  <a:pt x="4266" y="16820"/>
                  <a:pt x="4291" y="16867"/>
                </a:cubicBezTo>
              </a:path>
              <a:path w="3251" h="1515">
                <a:moveTo>
                  <a:pt x="4911" y="17016"/>
                </a:moveTo>
                <a:cubicBezTo>
                  <a:pt x="4872" y="17133"/>
                  <a:pt x="4841" y="17247"/>
                  <a:pt x="4812" y="17363"/>
                </a:cubicBezTo>
                <a:cubicBezTo>
                  <a:pt x="4789" y="17453"/>
                  <a:pt x="4766" y="17504"/>
                  <a:pt x="4787" y="17587"/>
                </a:cubicBezTo>
              </a:path>
              <a:path w="3251" h="1515">
                <a:moveTo>
                  <a:pt x="5383" y="16495"/>
                </a:moveTo>
                <a:cubicBezTo>
                  <a:pt x="5424" y="16356"/>
                  <a:pt x="5399" y="16447"/>
                  <a:pt x="5383" y="16396"/>
                </a:cubicBezTo>
                <a:cubicBezTo>
                  <a:pt x="5340" y="16450"/>
                  <a:pt x="5319" y="16511"/>
                  <a:pt x="5283" y="16570"/>
                </a:cubicBezTo>
                <a:cubicBezTo>
                  <a:pt x="5224" y="16668"/>
                  <a:pt x="5213" y="16775"/>
                  <a:pt x="5209" y="16892"/>
                </a:cubicBezTo>
                <a:cubicBezTo>
                  <a:pt x="5205" y="17039"/>
                  <a:pt x="5215" y="17113"/>
                  <a:pt x="5283" y="17239"/>
                </a:cubicBezTo>
                <a:cubicBezTo>
                  <a:pt x="5334" y="17334"/>
                  <a:pt x="5385" y="17383"/>
                  <a:pt x="5482" y="17338"/>
                </a:cubicBezTo>
                <a:cubicBezTo>
                  <a:pt x="5553" y="17305"/>
                  <a:pt x="5601" y="17163"/>
                  <a:pt x="5631" y="17090"/>
                </a:cubicBezTo>
                <a:cubicBezTo>
                  <a:pt x="5676" y="16981"/>
                  <a:pt x="5717" y="16835"/>
                  <a:pt x="5730" y="16718"/>
                </a:cubicBezTo>
                <a:cubicBezTo>
                  <a:pt x="5741" y="16617"/>
                  <a:pt x="5709" y="16492"/>
                  <a:pt x="5680" y="16396"/>
                </a:cubicBezTo>
                <a:cubicBezTo>
                  <a:pt x="5667" y="16351"/>
                  <a:pt x="5628" y="16248"/>
                  <a:pt x="5581" y="16222"/>
                </a:cubicBezTo>
                <a:cubicBezTo>
                  <a:pt x="5538" y="16198"/>
                  <a:pt x="5463" y="16246"/>
                  <a:pt x="5432" y="16272"/>
                </a:cubicBezTo>
                <a:cubicBezTo>
                  <a:pt x="5348" y="16341"/>
                  <a:pt x="5316" y="16446"/>
                  <a:pt x="5283" y="16545"/>
                </a:cubicBezTo>
                <a:cubicBezTo>
                  <a:pt x="5248" y="16651"/>
                  <a:pt x="5198" y="16805"/>
                  <a:pt x="5234" y="16917"/>
                </a:cubicBezTo>
                <a:cubicBezTo>
                  <a:pt x="5281" y="16988"/>
                  <a:pt x="5297" y="17010"/>
                  <a:pt x="5308" y="17066"/>
                </a:cubicBezTo>
              </a:path>
              <a:path w="3251" h="1515">
                <a:moveTo>
                  <a:pt x="6102" y="16446"/>
                </a:moveTo>
                <a:cubicBezTo>
                  <a:pt x="6044" y="16460"/>
                  <a:pt x="6025" y="16513"/>
                  <a:pt x="6003" y="16570"/>
                </a:cubicBezTo>
                <a:cubicBezTo>
                  <a:pt x="5964" y="16668"/>
                  <a:pt x="5916" y="16787"/>
                  <a:pt x="5904" y="16892"/>
                </a:cubicBezTo>
                <a:cubicBezTo>
                  <a:pt x="5892" y="17001"/>
                  <a:pt x="5906" y="17134"/>
                  <a:pt x="5928" y="17239"/>
                </a:cubicBezTo>
                <a:cubicBezTo>
                  <a:pt x="5941" y="17302"/>
                  <a:pt x="5972" y="17335"/>
                  <a:pt x="6003" y="17388"/>
                </a:cubicBezTo>
                <a:cubicBezTo>
                  <a:pt x="6096" y="17351"/>
                  <a:pt x="6184" y="17266"/>
                  <a:pt x="6226" y="17165"/>
                </a:cubicBezTo>
                <a:cubicBezTo>
                  <a:pt x="6274" y="17050"/>
                  <a:pt x="6289" y="16912"/>
                  <a:pt x="6325" y="16793"/>
                </a:cubicBezTo>
                <a:cubicBezTo>
                  <a:pt x="6362" y="16671"/>
                  <a:pt x="6341" y="16589"/>
                  <a:pt x="6325" y="16470"/>
                </a:cubicBezTo>
                <a:cubicBezTo>
                  <a:pt x="6317" y="16411"/>
                  <a:pt x="6308" y="16357"/>
                  <a:pt x="6251" y="16321"/>
                </a:cubicBezTo>
                <a:cubicBezTo>
                  <a:pt x="6189" y="16282"/>
                  <a:pt x="6133" y="16302"/>
                  <a:pt x="6077" y="16346"/>
                </a:cubicBezTo>
                <a:cubicBezTo>
                  <a:pt x="5983" y="16420"/>
                  <a:pt x="5935" y="16535"/>
                  <a:pt x="5904" y="16644"/>
                </a:cubicBezTo>
                <a:cubicBezTo>
                  <a:pt x="5869" y="16765"/>
                  <a:pt x="5833" y="16888"/>
                  <a:pt x="5854" y="17016"/>
                </a:cubicBezTo>
                <a:cubicBezTo>
                  <a:pt x="5877" y="17083"/>
                  <a:pt x="5882" y="17101"/>
                  <a:pt x="5904" y="17140"/>
                </a:cubicBezTo>
              </a:path>
              <a:path w="3251" h="1515">
                <a:moveTo>
                  <a:pt x="6623" y="16396"/>
                </a:moveTo>
                <a:cubicBezTo>
                  <a:pt x="6674" y="16345"/>
                  <a:pt x="6612" y="16463"/>
                  <a:pt x="6598" y="16495"/>
                </a:cubicBezTo>
                <a:cubicBezTo>
                  <a:pt x="6555" y="16594"/>
                  <a:pt x="6573" y="16710"/>
                  <a:pt x="6573" y="16818"/>
                </a:cubicBezTo>
                <a:cubicBezTo>
                  <a:pt x="6573" y="16984"/>
                  <a:pt x="6593" y="17129"/>
                  <a:pt x="6648" y="17289"/>
                </a:cubicBezTo>
                <a:cubicBezTo>
                  <a:pt x="6667" y="17346"/>
                  <a:pt x="6711" y="17422"/>
                  <a:pt x="6772" y="17438"/>
                </a:cubicBezTo>
                <a:cubicBezTo>
                  <a:pt x="6843" y="17457"/>
                  <a:pt x="6902" y="17357"/>
                  <a:pt x="6945" y="17314"/>
                </a:cubicBezTo>
                <a:cubicBezTo>
                  <a:pt x="7018" y="17241"/>
                  <a:pt x="7083" y="17137"/>
                  <a:pt x="7119" y="17041"/>
                </a:cubicBezTo>
                <a:cubicBezTo>
                  <a:pt x="7174" y="16894"/>
                  <a:pt x="7191" y="16692"/>
                  <a:pt x="7144" y="16545"/>
                </a:cubicBezTo>
                <a:cubicBezTo>
                  <a:pt x="7117" y="16459"/>
                  <a:pt x="7057" y="16321"/>
                  <a:pt x="6970" y="16272"/>
                </a:cubicBezTo>
                <a:cubicBezTo>
                  <a:pt x="6884" y="16224"/>
                  <a:pt x="6783" y="16245"/>
                  <a:pt x="6697" y="16272"/>
                </a:cubicBezTo>
                <a:cubicBezTo>
                  <a:pt x="6619" y="16298"/>
                  <a:pt x="6592" y="16309"/>
                  <a:pt x="6548" y="1634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4527720" y="2633760"/>
            <a:ext cx="1893600" cy="982440"/>
          </a:xfrm>
          <a:custGeom>
            <a:avLst/>
            <a:gdLst/>
            <a:ahLst/>
            <a:rect l="l" t="t" r="r" b="b"/>
            <a:pathLst>
              <a:path w="5260" h="2730">
                <a:moveTo>
                  <a:pt x="12601" y="7665"/>
                </a:moveTo>
                <a:cubicBezTo>
                  <a:pt x="12588" y="7774"/>
                  <a:pt x="12578" y="7873"/>
                  <a:pt x="12576" y="7987"/>
                </a:cubicBezTo>
                <a:cubicBezTo>
                  <a:pt x="12571" y="8262"/>
                  <a:pt x="12587" y="8535"/>
                  <a:pt x="12601" y="8806"/>
                </a:cubicBezTo>
                <a:cubicBezTo>
                  <a:pt x="12609" y="8956"/>
                  <a:pt x="12617" y="9104"/>
                  <a:pt x="12626" y="9252"/>
                </a:cubicBezTo>
                <a:cubicBezTo>
                  <a:pt x="12629" y="9310"/>
                  <a:pt x="12621" y="9270"/>
                  <a:pt x="12626" y="9327"/>
                </a:cubicBezTo>
                <a:cubicBezTo>
                  <a:pt x="12622" y="9193"/>
                  <a:pt x="12607" y="9060"/>
                  <a:pt x="12601" y="8930"/>
                </a:cubicBezTo>
                <a:cubicBezTo>
                  <a:pt x="12593" y="8753"/>
                  <a:pt x="12619" y="8584"/>
                  <a:pt x="12626" y="8409"/>
                </a:cubicBezTo>
                <a:cubicBezTo>
                  <a:pt x="12633" y="8240"/>
                  <a:pt x="12627" y="8078"/>
                  <a:pt x="12650" y="7913"/>
                </a:cubicBezTo>
                <a:cubicBezTo>
                  <a:pt x="12663" y="7824"/>
                  <a:pt x="12661" y="7724"/>
                  <a:pt x="12700" y="7640"/>
                </a:cubicBezTo>
                <a:cubicBezTo>
                  <a:pt x="12732" y="7571"/>
                  <a:pt x="12782" y="7525"/>
                  <a:pt x="12849" y="7491"/>
                </a:cubicBezTo>
                <a:cubicBezTo>
                  <a:pt x="12937" y="7447"/>
                  <a:pt x="13052" y="7454"/>
                  <a:pt x="13146" y="7441"/>
                </a:cubicBezTo>
                <a:cubicBezTo>
                  <a:pt x="13303" y="7420"/>
                  <a:pt x="13460" y="7432"/>
                  <a:pt x="13618" y="7417"/>
                </a:cubicBezTo>
                <a:cubicBezTo>
                  <a:pt x="13842" y="7396"/>
                  <a:pt x="14064" y="7409"/>
                  <a:pt x="14288" y="7392"/>
                </a:cubicBezTo>
                <a:cubicBezTo>
                  <a:pt x="14643" y="7366"/>
                  <a:pt x="14997" y="7346"/>
                  <a:pt x="15354" y="7342"/>
                </a:cubicBezTo>
                <a:cubicBezTo>
                  <a:pt x="15640" y="7339"/>
                  <a:pt x="15912" y="7330"/>
                  <a:pt x="16197" y="7342"/>
                </a:cubicBezTo>
                <a:cubicBezTo>
                  <a:pt x="16429" y="7352"/>
                  <a:pt x="16661" y="7341"/>
                  <a:pt x="16892" y="7367"/>
                </a:cubicBezTo>
                <a:cubicBezTo>
                  <a:pt x="17038" y="7383"/>
                  <a:pt x="17341" y="7417"/>
                  <a:pt x="17462" y="7491"/>
                </a:cubicBezTo>
                <a:cubicBezTo>
                  <a:pt x="17501" y="7515"/>
                  <a:pt x="17542" y="7599"/>
                  <a:pt x="17562" y="7640"/>
                </a:cubicBezTo>
                <a:cubicBezTo>
                  <a:pt x="17582" y="7681"/>
                  <a:pt x="17588" y="7818"/>
                  <a:pt x="17587" y="7863"/>
                </a:cubicBezTo>
                <a:cubicBezTo>
                  <a:pt x="17585" y="7975"/>
                  <a:pt x="17555" y="8091"/>
                  <a:pt x="17562" y="8210"/>
                </a:cubicBezTo>
                <a:cubicBezTo>
                  <a:pt x="17572" y="8379"/>
                  <a:pt x="17589" y="8562"/>
                  <a:pt x="17611" y="8731"/>
                </a:cubicBezTo>
                <a:cubicBezTo>
                  <a:pt x="17640" y="8947"/>
                  <a:pt x="17699" y="9161"/>
                  <a:pt x="17735" y="9376"/>
                </a:cubicBezTo>
                <a:cubicBezTo>
                  <a:pt x="17756" y="9500"/>
                  <a:pt x="17785" y="9623"/>
                  <a:pt x="17810" y="9748"/>
                </a:cubicBezTo>
                <a:cubicBezTo>
                  <a:pt x="17824" y="9818"/>
                  <a:pt x="17837" y="9897"/>
                  <a:pt x="17835" y="9971"/>
                </a:cubicBezTo>
                <a:cubicBezTo>
                  <a:pt x="17807" y="9999"/>
                  <a:pt x="17798" y="10013"/>
                  <a:pt x="17810" y="10046"/>
                </a:cubicBezTo>
                <a:cubicBezTo>
                  <a:pt x="17654" y="10046"/>
                  <a:pt x="17527" y="10023"/>
                  <a:pt x="17388" y="9996"/>
                </a:cubicBezTo>
                <a:cubicBezTo>
                  <a:pt x="17227" y="9965"/>
                  <a:pt x="17075" y="9939"/>
                  <a:pt x="16917" y="9922"/>
                </a:cubicBezTo>
                <a:cubicBezTo>
                  <a:pt x="16754" y="9905"/>
                  <a:pt x="16608" y="9841"/>
                  <a:pt x="16446" y="9823"/>
                </a:cubicBezTo>
                <a:cubicBezTo>
                  <a:pt x="16263" y="9803"/>
                  <a:pt x="16056" y="9784"/>
                  <a:pt x="15875" y="9748"/>
                </a:cubicBezTo>
                <a:cubicBezTo>
                  <a:pt x="15662" y="9705"/>
                  <a:pt x="15445" y="9647"/>
                  <a:pt x="15230" y="9624"/>
                </a:cubicBezTo>
                <a:cubicBezTo>
                  <a:pt x="14938" y="9592"/>
                  <a:pt x="14628" y="9559"/>
                  <a:pt x="14337" y="9550"/>
                </a:cubicBezTo>
                <a:cubicBezTo>
                  <a:pt x="14129" y="9543"/>
                  <a:pt x="13926" y="9525"/>
                  <a:pt x="13717" y="9525"/>
                </a:cubicBezTo>
                <a:cubicBezTo>
                  <a:pt x="13563" y="9525"/>
                  <a:pt x="13420" y="9520"/>
                  <a:pt x="13271" y="9500"/>
                </a:cubicBezTo>
                <a:cubicBezTo>
                  <a:pt x="13126" y="9481"/>
                  <a:pt x="13017" y="9449"/>
                  <a:pt x="12874" y="940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762120" algn="ctr">
              <a:buClr>
                <a:srgbClr val="e3ebf1"/>
              </a:buClr>
              <a:buFont typeface="Arial"/>
              <a:buAutoNum type="arabicPeriod" startAt="8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Consider a job offer with the given starting salary and guaranteed salary increase for the first 5 years of employment.</a:t>
            </a:r>
            <a:endParaRPr b="0" lang="en-US" sz="2400" spc="-1" strike="noStrike">
              <a:solidFill>
                <a:srgbClr val="e3ebf1"/>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4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the person’s salary during the sixth year of employment.</a:t>
            </a:r>
            <a:endParaRPr b="0" lang="en-US" sz="2000" spc="-1" strike="noStrike">
              <a:solidFill>
                <a:srgbClr val="ffffff"/>
              </a:solidFill>
              <a:latin typeface="Arial"/>
            </a:endParaRPr>
          </a:p>
          <a:p>
            <a:pPr marL="609480" indent="-609480">
              <a:spcBef>
                <a:spcPts val="4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the person’s total compensation from the company through 6 full years of employment.</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rting Salary</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Annual Rais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2,5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500</a:t>
            </a:r>
            <a:endParaRPr b="0" lang="en-US" sz="2000" spc="-1" strike="noStrike">
              <a:solidFill>
                <a:srgbClr val="ffffff"/>
              </a:solidFill>
              <a:latin typeface="Arial"/>
            </a:endParaRPr>
          </a:p>
        </p:txBody>
      </p:sp>
      <p:pic>
        <p:nvPicPr>
          <p:cNvPr id="92" name="" descr=""/>
          <p:cNvPicPr/>
          <p:nvPr/>
        </p:nvPicPr>
        <p:blipFill>
          <a:blip r:embed="rId1"/>
          <a:stretch/>
        </p:blipFill>
        <p:spPr>
          <a:xfrm>
            <a:off x="6594480" y="5373720"/>
            <a:ext cx="2549520" cy="1484280"/>
          </a:xfrm>
          <a:prstGeom prst="rect">
            <a:avLst/>
          </a:prstGeom>
          <a:ln w="0">
            <a:noFill/>
          </a:ln>
        </p:spPr>
      </p:pic>
      <p:sp>
        <p:nvSpPr>
          <p:cNvPr id="93" name=""/>
          <p:cNvSpPr/>
          <p:nvPr/>
        </p:nvSpPr>
        <p:spPr>
          <a:xfrm>
            <a:off x="482760" y="3724200"/>
            <a:ext cx="357120" cy="401760"/>
          </a:xfrm>
          <a:custGeom>
            <a:avLst/>
            <a:gdLst/>
            <a:ahLst/>
            <a:rect l="l" t="t" r="r" b="b"/>
            <a:pathLst>
              <a:path w="994" h="1117">
                <a:moveTo>
                  <a:pt x="2034" y="11038"/>
                </a:moveTo>
                <a:cubicBezTo>
                  <a:pt x="2017" y="10993"/>
                  <a:pt x="2005" y="10903"/>
                  <a:pt x="1984" y="10864"/>
                </a:cubicBezTo>
                <a:cubicBezTo>
                  <a:pt x="1968" y="10834"/>
                  <a:pt x="1952" y="10790"/>
                  <a:pt x="1935" y="10765"/>
                </a:cubicBezTo>
                <a:cubicBezTo>
                  <a:pt x="1907" y="10723"/>
                  <a:pt x="1882" y="10716"/>
                  <a:pt x="1836" y="10716"/>
                </a:cubicBezTo>
                <a:cubicBezTo>
                  <a:pt x="1793" y="10716"/>
                  <a:pt x="1765" y="10760"/>
                  <a:pt x="1736" y="10790"/>
                </a:cubicBezTo>
                <a:cubicBezTo>
                  <a:pt x="1690" y="10837"/>
                  <a:pt x="1636" y="10876"/>
                  <a:pt x="1612" y="10939"/>
                </a:cubicBezTo>
                <a:cubicBezTo>
                  <a:pt x="1595" y="10982"/>
                  <a:pt x="1570" y="11063"/>
                  <a:pt x="1588" y="11112"/>
                </a:cubicBezTo>
                <a:cubicBezTo>
                  <a:pt x="1600" y="11143"/>
                  <a:pt x="1652" y="11221"/>
                  <a:pt x="1687" y="11237"/>
                </a:cubicBezTo>
                <a:cubicBezTo>
                  <a:pt x="1715" y="11249"/>
                  <a:pt x="1769" y="11224"/>
                  <a:pt x="1786" y="11212"/>
                </a:cubicBezTo>
                <a:cubicBezTo>
                  <a:pt x="1827" y="11185"/>
                  <a:pt x="1849" y="11133"/>
                  <a:pt x="1860" y="11088"/>
                </a:cubicBezTo>
                <a:cubicBezTo>
                  <a:pt x="1870" y="11049"/>
                  <a:pt x="1885" y="11033"/>
                  <a:pt x="1885" y="10988"/>
                </a:cubicBezTo>
                <a:cubicBezTo>
                  <a:pt x="1885" y="11049"/>
                  <a:pt x="1889" y="11088"/>
                  <a:pt x="1910" y="11137"/>
                </a:cubicBezTo>
                <a:cubicBezTo>
                  <a:pt x="1927" y="11178"/>
                  <a:pt x="1990" y="11242"/>
                  <a:pt x="2034" y="11261"/>
                </a:cubicBezTo>
                <a:cubicBezTo>
                  <a:pt x="2067" y="11261"/>
                  <a:pt x="2083" y="11261"/>
                  <a:pt x="2108" y="11261"/>
                </a:cubicBezTo>
              </a:path>
              <a:path w="994" h="1117">
                <a:moveTo>
                  <a:pt x="1513" y="10443"/>
                </a:moveTo>
                <a:cubicBezTo>
                  <a:pt x="1448" y="10573"/>
                  <a:pt x="1408" y="10679"/>
                  <a:pt x="1364" y="10815"/>
                </a:cubicBezTo>
                <a:cubicBezTo>
                  <a:pt x="1336" y="10903"/>
                  <a:pt x="1322" y="11019"/>
                  <a:pt x="1339" y="11112"/>
                </a:cubicBezTo>
                <a:cubicBezTo>
                  <a:pt x="1354" y="11190"/>
                  <a:pt x="1378" y="11282"/>
                  <a:pt x="1439" y="11336"/>
                </a:cubicBezTo>
                <a:cubicBezTo>
                  <a:pt x="1482" y="11358"/>
                  <a:pt x="1493" y="11362"/>
                  <a:pt x="1513" y="11385"/>
                </a:cubicBezTo>
              </a:path>
              <a:path w="994" h="1117">
                <a:moveTo>
                  <a:pt x="1910" y="10344"/>
                </a:moveTo>
                <a:cubicBezTo>
                  <a:pt x="1995" y="10421"/>
                  <a:pt x="2067" y="10471"/>
                  <a:pt x="2133" y="10567"/>
                </a:cubicBezTo>
                <a:cubicBezTo>
                  <a:pt x="2203" y="10668"/>
                  <a:pt x="2270" y="10797"/>
                  <a:pt x="2307" y="10914"/>
                </a:cubicBezTo>
                <a:cubicBezTo>
                  <a:pt x="2336" y="11006"/>
                  <a:pt x="2350" y="11140"/>
                  <a:pt x="2332" y="11237"/>
                </a:cubicBezTo>
                <a:cubicBezTo>
                  <a:pt x="2318" y="11309"/>
                  <a:pt x="2307" y="11380"/>
                  <a:pt x="2257" y="11435"/>
                </a:cubicBezTo>
                <a:cubicBezTo>
                  <a:pt x="2249" y="11443"/>
                  <a:pt x="2240" y="11452"/>
                  <a:pt x="2232" y="1146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081080" y="3732120"/>
            <a:ext cx="2428920" cy="617760"/>
          </a:xfrm>
          <a:custGeom>
            <a:avLst/>
            <a:gdLst/>
            <a:ahLst/>
            <a:rect l="l" t="t" r="r" b="b"/>
            <a:pathLst>
              <a:path w="6748" h="1713">
                <a:moveTo>
                  <a:pt x="3572" y="11013"/>
                </a:moveTo>
                <a:cubicBezTo>
                  <a:pt x="3572" y="11102"/>
                  <a:pt x="3580" y="11098"/>
                  <a:pt x="3597" y="11137"/>
                </a:cubicBezTo>
                <a:cubicBezTo>
                  <a:pt x="3597" y="11079"/>
                  <a:pt x="3581" y="11034"/>
                  <a:pt x="3572" y="10988"/>
                </a:cubicBezTo>
                <a:cubicBezTo>
                  <a:pt x="3557" y="10914"/>
                  <a:pt x="3538" y="10838"/>
                  <a:pt x="3522" y="10765"/>
                </a:cubicBezTo>
                <a:cubicBezTo>
                  <a:pt x="3499" y="10659"/>
                  <a:pt x="3482" y="10641"/>
                  <a:pt x="3423" y="10567"/>
                </a:cubicBezTo>
                <a:cubicBezTo>
                  <a:pt x="3380" y="10513"/>
                  <a:pt x="3375" y="10507"/>
                  <a:pt x="3299" y="10492"/>
                </a:cubicBezTo>
                <a:cubicBezTo>
                  <a:pt x="3223" y="10477"/>
                  <a:pt x="3166" y="10530"/>
                  <a:pt x="3125" y="10592"/>
                </a:cubicBezTo>
                <a:cubicBezTo>
                  <a:pt x="3073" y="10671"/>
                  <a:pt x="3062" y="10777"/>
                  <a:pt x="3026" y="10864"/>
                </a:cubicBezTo>
                <a:cubicBezTo>
                  <a:pt x="2990" y="10952"/>
                  <a:pt x="3001" y="11041"/>
                  <a:pt x="3001" y="11137"/>
                </a:cubicBezTo>
                <a:cubicBezTo>
                  <a:pt x="3001" y="11213"/>
                  <a:pt x="3031" y="11297"/>
                  <a:pt x="3076" y="11361"/>
                </a:cubicBezTo>
                <a:cubicBezTo>
                  <a:pt x="3114" y="11415"/>
                  <a:pt x="3162" y="11431"/>
                  <a:pt x="3225" y="11435"/>
                </a:cubicBezTo>
                <a:cubicBezTo>
                  <a:pt x="3287" y="11438"/>
                  <a:pt x="3351" y="11399"/>
                  <a:pt x="3398" y="11361"/>
                </a:cubicBezTo>
                <a:cubicBezTo>
                  <a:pt x="3473" y="11299"/>
                  <a:pt x="3471" y="11242"/>
                  <a:pt x="3497" y="11162"/>
                </a:cubicBezTo>
                <a:cubicBezTo>
                  <a:pt x="3527" y="11072"/>
                  <a:pt x="3572" y="10996"/>
                  <a:pt x="3522" y="10914"/>
                </a:cubicBezTo>
                <a:cubicBezTo>
                  <a:pt x="3522" y="11151"/>
                  <a:pt x="3498" y="11406"/>
                  <a:pt x="3547" y="11633"/>
                </a:cubicBezTo>
                <a:cubicBezTo>
                  <a:pt x="3547" y="11641"/>
                  <a:pt x="3547" y="11650"/>
                  <a:pt x="3547" y="11658"/>
                </a:cubicBezTo>
              </a:path>
              <a:path w="6748" h="1713">
                <a:moveTo>
                  <a:pt x="3820" y="11435"/>
                </a:moveTo>
                <a:cubicBezTo>
                  <a:pt x="3820" y="11493"/>
                  <a:pt x="3811" y="11584"/>
                  <a:pt x="3795" y="11633"/>
                </a:cubicBezTo>
                <a:cubicBezTo>
                  <a:pt x="3776" y="11689"/>
                  <a:pt x="3751" y="11762"/>
                  <a:pt x="3770" y="11832"/>
                </a:cubicBezTo>
                <a:cubicBezTo>
                  <a:pt x="3782" y="11876"/>
                  <a:pt x="3806" y="11953"/>
                  <a:pt x="3845" y="11981"/>
                </a:cubicBezTo>
                <a:cubicBezTo>
                  <a:pt x="3898" y="12019"/>
                  <a:pt x="3956" y="12041"/>
                  <a:pt x="4018" y="12055"/>
                </a:cubicBezTo>
                <a:cubicBezTo>
                  <a:pt x="4047" y="12062"/>
                  <a:pt x="4128" y="12007"/>
                  <a:pt x="4142" y="11981"/>
                </a:cubicBezTo>
                <a:cubicBezTo>
                  <a:pt x="4152" y="11963"/>
                  <a:pt x="4182" y="11908"/>
                  <a:pt x="4167" y="11881"/>
                </a:cubicBezTo>
                <a:cubicBezTo>
                  <a:pt x="4142" y="11838"/>
                  <a:pt x="4142" y="11832"/>
                  <a:pt x="4093" y="11832"/>
                </a:cubicBezTo>
                <a:cubicBezTo>
                  <a:pt x="4045" y="11832"/>
                  <a:pt x="4007" y="11855"/>
                  <a:pt x="3994" y="11906"/>
                </a:cubicBezTo>
                <a:cubicBezTo>
                  <a:pt x="3980" y="11960"/>
                  <a:pt x="3957" y="11988"/>
                  <a:pt x="3994" y="12030"/>
                </a:cubicBezTo>
                <a:cubicBezTo>
                  <a:pt x="4016" y="12053"/>
                  <a:pt x="4024" y="12058"/>
                  <a:pt x="4018" y="12080"/>
                </a:cubicBezTo>
              </a:path>
              <a:path w="6748" h="1713">
                <a:moveTo>
                  <a:pt x="4142" y="11112"/>
                </a:moveTo>
                <a:cubicBezTo>
                  <a:pt x="4258" y="11112"/>
                  <a:pt x="4374" y="11112"/>
                  <a:pt x="4490" y="11112"/>
                </a:cubicBezTo>
              </a:path>
              <a:path w="6748" h="1713">
                <a:moveTo>
                  <a:pt x="4217" y="11311"/>
                </a:moveTo>
                <a:cubicBezTo>
                  <a:pt x="4364" y="11363"/>
                  <a:pt x="4358" y="11352"/>
                  <a:pt x="4490" y="11336"/>
                </a:cubicBezTo>
              </a:path>
              <a:path w="6748" h="1713">
                <a:moveTo>
                  <a:pt x="5383" y="10864"/>
                </a:moveTo>
                <a:cubicBezTo>
                  <a:pt x="5404" y="10916"/>
                  <a:pt x="5407" y="10935"/>
                  <a:pt x="5407" y="10988"/>
                </a:cubicBezTo>
                <a:cubicBezTo>
                  <a:pt x="5407" y="11013"/>
                  <a:pt x="5407" y="11021"/>
                  <a:pt x="5432" y="11013"/>
                </a:cubicBezTo>
                <a:cubicBezTo>
                  <a:pt x="5432" y="10886"/>
                  <a:pt x="5413" y="10812"/>
                  <a:pt x="5383" y="10691"/>
                </a:cubicBezTo>
                <a:cubicBezTo>
                  <a:pt x="5356" y="10583"/>
                  <a:pt x="5346" y="10588"/>
                  <a:pt x="5283" y="10517"/>
                </a:cubicBezTo>
                <a:cubicBezTo>
                  <a:pt x="5246" y="10475"/>
                  <a:pt x="5188" y="10492"/>
                  <a:pt x="5135" y="10492"/>
                </a:cubicBezTo>
                <a:cubicBezTo>
                  <a:pt x="5007" y="10492"/>
                  <a:pt x="5028" y="10567"/>
                  <a:pt x="4961" y="10641"/>
                </a:cubicBezTo>
                <a:cubicBezTo>
                  <a:pt x="4934" y="10671"/>
                  <a:pt x="4872" y="10797"/>
                  <a:pt x="4862" y="10864"/>
                </a:cubicBezTo>
                <a:cubicBezTo>
                  <a:pt x="4847" y="10962"/>
                  <a:pt x="4874" y="11045"/>
                  <a:pt x="4887" y="11137"/>
                </a:cubicBezTo>
                <a:cubicBezTo>
                  <a:pt x="4897" y="11209"/>
                  <a:pt x="4929" y="11286"/>
                  <a:pt x="4986" y="11336"/>
                </a:cubicBezTo>
                <a:cubicBezTo>
                  <a:pt x="5027" y="11372"/>
                  <a:pt x="5109" y="11400"/>
                  <a:pt x="5159" y="11410"/>
                </a:cubicBezTo>
                <a:cubicBezTo>
                  <a:pt x="5233" y="11424"/>
                  <a:pt x="5270" y="11357"/>
                  <a:pt x="5308" y="11311"/>
                </a:cubicBezTo>
                <a:cubicBezTo>
                  <a:pt x="5348" y="11263"/>
                  <a:pt x="5342" y="11197"/>
                  <a:pt x="5358" y="11137"/>
                </a:cubicBezTo>
                <a:cubicBezTo>
                  <a:pt x="5382" y="11044"/>
                  <a:pt x="5382" y="11043"/>
                  <a:pt x="5358" y="10988"/>
                </a:cubicBezTo>
                <a:cubicBezTo>
                  <a:pt x="5358" y="10980"/>
                  <a:pt x="5358" y="10972"/>
                  <a:pt x="5358" y="10964"/>
                </a:cubicBezTo>
                <a:cubicBezTo>
                  <a:pt x="5313" y="11037"/>
                  <a:pt x="5345" y="11052"/>
                  <a:pt x="5358" y="11137"/>
                </a:cubicBezTo>
                <a:cubicBezTo>
                  <a:pt x="5371" y="11226"/>
                  <a:pt x="5393" y="11247"/>
                  <a:pt x="5457" y="11311"/>
                </a:cubicBezTo>
                <a:cubicBezTo>
                  <a:pt x="5492" y="11346"/>
                  <a:pt x="5512" y="11360"/>
                  <a:pt x="5556" y="11385"/>
                </a:cubicBezTo>
              </a:path>
              <a:path w="6748" h="1713">
                <a:moveTo>
                  <a:pt x="5854" y="11435"/>
                </a:moveTo>
                <a:cubicBezTo>
                  <a:pt x="5854" y="11535"/>
                  <a:pt x="5851" y="11623"/>
                  <a:pt x="5879" y="11708"/>
                </a:cubicBezTo>
                <a:cubicBezTo>
                  <a:pt x="5891" y="11743"/>
                  <a:pt x="5886" y="11733"/>
                  <a:pt x="5928" y="11733"/>
                </a:cubicBezTo>
              </a:path>
              <a:path w="6748" h="1713">
                <a:moveTo>
                  <a:pt x="6350" y="10864"/>
                </a:moveTo>
                <a:cubicBezTo>
                  <a:pt x="6350" y="10996"/>
                  <a:pt x="6357" y="11110"/>
                  <a:pt x="6375" y="11237"/>
                </a:cubicBezTo>
                <a:cubicBezTo>
                  <a:pt x="6385" y="11307"/>
                  <a:pt x="6409" y="11367"/>
                  <a:pt x="6424" y="11435"/>
                </a:cubicBezTo>
                <a:cubicBezTo>
                  <a:pt x="6429" y="11457"/>
                  <a:pt x="6424" y="11487"/>
                  <a:pt x="6424" y="11509"/>
                </a:cubicBezTo>
              </a:path>
              <a:path w="6748" h="1713">
                <a:moveTo>
                  <a:pt x="6102" y="11137"/>
                </a:moveTo>
                <a:cubicBezTo>
                  <a:pt x="6185" y="11106"/>
                  <a:pt x="6259" y="11112"/>
                  <a:pt x="6350" y="11112"/>
                </a:cubicBezTo>
                <a:cubicBezTo>
                  <a:pt x="6375" y="11112"/>
                  <a:pt x="6399" y="11112"/>
                  <a:pt x="6424" y="11112"/>
                </a:cubicBezTo>
              </a:path>
              <a:path w="6748" h="1713">
                <a:moveTo>
                  <a:pt x="7144" y="10492"/>
                </a:moveTo>
                <a:cubicBezTo>
                  <a:pt x="7111" y="10534"/>
                  <a:pt x="7045" y="10595"/>
                  <a:pt x="7020" y="10641"/>
                </a:cubicBezTo>
                <a:cubicBezTo>
                  <a:pt x="6976" y="10723"/>
                  <a:pt x="6930" y="10799"/>
                  <a:pt x="6896" y="10889"/>
                </a:cubicBezTo>
                <a:cubicBezTo>
                  <a:pt x="6865" y="10972"/>
                  <a:pt x="6838" y="11099"/>
                  <a:pt x="6846" y="11187"/>
                </a:cubicBezTo>
                <a:cubicBezTo>
                  <a:pt x="6858" y="11314"/>
                  <a:pt x="6890" y="11415"/>
                  <a:pt x="6970" y="11509"/>
                </a:cubicBezTo>
                <a:cubicBezTo>
                  <a:pt x="7019" y="11566"/>
                  <a:pt x="7048" y="11603"/>
                  <a:pt x="7119" y="11609"/>
                </a:cubicBezTo>
                <a:cubicBezTo>
                  <a:pt x="7156" y="11612"/>
                  <a:pt x="7169" y="11583"/>
                  <a:pt x="7193" y="11559"/>
                </a:cubicBezTo>
              </a:path>
              <a:path w="6748" h="1713">
                <a:moveTo>
                  <a:pt x="7243" y="11088"/>
                </a:moveTo>
                <a:cubicBezTo>
                  <a:pt x="7227" y="11196"/>
                  <a:pt x="7218" y="11279"/>
                  <a:pt x="7218" y="11385"/>
                </a:cubicBezTo>
                <a:cubicBezTo>
                  <a:pt x="7218" y="11418"/>
                  <a:pt x="7218" y="11452"/>
                  <a:pt x="7218" y="11485"/>
                </a:cubicBezTo>
                <a:cubicBezTo>
                  <a:pt x="7267" y="11469"/>
                  <a:pt x="7226" y="11456"/>
                  <a:pt x="7243" y="11410"/>
                </a:cubicBezTo>
                <a:cubicBezTo>
                  <a:pt x="7268" y="11340"/>
                  <a:pt x="7268" y="11288"/>
                  <a:pt x="7268" y="11212"/>
                </a:cubicBezTo>
                <a:cubicBezTo>
                  <a:pt x="7268" y="11138"/>
                  <a:pt x="7288" y="11084"/>
                  <a:pt x="7293" y="11013"/>
                </a:cubicBezTo>
                <a:cubicBezTo>
                  <a:pt x="7297" y="10961"/>
                  <a:pt x="7315" y="10920"/>
                  <a:pt x="7367" y="10914"/>
                </a:cubicBezTo>
                <a:cubicBezTo>
                  <a:pt x="7419" y="10908"/>
                  <a:pt x="7431" y="10932"/>
                  <a:pt x="7441" y="10988"/>
                </a:cubicBezTo>
                <a:cubicBezTo>
                  <a:pt x="7454" y="11065"/>
                  <a:pt x="7487" y="11114"/>
                  <a:pt x="7516" y="11187"/>
                </a:cubicBezTo>
                <a:cubicBezTo>
                  <a:pt x="7545" y="11261"/>
                  <a:pt x="7598" y="11358"/>
                  <a:pt x="7615" y="11435"/>
                </a:cubicBezTo>
                <a:cubicBezTo>
                  <a:pt x="7623" y="11471"/>
                  <a:pt x="7634" y="11563"/>
                  <a:pt x="7665" y="11584"/>
                </a:cubicBezTo>
                <a:cubicBezTo>
                  <a:pt x="7673" y="11584"/>
                  <a:pt x="7681" y="11584"/>
                  <a:pt x="7689" y="11584"/>
                </a:cubicBezTo>
              </a:path>
              <a:path w="6748" h="1713">
                <a:moveTo>
                  <a:pt x="7789" y="11187"/>
                </a:moveTo>
                <a:cubicBezTo>
                  <a:pt x="7887" y="11194"/>
                  <a:pt x="7963" y="11212"/>
                  <a:pt x="8062" y="11212"/>
                </a:cubicBezTo>
                <a:cubicBezTo>
                  <a:pt x="8129" y="11212"/>
                  <a:pt x="8162" y="11208"/>
                  <a:pt x="8210" y="11187"/>
                </a:cubicBezTo>
              </a:path>
              <a:path w="6748" h="1713">
                <a:moveTo>
                  <a:pt x="8235" y="10988"/>
                </a:moveTo>
                <a:cubicBezTo>
                  <a:pt x="8223" y="11109"/>
                  <a:pt x="8212" y="11238"/>
                  <a:pt x="8235" y="11361"/>
                </a:cubicBezTo>
                <a:cubicBezTo>
                  <a:pt x="8248" y="11428"/>
                  <a:pt x="8285" y="11550"/>
                  <a:pt x="8310" y="11609"/>
                </a:cubicBezTo>
                <a:cubicBezTo>
                  <a:pt x="8332" y="11631"/>
                  <a:pt x="8340" y="11642"/>
                  <a:pt x="8334" y="11609"/>
                </a:cubicBezTo>
              </a:path>
              <a:path w="6748" h="1713">
                <a:moveTo>
                  <a:pt x="8161" y="10368"/>
                </a:moveTo>
                <a:cubicBezTo>
                  <a:pt x="8206" y="10400"/>
                  <a:pt x="8331" y="10473"/>
                  <a:pt x="8359" y="10517"/>
                </a:cubicBezTo>
                <a:cubicBezTo>
                  <a:pt x="8427" y="10623"/>
                  <a:pt x="8474" y="10774"/>
                  <a:pt x="8533" y="10889"/>
                </a:cubicBezTo>
                <a:cubicBezTo>
                  <a:pt x="8593" y="11007"/>
                  <a:pt x="8618" y="11133"/>
                  <a:pt x="8632" y="11261"/>
                </a:cubicBezTo>
                <a:cubicBezTo>
                  <a:pt x="8644" y="11375"/>
                  <a:pt x="8604" y="11435"/>
                  <a:pt x="8582" y="11534"/>
                </a:cubicBezTo>
                <a:cubicBezTo>
                  <a:pt x="8571" y="11584"/>
                  <a:pt x="8495" y="11608"/>
                  <a:pt x="8508" y="11658"/>
                </a:cubicBezTo>
                <a:cubicBezTo>
                  <a:pt x="8516" y="11658"/>
                  <a:pt x="8525" y="11658"/>
                  <a:pt x="8533" y="11658"/>
                </a:cubicBezTo>
              </a:path>
              <a:path w="6748" h="1713">
                <a:moveTo>
                  <a:pt x="9351" y="11435"/>
                </a:moveTo>
                <a:cubicBezTo>
                  <a:pt x="9379" y="11366"/>
                  <a:pt x="9369" y="11402"/>
                  <a:pt x="9327" y="11336"/>
                </a:cubicBezTo>
                <a:cubicBezTo>
                  <a:pt x="9286" y="11272"/>
                  <a:pt x="9233" y="11184"/>
                  <a:pt x="9153" y="11162"/>
                </a:cubicBezTo>
                <a:cubicBezTo>
                  <a:pt x="9109" y="11150"/>
                  <a:pt x="9054" y="11127"/>
                  <a:pt x="9004" y="11137"/>
                </a:cubicBezTo>
                <a:cubicBezTo>
                  <a:pt x="8942" y="11149"/>
                  <a:pt x="8927" y="11196"/>
                  <a:pt x="8905" y="11237"/>
                </a:cubicBezTo>
                <a:cubicBezTo>
                  <a:pt x="8867" y="11308"/>
                  <a:pt x="8873" y="11364"/>
                  <a:pt x="8905" y="11435"/>
                </a:cubicBezTo>
                <a:cubicBezTo>
                  <a:pt x="8928" y="11487"/>
                  <a:pt x="8956" y="11576"/>
                  <a:pt x="9004" y="11609"/>
                </a:cubicBezTo>
                <a:cubicBezTo>
                  <a:pt x="9039" y="11634"/>
                  <a:pt x="9110" y="11644"/>
                  <a:pt x="9153" y="11633"/>
                </a:cubicBezTo>
                <a:cubicBezTo>
                  <a:pt x="9232" y="11612"/>
                  <a:pt x="9254" y="11503"/>
                  <a:pt x="9277" y="11435"/>
                </a:cubicBezTo>
                <a:cubicBezTo>
                  <a:pt x="9325" y="11296"/>
                  <a:pt x="9347" y="11159"/>
                  <a:pt x="9351" y="11013"/>
                </a:cubicBezTo>
                <a:cubicBezTo>
                  <a:pt x="9354" y="10906"/>
                  <a:pt x="9364" y="10793"/>
                  <a:pt x="9327" y="10691"/>
                </a:cubicBezTo>
                <a:cubicBezTo>
                  <a:pt x="9298" y="10611"/>
                  <a:pt x="9324" y="10586"/>
                  <a:pt x="9252" y="10567"/>
                </a:cubicBezTo>
                <a:cubicBezTo>
                  <a:pt x="9244" y="10567"/>
                  <a:pt x="9235" y="10567"/>
                  <a:pt x="9227" y="10567"/>
                </a:cubicBezTo>
                <a:cubicBezTo>
                  <a:pt x="9192" y="10627"/>
                  <a:pt x="9203" y="10692"/>
                  <a:pt x="9203" y="10765"/>
                </a:cubicBezTo>
                <a:cubicBezTo>
                  <a:pt x="9203" y="10860"/>
                  <a:pt x="9194" y="10948"/>
                  <a:pt x="9227" y="11038"/>
                </a:cubicBezTo>
                <a:cubicBezTo>
                  <a:pt x="9273" y="11166"/>
                  <a:pt x="9332" y="11269"/>
                  <a:pt x="9401" y="11385"/>
                </a:cubicBezTo>
                <a:cubicBezTo>
                  <a:pt x="9444" y="11457"/>
                  <a:pt x="9506" y="11534"/>
                  <a:pt x="9575" y="11584"/>
                </a:cubicBezTo>
                <a:cubicBezTo>
                  <a:pt x="9622" y="11618"/>
                  <a:pt x="9672" y="11638"/>
                  <a:pt x="9723" y="11658"/>
                </a:cubicBezTo>
                <a:cubicBezTo>
                  <a:pt x="9763" y="11674"/>
                  <a:pt x="9720" y="11630"/>
                  <a:pt x="9699" y="1160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367160" y="3776760"/>
            <a:ext cx="446040" cy="563400"/>
          </a:xfrm>
          <a:custGeom>
            <a:avLst/>
            <a:gdLst/>
            <a:ahLst/>
            <a:rect l="l" t="t" r="r" b="b"/>
            <a:pathLst>
              <a:path w="1242" h="1564">
                <a:moveTo>
                  <a:pt x="12700" y="10641"/>
                </a:moveTo>
                <a:cubicBezTo>
                  <a:pt x="12700" y="10891"/>
                  <a:pt x="12702" y="11141"/>
                  <a:pt x="12675" y="11385"/>
                </a:cubicBezTo>
                <a:cubicBezTo>
                  <a:pt x="12665" y="11471"/>
                  <a:pt x="12680" y="11528"/>
                  <a:pt x="12650" y="11609"/>
                </a:cubicBezTo>
                <a:cubicBezTo>
                  <a:pt x="12650" y="11724"/>
                  <a:pt x="12671" y="11565"/>
                  <a:pt x="12675" y="11534"/>
                </a:cubicBezTo>
                <a:cubicBezTo>
                  <a:pt x="12682" y="11481"/>
                  <a:pt x="12681" y="11434"/>
                  <a:pt x="12700" y="11385"/>
                </a:cubicBezTo>
                <a:cubicBezTo>
                  <a:pt x="12722" y="11328"/>
                  <a:pt x="12741" y="11242"/>
                  <a:pt x="12824" y="11261"/>
                </a:cubicBezTo>
                <a:cubicBezTo>
                  <a:pt x="12858" y="11269"/>
                  <a:pt x="12956" y="11354"/>
                  <a:pt x="12973" y="11385"/>
                </a:cubicBezTo>
                <a:cubicBezTo>
                  <a:pt x="13015" y="11462"/>
                  <a:pt x="13050" y="11554"/>
                  <a:pt x="13022" y="11633"/>
                </a:cubicBezTo>
                <a:cubicBezTo>
                  <a:pt x="13003" y="11686"/>
                  <a:pt x="12924" y="11763"/>
                  <a:pt x="12874" y="11782"/>
                </a:cubicBezTo>
                <a:cubicBezTo>
                  <a:pt x="12823" y="11802"/>
                  <a:pt x="12708" y="11823"/>
                  <a:pt x="12650" y="11807"/>
                </a:cubicBezTo>
                <a:cubicBezTo>
                  <a:pt x="12585" y="11789"/>
                  <a:pt x="12524" y="11748"/>
                  <a:pt x="12502" y="11683"/>
                </a:cubicBezTo>
                <a:cubicBezTo>
                  <a:pt x="12494" y="11650"/>
                  <a:pt x="12485" y="11617"/>
                  <a:pt x="12477" y="11584"/>
                </a:cubicBezTo>
              </a:path>
              <a:path w="1242" h="1564">
                <a:moveTo>
                  <a:pt x="12278" y="10740"/>
                </a:moveTo>
                <a:cubicBezTo>
                  <a:pt x="12238" y="10822"/>
                  <a:pt x="12208" y="10902"/>
                  <a:pt x="12179" y="10988"/>
                </a:cubicBezTo>
                <a:cubicBezTo>
                  <a:pt x="12140" y="11105"/>
                  <a:pt x="12104" y="11237"/>
                  <a:pt x="12129" y="11361"/>
                </a:cubicBezTo>
                <a:cubicBezTo>
                  <a:pt x="12157" y="11500"/>
                  <a:pt x="12194" y="11661"/>
                  <a:pt x="12328" y="11733"/>
                </a:cubicBezTo>
                <a:cubicBezTo>
                  <a:pt x="12414" y="11779"/>
                  <a:pt x="12539" y="11765"/>
                  <a:pt x="12626" y="11733"/>
                </a:cubicBezTo>
                <a:cubicBezTo>
                  <a:pt x="12685" y="11703"/>
                  <a:pt x="12708" y="11685"/>
                  <a:pt x="12725" y="11633"/>
                </a:cubicBezTo>
              </a:path>
              <a:path w="1242" h="1564">
                <a:moveTo>
                  <a:pt x="12923" y="10492"/>
                </a:moveTo>
                <a:cubicBezTo>
                  <a:pt x="13111" y="10625"/>
                  <a:pt x="13235" y="10760"/>
                  <a:pt x="13320" y="10988"/>
                </a:cubicBezTo>
                <a:cubicBezTo>
                  <a:pt x="13369" y="11121"/>
                  <a:pt x="13401" y="11345"/>
                  <a:pt x="13370" y="11485"/>
                </a:cubicBezTo>
                <a:cubicBezTo>
                  <a:pt x="13337" y="11634"/>
                  <a:pt x="13234" y="11785"/>
                  <a:pt x="13146" y="11906"/>
                </a:cubicBezTo>
                <a:cubicBezTo>
                  <a:pt x="13079" y="11996"/>
                  <a:pt x="13064" y="12022"/>
                  <a:pt x="12998" y="1205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027760" y="3776760"/>
            <a:ext cx="3214440" cy="903240"/>
          </a:xfrm>
          <a:custGeom>
            <a:avLst/>
            <a:gdLst/>
            <a:ahLst/>
            <a:rect l="l" t="t" r="r" b="b"/>
            <a:pathLst>
              <a:path w="8931" h="2507">
                <a:moveTo>
                  <a:pt x="14536" y="10492"/>
                </a:moveTo>
                <a:cubicBezTo>
                  <a:pt x="14496" y="10636"/>
                  <a:pt x="14492" y="10771"/>
                  <a:pt x="14461" y="10914"/>
                </a:cubicBezTo>
                <a:cubicBezTo>
                  <a:pt x="14442" y="11004"/>
                  <a:pt x="14423" y="11098"/>
                  <a:pt x="14461" y="11187"/>
                </a:cubicBezTo>
                <a:cubicBezTo>
                  <a:pt x="14494" y="11265"/>
                  <a:pt x="14534" y="11261"/>
                  <a:pt x="14610" y="11261"/>
                </a:cubicBezTo>
                <a:cubicBezTo>
                  <a:pt x="14634" y="11261"/>
                  <a:pt x="14716" y="11163"/>
                  <a:pt x="14734" y="11137"/>
                </a:cubicBezTo>
                <a:cubicBezTo>
                  <a:pt x="14772" y="11084"/>
                  <a:pt x="14798" y="11000"/>
                  <a:pt x="14808" y="10939"/>
                </a:cubicBezTo>
                <a:cubicBezTo>
                  <a:pt x="14819" y="10870"/>
                  <a:pt x="14796" y="10840"/>
                  <a:pt x="14734" y="10840"/>
                </a:cubicBezTo>
                <a:cubicBezTo>
                  <a:pt x="14667" y="10840"/>
                  <a:pt x="14611" y="10896"/>
                  <a:pt x="14560" y="10939"/>
                </a:cubicBezTo>
                <a:cubicBezTo>
                  <a:pt x="14505" y="10984"/>
                  <a:pt x="14481" y="11037"/>
                  <a:pt x="14436" y="11088"/>
                </a:cubicBezTo>
                <a:cubicBezTo>
                  <a:pt x="14408" y="11119"/>
                  <a:pt x="14412" y="11122"/>
                  <a:pt x="14412" y="11162"/>
                </a:cubicBezTo>
              </a:path>
              <a:path w="8931" h="2507">
                <a:moveTo>
                  <a:pt x="14436" y="11187"/>
                </a:moveTo>
                <a:cubicBezTo>
                  <a:pt x="14453" y="11195"/>
                  <a:pt x="14469" y="11204"/>
                  <a:pt x="14486" y="11212"/>
                </a:cubicBezTo>
              </a:path>
              <a:path w="8931" h="2507">
                <a:moveTo>
                  <a:pt x="13965" y="11509"/>
                </a:moveTo>
                <a:cubicBezTo>
                  <a:pt x="14076" y="11540"/>
                  <a:pt x="14127" y="11521"/>
                  <a:pt x="14238" y="11509"/>
                </a:cubicBezTo>
                <a:cubicBezTo>
                  <a:pt x="14360" y="11495"/>
                  <a:pt x="14488" y="11488"/>
                  <a:pt x="14610" y="11485"/>
                </a:cubicBezTo>
                <a:cubicBezTo>
                  <a:pt x="14766" y="11481"/>
                  <a:pt x="15041" y="11452"/>
                  <a:pt x="15156" y="11509"/>
                </a:cubicBezTo>
                <a:cubicBezTo>
                  <a:pt x="15180" y="11509"/>
                  <a:pt x="15188" y="11509"/>
                  <a:pt x="15156" y="11509"/>
                </a:cubicBezTo>
              </a:path>
              <a:path w="8931" h="2507">
                <a:moveTo>
                  <a:pt x="14188" y="12005"/>
                </a:moveTo>
                <a:cubicBezTo>
                  <a:pt x="14221" y="11982"/>
                  <a:pt x="14276" y="11951"/>
                  <a:pt x="14312" y="11931"/>
                </a:cubicBezTo>
                <a:cubicBezTo>
                  <a:pt x="14363" y="11903"/>
                  <a:pt x="14437" y="11867"/>
                  <a:pt x="14486" y="11857"/>
                </a:cubicBezTo>
                <a:cubicBezTo>
                  <a:pt x="14556" y="11844"/>
                  <a:pt x="14589" y="11860"/>
                  <a:pt x="14635" y="11906"/>
                </a:cubicBezTo>
                <a:cubicBezTo>
                  <a:pt x="14697" y="11968"/>
                  <a:pt x="14699" y="12070"/>
                  <a:pt x="14684" y="12154"/>
                </a:cubicBezTo>
                <a:cubicBezTo>
                  <a:pt x="14670" y="12231"/>
                  <a:pt x="14604" y="12367"/>
                  <a:pt x="14560" y="12427"/>
                </a:cubicBezTo>
                <a:cubicBezTo>
                  <a:pt x="14487" y="12527"/>
                  <a:pt x="14412" y="12625"/>
                  <a:pt x="14337" y="12725"/>
                </a:cubicBezTo>
                <a:cubicBezTo>
                  <a:pt x="14306" y="12766"/>
                  <a:pt x="14234" y="12850"/>
                  <a:pt x="14213" y="12898"/>
                </a:cubicBezTo>
                <a:cubicBezTo>
                  <a:pt x="14213" y="12906"/>
                  <a:pt x="14213" y="12915"/>
                  <a:pt x="14213" y="12923"/>
                </a:cubicBezTo>
                <a:cubicBezTo>
                  <a:pt x="14259" y="12900"/>
                  <a:pt x="14312" y="12891"/>
                  <a:pt x="14362" y="12874"/>
                </a:cubicBezTo>
                <a:cubicBezTo>
                  <a:pt x="14433" y="12851"/>
                  <a:pt x="14483" y="12849"/>
                  <a:pt x="14560" y="12849"/>
                </a:cubicBezTo>
                <a:cubicBezTo>
                  <a:pt x="14611" y="12849"/>
                  <a:pt x="14755" y="12885"/>
                  <a:pt x="14784" y="12923"/>
                </a:cubicBezTo>
                <a:cubicBezTo>
                  <a:pt x="14804" y="12950"/>
                  <a:pt x="14816" y="12981"/>
                  <a:pt x="14833" y="12998"/>
                </a:cubicBezTo>
                <a:cubicBezTo>
                  <a:pt x="14863" y="12968"/>
                  <a:pt x="14874" y="12954"/>
                  <a:pt x="14883" y="12923"/>
                </a:cubicBezTo>
              </a:path>
              <a:path w="8931" h="2507">
                <a:moveTo>
                  <a:pt x="15503" y="10567"/>
                </a:moveTo>
                <a:cubicBezTo>
                  <a:pt x="15503" y="10646"/>
                  <a:pt x="15500" y="10676"/>
                  <a:pt x="15453" y="10716"/>
                </a:cubicBezTo>
              </a:path>
              <a:path w="8931" h="2507">
                <a:moveTo>
                  <a:pt x="15354" y="10988"/>
                </a:moveTo>
                <a:cubicBezTo>
                  <a:pt x="15306" y="11281"/>
                  <a:pt x="15206" y="11566"/>
                  <a:pt x="15280" y="11857"/>
                </a:cubicBezTo>
                <a:cubicBezTo>
                  <a:pt x="15303" y="11947"/>
                  <a:pt x="15319" y="12047"/>
                  <a:pt x="15354" y="12129"/>
                </a:cubicBezTo>
                <a:cubicBezTo>
                  <a:pt x="15367" y="12159"/>
                  <a:pt x="15381" y="12263"/>
                  <a:pt x="15404" y="12278"/>
                </a:cubicBezTo>
                <a:cubicBezTo>
                  <a:pt x="15438" y="12300"/>
                  <a:pt x="15425" y="12303"/>
                  <a:pt x="15453" y="12254"/>
                </a:cubicBezTo>
                <a:cubicBezTo>
                  <a:pt x="15461" y="12237"/>
                  <a:pt x="15470" y="12221"/>
                  <a:pt x="15478" y="12204"/>
                </a:cubicBezTo>
              </a:path>
              <a:path w="8931" h="2507">
                <a:moveTo>
                  <a:pt x="15776" y="11063"/>
                </a:moveTo>
                <a:lnTo>
                  <a:pt x="15776" y="11063"/>
                </a:lnTo>
              </a:path>
              <a:path w="8931" h="2507">
                <a:moveTo>
                  <a:pt x="15776" y="11063"/>
                </a:moveTo>
                <a:cubicBezTo>
                  <a:pt x="15817" y="11030"/>
                  <a:pt x="15859" y="10997"/>
                  <a:pt x="15900" y="10964"/>
                </a:cubicBezTo>
              </a:path>
              <a:path w="8931" h="2507">
                <a:moveTo>
                  <a:pt x="15900" y="10964"/>
                </a:moveTo>
                <a:cubicBezTo>
                  <a:pt x="15977" y="10955"/>
                  <a:pt x="16044" y="10939"/>
                  <a:pt x="16123" y="10939"/>
                </a:cubicBezTo>
                <a:cubicBezTo>
                  <a:pt x="16190" y="10939"/>
                  <a:pt x="16256" y="10926"/>
                  <a:pt x="16272" y="11013"/>
                </a:cubicBezTo>
                <a:cubicBezTo>
                  <a:pt x="16283" y="11073"/>
                  <a:pt x="16258" y="11140"/>
                  <a:pt x="16222" y="11187"/>
                </a:cubicBezTo>
                <a:cubicBezTo>
                  <a:pt x="16172" y="11253"/>
                  <a:pt x="16118" y="11315"/>
                  <a:pt x="16049" y="11361"/>
                </a:cubicBezTo>
                <a:cubicBezTo>
                  <a:pt x="15992" y="11399"/>
                  <a:pt x="15955" y="11441"/>
                  <a:pt x="15900" y="11485"/>
                </a:cubicBezTo>
                <a:cubicBezTo>
                  <a:pt x="15944" y="11479"/>
                  <a:pt x="15981" y="11466"/>
                  <a:pt x="16024" y="11460"/>
                </a:cubicBezTo>
                <a:cubicBezTo>
                  <a:pt x="16093" y="11450"/>
                  <a:pt x="16118" y="11476"/>
                  <a:pt x="16173" y="11509"/>
                </a:cubicBezTo>
                <a:cubicBezTo>
                  <a:pt x="16224" y="11540"/>
                  <a:pt x="16279" y="11618"/>
                  <a:pt x="16272" y="11683"/>
                </a:cubicBezTo>
                <a:cubicBezTo>
                  <a:pt x="16262" y="11775"/>
                  <a:pt x="16225" y="11852"/>
                  <a:pt x="16173" y="11931"/>
                </a:cubicBezTo>
                <a:cubicBezTo>
                  <a:pt x="16120" y="12011"/>
                  <a:pt x="16050" y="12119"/>
                  <a:pt x="15974" y="12179"/>
                </a:cubicBezTo>
                <a:cubicBezTo>
                  <a:pt x="15921" y="12221"/>
                  <a:pt x="15859" y="12261"/>
                  <a:pt x="15801" y="12278"/>
                </a:cubicBezTo>
                <a:cubicBezTo>
                  <a:pt x="15731" y="12298"/>
                  <a:pt x="15821" y="12172"/>
                  <a:pt x="15850" y="12105"/>
                </a:cubicBezTo>
              </a:path>
              <a:path w="8931" h="2507">
                <a:moveTo>
                  <a:pt x="16644" y="10988"/>
                </a:moveTo>
                <a:cubicBezTo>
                  <a:pt x="16755" y="11023"/>
                  <a:pt x="16892" y="11045"/>
                  <a:pt x="16917" y="11187"/>
                </a:cubicBezTo>
                <a:cubicBezTo>
                  <a:pt x="16937" y="11300"/>
                  <a:pt x="16896" y="11403"/>
                  <a:pt x="16867" y="11509"/>
                </a:cubicBezTo>
                <a:cubicBezTo>
                  <a:pt x="16834" y="11628"/>
                  <a:pt x="16773" y="11735"/>
                  <a:pt x="16694" y="11832"/>
                </a:cubicBezTo>
                <a:cubicBezTo>
                  <a:pt x="16639" y="11899"/>
                  <a:pt x="16569" y="11964"/>
                  <a:pt x="16495" y="12005"/>
                </a:cubicBezTo>
                <a:cubicBezTo>
                  <a:pt x="16437" y="12037"/>
                  <a:pt x="16386" y="12040"/>
                  <a:pt x="16371" y="11956"/>
                </a:cubicBezTo>
                <a:cubicBezTo>
                  <a:pt x="16366" y="11926"/>
                  <a:pt x="16356" y="11845"/>
                  <a:pt x="16396" y="11832"/>
                </a:cubicBezTo>
                <a:cubicBezTo>
                  <a:pt x="16444" y="11816"/>
                  <a:pt x="16504" y="11835"/>
                  <a:pt x="16545" y="11857"/>
                </a:cubicBezTo>
                <a:cubicBezTo>
                  <a:pt x="16628" y="11902"/>
                  <a:pt x="16676" y="11986"/>
                  <a:pt x="16694" y="12080"/>
                </a:cubicBezTo>
                <a:cubicBezTo>
                  <a:pt x="16704" y="12131"/>
                  <a:pt x="16695" y="12180"/>
                  <a:pt x="16718" y="12229"/>
                </a:cubicBezTo>
                <a:cubicBezTo>
                  <a:pt x="16726" y="12237"/>
                  <a:pt x="16735" y="12246"/>
                  <a:pt x="16743" y="12254"/>
                </a:cubicBezTo>
              </a:path>
              <a:path w="8931" h="2507">
                <a:moveTo>
                  <a:pt x="17115" y="11931"/>
                </a:moveTo>
                <a:cubicBezTo>
                  <a:pt x="17115" y="12027"/>
                  <a:pt x="17150" y="12276"/>
                  <a:pt x="17090" y="12378"/>
                </a:cubicBezTo>
                <a:cubicBezTo>
                  <a:pt x="17061" y="12427"/>
                  <a:pt x="17066" y="12435"/>
                  <a:pt x="17066" y="12378"/>
                </a:cubicBezTo>
              </a:path>
              <a:path w="8931" h="2507">
                <a:moveTo>
                  <a:pt x="17413" y="11088"/>
                </a:moveTo>
                <a:cubicBezTo>
                  <a:pt x="17509" y="11065"/>
                  <a:pt x="17647" y="11068"/>
                  <a:pt x="17735" y="11038"/>
                </a:cubicBezTo>
                <a:cubicBezTo>
                  <a:pt x="17757" y="11031"/>
                  <a:pt x="17864" y="11013"/>
                  <a:pt x="17810" y="11013"/>
                </a:cubicBezTo>
              </a:path>
              <a:path w="8931" h="2507">
                <a:moveTo>
                  <a:pt x="17190" y="11336"/>
                </a:moveTo>
                <a:cubicBezTo>
                  <a:pt x="17190" y="11433"/>
                  <a:pt x="17206" y="11438"/>
                  <a:pt x="17214" y="11509"/>
                </a:cubicBezTo>
                <a:cubicBezTo>
                  <a:pt x="17214" y="11517"/>
                  <a:pt x="17214" y="11526"/>
                  <a:pt x="17214" y="11534"/>
                </a:cubicBezTo>
                <a:cubicBezTo>
                  <a:pt x="17244" y="11524"/>
                  <a:pt x="17257" y="11492"/>
                  <a:pt x="17289" y="11460"/>
                </a:cubicBezTo>
                <a:cubicBezTo>
                  <a:pt x="17318" y="11431"/>
                  <a:pt x="17318" y="11380"/>
                  <a:pt x="17363" y="11361"/>
                </a:cubicBezTo>
                <a:cubicBezTo>
                  <a:pt x="17405" y="11343"/>
                  <a:pt x="17456" y="11368"/>
                  <a:pt x="17487" y="11385"/>
                </a:cubicBezTo>
                <a:cubicBezTo>
                  <a:pt x="17564" y="11429"/>
                  <a:pt x="17610" y="11458"/>
                  <a:pt x="17661" y="11534"/>
                </a:cubicBezTo>
                <a:cubicBezTo>
                  <a:pt x="17691" y="11579"/>
                  <a:pt x="17752" y="11676"/>
                  <a:pt x="17735" y="11733"/>
                </a:cubicBezTo>
                <a:cubicBezTo>
                  <a:pt x="17717" y="11792"/>
                  <a:pt x="17694" y="11862"/>
                  <a:pt x="17636" y="11906"/>
                </a:cubicBezTo>
                <a:cubicBezTo>
                  <a:pt x="17574" y="11954"/>
                  <a:pt x="17513" y="12006"/>
                  <a:pt x="17438" y="12030"/>
                </a:cubicBezTo>
                <a:cubicBezTo>
                  <a:pt x="17375" y="12050"/>
                  <a:pt x="17432" y="11922"/>
                  <a:pt x="17438" y="11906"/>
                </a:cubicBezTo>
              </a:path>
              <a:path w="8931" h="2507">
                <a:moveTo>
                  <a:pt x="18008" y="11137"/>
                </a:moveTo>
                <a:cubicBezTo>
                  <a:pt x="18008" y="11193"/>
                  <a:pt x="17995" y="11258"/>
                  <a:pt x="17983" y="11311"/>
                </a:cubicBezTo>
                <a:cubicBezTo>
                  <a:pt x="17955" y="11433"/>
                  <a:pt x="17938" y="11557"/>
                  <a:pt x="17934" y="11683"/>
                </a:cubicBezTo>
                <a:cubicBezTo>
                  <a:pt x="17932" y="11747"/>
                  <a:pt x="17908" y="11879"/>
                  <a:pt x="17959" y="11931"/>
                </a:cubicBezTo>
                <a:cubicBezTo>
                  <a:pt x="17987" y="11931"/>
                  <a:pt x="17997" y="11934"/>
                  <a:pt x="18008" y="11956"/>
                </a:cubicBezTo>
                <a:cubicBezTo>
                  <a:pt x="18046" y="11934"/>
                  <a:pt x="18143" y="11878"/>
                  <a:pt x="18157" y="11832"/>
                </a:cubicBezTo>
                <a:cubicBezTo>
                  <a:pt x="18176" y="11771"/>
                  <a:pt x="18195" y="11651"/>
                  <a:pt x="18182" y="11584"/>
                </a:cubicBezTo>
                <a:cubicBezTo>
                  <a:pt x="18169" y="11515"/>
                  <a:pt x="18123" y="11419"/>
                  <a:pt x="18083" y="11361"/>
                </a:cubicBezTo>
                <a:cubicBezTo>
                  <a:pt x="18038" y="11295"/>
                  <a:pt x="17981" y="11311"/>
                  <a:pt x="17909" y="11311"/>
                </a:cubicBezTo>
                <a:cubicBezTo>
                  <a:pt x="17866" y="11311"/>
                  <a:pt x="17871" y="11321"/>
                  <a:pt x="17859" y="11286"/>
                </a:cubicBezTo>
              </a:path>
              <a:path w="8931" h="2507">
                <a:moveTo>
                  <a:pt x="18430" y="11336"/>
                </a:moveTo>
                <a:cubicBezTo>
                  <a:pt x="18419" y="11481"/>
                  <a:pt x="18370" y="11745"/>
                  <a:pt x="18405" y="11906"/>
                </a:cubicBezTo>
                <a:cubicBezTo>
                  <a:pt x="18414" y="11948"/>
                  <a:pt x="18471" y="12060"/>
                  <a:pt x="18529" y="12055"/>
                </a:cubicBezTo>
                <a:cubicBezTo>
                  <a:pt x="18587" y="12050"/>
                  <a:pt x="18643" y="11983"/>
                  <a:pt x="18678" y="11931"/>
                </a:cubicBezTo>
                <a:cubicBezTo>
                  <a:pt x="18716" y="11874"/>
                  <a:pt x="18725" y="11774"/>
                  <a:pt x="18728" y="11708"/>
                </a:cubicBezTo>
                <a:cubicBezTo>
                  <a:pt x="18733" y="11590"/>
                  <a:pt x="18664" y="11528"/>
                  <a:pt x="18604" y="11435"/>
                </a:cubicBezTo>
                <a:cubicBezTo>
                  <a:pt x="18571" y="11385"/>
                  <a:pt x="18505" y="11313"/>
                  <a:pt x="18430" y="11336"/>
                </a:cubicBezTo>
                <a:cubicBezTo>
                  <a:pt x="18382" y="11351"/>
                  <a:pt x="18295" y="11388"/>
                  <a:pt x="18281" y="11361"/>
                </a:cubicBezTo>
              </a:path>
              <a:path w="8931" h="2507">
                <a:moveTo>
                  <a:pt x="19248" y="11336"/>
                </a:moveTo>
                <a:cubicBezTo>
                  <a:pt x="19281" y="11487"/>
                  <a:pt x="19316" y="11630"/>
                  <a:pt x="19323" y="11782"/>
                </a:cubicBezTo>
                <a:cubicBezTo>
                  <a:pt x="19324" y="11810"/>
                  <a:pt x="19323" y="11982"/>
                  <a:pt x="19323" y="11931"/>
                </a:cubicBezTo>
                <a:cubicBezTo>
                  <a:pt x="19323" y="11903"/>
                  <a:pt x="19321" y="11892"/>
                  <a:pt x="19298" y="11881"/>
                </a:cubicBezTo>
              </a:path>
              <a:path w="8931" h="2507">
                <a:moveTo>
                  <a:pt x="19025" y="11658"/>
                </a:moveTo>
                <a:cubicBezTo>
                  <a:pt x="19184" y="11692"/>
                  <a:pt x="19248" y="11673"/>
                  <a:pt x="19422" y="11658"/>
                </a:cubicBezTo>
                <a:cubicBezTo>
                  <a:pt x="19481" y="11658"/>
                  <a:pt x="19507" y="11655"/>
                  <a:pt x="19546" y="11633"/>
                </a:cubicBezTo>
              </a:path>
              <a:path w="8931" h="2507">
                <a:moveTo>
                  <a:pt x="19943" y="11137"/>
                </a:moveTo>
                <a:cubicBezTo>
                  <a:pt x="19987" y="11152"/>
                  <a:pt x="19968" y="11208"/>
                  <a:pt x="19968" y="11261"/>
                </a:cubicBezTo>
                <a:cubicBezTo>
                  <a:pt x="19968" y="11326"/>
                  <a:pt x="19929" y="11360"/>
                  <a:pt x="19918" y="11410"/>
                </a:cubicBezTo>
                <a:cubicBezTo>
                  <a:pt x="19909" y="11454"/>
                  <a:pt x="19934" y="11505"/>
                  <a:pt x="19968" y="11509"/>
                </a:cubicBezTo>
                <a:cubicBezTo>
                  <a:pt x="20064" y="11521"/>
                  <a:pt x="20152" y="11494"/>
                  <a:pt x="20241" y="11485"/>
                </a:cubicBezTo>
                <a:cubicBezTo>
                  <a:pt x="20344" y="11474"/>
                  <a:pt x="20369" y="11505"/>
                  <a:pt x="20439" y="11435"/>
                </a:cubicBezTo>
                <a:cubicBezTo>
                  <a:pt x="20447" y="11427"/>
                  <a:pt x="20456" y="11418"/>
                  <a:pt x="20464" y="11410"/>
                </a:cubicBezTo>
              </a:path>
              <a:path w="8931" h="2507">
                <a:moveTo>
                  <a:pt x="20241" y="10939"/>
                </a:moveTo>
                <a:cubicBezTo>
                  <a:pt x="20260" y="11080"/>
                  <a:pt x="20276" y="11221"/>
                  <a:pt x="20290" y="11361"/>
                </a:cubicBezTo>
                <a:cubicBezTo>
                  <a:pt x="20301" y="11472"/>
                  <a:pt x="20295" y="11598"/>
                  <a:pt x="20315" y="11708"/>
                </a:cubicBezTo>
                <a:cubicBezTo>
                  <a:pt x="20334" y="11811"/>
                  <a:pt x="20321" y="11858"/>
                  <a:pt x="20315" y="11956"/>
                </a:cubicBezTo>
                <a:cubicBezTo>
                  <a:pt x="20312" y="12014"/>
                  <a:pt x="20338" y="12060"/>
                  <a:pt x="20290" y="11981"/>
                </a:cubicBezTo>
              </a:path>
              <a:path w="8931" h="2507">
                <a:moveTo>
                  <a:pt x="20613" y="11038"/>
                </a:moveTo>
                <a:cubicBezTo>
                  <a:pt x="20634" y="11141"/>
                  <a:pt x="20622" y="11203"/>
                  <a:pt x="20613" y="11311"/>
                </a:cubicBezTo>
                <a:cubicBezTo>
                  <a:pt x="20600" y="11461"/>
                  <a:pt x="20588" y="11606"/>
                  <a:pt x="20588" y="11757"/>
                </a:cubicBezTo>
                <a:cubicBezTo>
                  <a:pt x="20588" y="11866"/>
                  <a:pt x="20615" y="11927"/>
                  <a:pt x="20687" y="12005"/>
                </a:cubicBezTo>
                <a:cubicBezTo>
                  <a:pt x="20733" y="12055"/>
                  <a:pt x="20789" y="12029"/>
                  <a:pt x="20836" y="12005"/>
                </a:cubicBezTo>
                <a:cubicBezTo>
                  <a:pt x="20918" y="11962"/>
                  <a:pt x="20967" y="11826"/>
                  <a:pt x="20960" y="11733"/>
                </a:cubicBezTo>
                <a:cubicBezTo>
                  <a:pt x="20952" y="11626"/>
                  <a:pt x="20921" y="11514"/>
                  <a:pt x="20886" y="11410"/>
                </a:cubicBezTo>
                <a:cubicBezTo>
                  <a:pt x="20860" y="11330"/>
                  <a:pt x="20842" y="11251"/>
                  <a:pt x="20786" y="11187"/>
                </a:cubicBezTo>
                <a:cubicBezTo>
                  <a:pt x="20743" y="11138"/>
                  <a:pt x="20726" y="11117"/>
                  <a:pt x="20662" y="11112"/>
                </a:cubicBezTo>
                <a:cubicBezTo>
                  <a:pt x="20627" y="11109"/>
                  <a:pt x="20588" y="11120"/>
                  <a:pt x="20563" y="11137"/>
                </a:cubicBezTo>
                <a:cubicBezTo>
                  <a:pt x="20540" y="11160"/>
                  <a:pt x="20529" y="11168"/>
                  <a:pt x="20563" y="11162"/>
                </a:cubicBezTo>
              </a:path>
              <a:path w="8931" h="2507">
                <a:moveTo>
                  <a:pt x="21084" y="11931"/>
                </a:moveTo>
                <a:cubicBezTo>
                  <a:pt x="21065" y="12078"/>
                  <a:pt x="21034" y="12230"/>
                  <a:pt x="21034" y="12378"/>
                </a:cubicBezTo>
              </a:path>
              <a:path w="8931" h="2507">
                <a:moveTo>
                  <a:pt x="21332" y="11237"/>
                </a:moveTo>
                <a:cubicBezTo>
                  <a:pt x="21332" y="11316"/>
                  <a:pt x="21314" y="11385"/>
                  <a:pt x="21307" y="11460"/>
                </a:cubicBezTo>
                <a:cubicBezTo>
                  <a:pt x="21296" y="11575"/>
                  <a:pt x="21258" y="11891"/>
                  <a:pt x="21332" y="11981"/>
                </a:cubicBezTo>
                <a:cubicBezTo>
                  <a:pt x="21357" y="12005"/>
                  <a:pt x="21366" y="12013"/>
                  <a:pt x="21382" y="12030"/>
                </a:cubicBezTo>
                <a:cubicBezTo>
                  <a:pt x="21431" y="11992"/>
                  <a:pt x="21466" y="11953"/>
                  <a:pt x="21481" y="11881"/>
                </a:cubicBezTo>
                <a:cubicBezTo>
                  <a:pt x="21501" y="11786"/>
                  <a:pt x="21460" y="11696"/>
                  <a:pt x="21431" y="11609"/>
                </a:cubicBezTo>
                <a:cubicBezTo>
                  <a:pt x="21396" y="11506"/>
                  <a:pt x="21365" y="11447"/>
                  <a:pt x="21307" y="11361"/>
                </a:cubicBezTo>
                <a:cubicBezTo>
                  <a:pt x="21253" y="11280"/>
                  <a:pt x="21259" y="11298"/>
                  <a:pt x="21183" y="11261"/>
                </a:cubicBezTo>
                <a:cubicBezTo>
                  <a:pt x="21140" y="11240"/>
                  <a:pt x="21128" y="11253"/>
                  <a:pt x="21084" y="11286"/>
                </a:cubicBezTo>
              </a:path>
              <a:path w="8931" h="2507">
                <a:moveTo>
                  <a:pt x="21679" y="11410"/>
                </a:moveTo>
                <a:cubicBezTo>
                  <a:pt x="21679" y="11533"/>
                  <a:pt x="21654" y="11748"/>
                  <a:pt x="21704" y="11881"/>
                </a:cubicBezTo>
                <a:cubicBezTo>
                  <a:pt x="21724" y="11933"/>
                  <a:pt x="21733" y="11945"/>
                  <a:pt x="21779" y="11956"/>
                </a:cubicBezTo>
                <a:cubicBezTo>
                  <a:pt x="21812" y="11948"/>
                  <a:pt x="21845" y="11917"/>
                  <a:pt x="21853" y="11881"/>
                </a:cubicBezTo>
                <a:cubicBezTo>
                  <a:pt x="21871" y="11798"/>
                  <a:pt x="21878" y="11722"/>
                  <a:pt x="21878" y="11633"/>
                </a:cubicBezTo>
                <a:cubicBezTo>
                  <a:pt x="21878" y="11525"/>
                  <a:pt x="21866" y="11461"/>
                  <a:pt x="21828" y="11361"/>
                </a:cubicBezTo>
                <a:cubicBezTo>
                  <a:pt x="21808" y="11309"/>
                  <a:pt x="21790" y="11214"/>
                  <a:pt x="21729" y="11187"/>
                </a:cubicBezTo>
                <a:cubicBezTo>
                  <a:pt x="21677" y="11164"/>
                  <a:pt x="21618" y="11216"/>
                  <a:pt x="21580" y="11237"/>
                </a:cubicBezTo>
                <a:cubicBezTo>
                  <a:pt x="21557" y="11250"/>
                  <a:pt x="21488" y="11294"/>
                  <a:pt x="21506" y="11336"/>
                </a:cubicBezTo>
                <a:cubicBezTo>
                  <a:pt x="21514" y="11344"/>
                  <a:pt x="21522" y="11353"/>
                  <a:pt x="21530" y="11361"/>
                </a:cubicBezTo>
              </a:path>
              <a:path w="8931" h="2507">
                <a:moveTo>
                  <a:pt x="22002" y="11261"/>
                </a:moveTo>
                <a:lnTo>
                  <a:pt x="22002" y="11261"/>
                </a:lnTo>
              </a:path>
              <a:path w="8931" h="2507">
                <a:moveTo>
                  <a:pt x="22126" y="11435"/>
                </a:moveTo>
                <a:cubicBezTo>
                  <a:pt x="22182" y="11614"/>
                  <a:pt x="22177" y="11705"/>
                  <a:pt x="22299" y="11807"/>
                </a:cubicBezTo>
                <a:cubicBezTo>
                  <a:pt x="22324" y="11828"/>
                  <a:pt x="22412" y="11853"/>
                  <a:pt x="22448" y="11832"/>
                </a:cubicBezTo>
                <a:cubicBezTo>
                  <a:pt x="22535" y="11780"/>
                  <a:pt x="22523" y="11694"/>
                  <a:pt x="22523" y="11609"/>
                </a:cubicBezTo>
                <a:cubicBezTo>
                  <a:pt x="22523" y="11492"/>
                  <a:pt x="22510" y="11476"/>
                  <a:pt x="22448" y="11385"/>
                </a:cubicBezTo>
                <a:cubicBezTo>
                  <a:pt x="22414" y="11335"/>
                  <a:pt x="22380" y="11269"/>
                  <a:pt x="22324" y="11237"/>
                </a:cubicBezTo>
                <a:cubicBezTo>
                  <a:pt x="22271" y="11206"/>
                  <a:pt x="22257" y="11176"/>
                  <a:pt x="22225" y="11112"/>
                </a:cubicBezTo>
              </a:path>
              <a:path w="8931" h="2507">
                <a:moveTo>
                  <a:pt x="22399" y="10567"/>
                </a:moveTo>
                <a:cubicBezTo>
                  <a:pt x="22538" y="10691"/>
                  <a:pt x="22732" y="10824"/>
                  <a:pt x="22796" y="11013"/>
                </a:cubicBezTo>
                <a:cubicBezTo>
                  <a:pt x="22844" y="11155"/>
                  <a:pt x="22902" y="11333"/>
                  <a:pt x="22895" y="11485"/>
                </a:cubicBezTo>
                <a:cubicBezTo>
                  <a:pt x="22887" y="11657"/>
                  <a:pt x="22794" y="11900"/>
                  <a:pt x="22721" y="12055"/>
                </a:cubicBezTo>
                <a:cubicBezTo>
                  <a:pt x="22696" y="12096"/>
                  <a:pt x="22672" y="12138"/>
                  <a:pt x="22647" y="1217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955800" y="4375080"/>
            <a:ext cx="517320" cy="492120"/>
          </a:xfrm>
          <a:custGeom>
            <a:avLst/>
            <a:gdLst/>
            <a:ahLst/>
            <a:rect l="l" t="t" r="r" b="b"/>
            <a:pathLst>
              <a:path w="1440" h="1366">
                <a:moveTo>
                  <a:pt x="3225" y="12502"/>
                </a:moveTo>
                <a:cubicBezTo>
                  <a:pt x="3219" y="12561"/>
                  <a:pt x="3205" y="12594"/>
                  <a:pt x="3200" y="12650"/>
                </a:cubicBezTo>
                <a:cubicBezTo>
                  <a:pt x="3197" y="12682"/>
                  <a:pt x="3183" y="12694"/>
                  <a:pt x="3175" y="12725"/>
                </a:cubicBezTo>
                <a:cubicBezTo>
                  <a:pt x="3136" y="12673"/>
                  <a:pt x="3168" y="12662"/>
                  <a:pt x="3150" y="12601"/>
                </a:cubicBezTo>
                <a:cubicBezTo>
                  <a:pt x="3124" y="12512"/>
                  <a:pt x="3126" y="12417"/>
                  <a:pt x="3101" y="12328"/>
                </a:cubicBezTo>
                <a:cubicBezTo>
                  <a:pt x="3090" y="12288"/>
                  <a:pt x="3034" y="12203"/>
                  <a:pt x="3001" y="12179"/>
                </a:cubicBezTo>
                <a:cubicBezTo>
                  <a:pt x="2944" y="12137"/>
                  <a:pt x="2916" y="12158"/>
                  <a:pt x="2853" y="12204"/>
                </a:cubicBezTo>
                <a:cubicBezTo>
                  <a:pt x="2760" y="12273"/>
                  <a:pt x="2749" y="12306"/>
                  <a:pt x="2704" y="12427"/>
                </a:cubicBezTo>
                <a:cubicBezTo>
                  <a:pt x="2663" y="12538"/>
                  <a:pt x="2654" y="12634"/>
                  <a:pt x="2654" y="12750"/>
                </a:cubicBezTo>
                <a:cubicBezTo>
                  <a:pt x="2654" y="12844"/>
                  <a:pt x="2675" y="12929"/>
                  <a:pt x="2729" y="12998"/>
                </a:cubicBezTo>
                <a:cubicBezTo>
                  <a:pt x="2778" y="13060"/>
                  <a:pt x="2797" y="13078"/>
                  <a:pt x="2877" y="13097"/>
                </a:cubicBezTo>
                <a:cubicBezTo>
                  <a:pt x="2910" y="13105"/>
                  <a:pt x="2960" y="13048"/>
                  <a:pt x="2977" y="13022"/>
                </a:cubicBezTo>
                <a:cubicBezTo>
                  <a:pt x="3010" y="12970"/>
                  <a:pt x="3004" y="12904"/>
                  <a:pt x="3026" y="12849"/>
                </a:cubicBezTo>
                <a:cubicBezTo>
                  <a:pt x="3047" y="12796"/>
                  <a:pt x="3051" y="12780"/>
                  <a:pt x="3051" y="12725"/>
                </a:cubicBezTo>
                <a:cubicBezTo>
                  <a:pt x="3051" y="12822"/>
                  <a:pt x="3061" y="12907"/>
                  <a:pt x="3076" y="12998"/>
                </a:cubicBezTo>
                <a:cubicBezTo>
                  <a:pt x="3088" y="13067"/>
                  <a:pt x="3085" y="13129"/>
                  <a:pt x="3101" y="13196"/>
                </a:cubicBezTo>
                <a:cubicBezTo>
                  <a:pt x="3112" y="13242"/>
                  <a:pt x="3107" y="13221"/>
                  <a:pt x="3125" y="13246"/>
                </a:cubicBezTo>
              </a:path>
              <a:path w="1440" h="1366">
                <a:moveTo>
                  <a:pt x="3398" y="12948"/>
                </a:moveTo>
                <a:cubicBezTo>
                  <a:pt x="3398" y="12997"/>
                  <a:pt x="3381" y="13034"/>
                  <a:pt x="3373" y="13072"/>
                </a:cubicBezTo>
                <a:cubicBezTo>
                  <a:pt x="3357" y="13154"/>
                  <a:pt x="3365" y="13270"/>
                  <a:pt x="3398" y="13345"/>
                </a:cubicBezTo>
                <a:cubicBezTo>
                  <a:pt x="3421" y="13396"/>
                  <a:pt x="3448" y="13462"/>
                  <a:pt x="3497" y="13494"/>
                </a:cubicBezTo>
                <a:cubicBezTo>
                  <a:pt x="3554" y="13531"/>
                  <a:pt x="3618" y="13533"/>
                  <a:pt x="3671" y="13494"/>
                </a:cubicBezTo>
                <a:cubicBezTo>
                  <a:pt x="3724" y="13456"/>
                  <a:pt x="3721" y="13403"/>
                  <a:pt x="3721" y="13345"/>
                </a:cubicBezTo>
                <a:cubicBezTo>
                  <a:pt x="3721" y="13297"/>
                  <a:pt x="3725" y="13284"/>
                  <a:pt x="3696" y="13246"/>
                </a:cubicBezTo>
                <a:cubicBezTo>
                  <a:pt x="3656" y="13256"/>
                  <a:pt x="3624" y="13274"/>
                  <a:pt x="3621" y="13320"/>
                </a:cubicBezTo>
                <a:cubicBezTo>
                  <a:pt x="3616" y="13383"/>
                  <a:pt x="3631" y="13418"/>
                  <a:pt x="3646" y="13469"/>
                </a:cubicBezTo>
                <a:cubicBezTo>
                  <a:pt x="3646" y="13497"/>
                  <a:pt x="3648" y="13508"/>
                  <a:pt x="3671" y="13519"/>
                </a:cubicBezTo>
              </a:path>
              <a:path w="1440" h="1366">
                <a:moveTo>
                  <a:pt x="3870" y="12923"/>
                </a:moveTo>
                <a:cubicBezTo>
                  <a:pt x="3960" y="12906"/>
                  <a:pt x="4008" y="12898"/>
                  <a:pt x="4093" y="12898"/>
                </a:cubicBezTo>
              </a:path>
              <a:path w="1440" h="1366">
                <a:moveTo>
                  <a:pt x="3944" y="13047"/>
                </a:moveTo>
                <a:cubicBezTo>
                  <a:pt x="3994" y="13055"/>
                  <a:pt x="4043" y="13064"/>
                  <a:pt x="4093" y="1307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616040" y="4510080"/>
            <a:ext cx="2571840" cy="482760"/>
          </a:xfrm>
          <a:custGeom>
            <a:avLst/>
            <a:gdLst/>
            <a:ahLst/>
            <a:rect l="l" t="t" r="r" b="b"/>
            <a:pathLst>
              <a:path w="7144" h="1341">
                <a:moveTo>
                  <a:pt x="4539" y="12601"/>
                </a:moveTo>
                <a:cubicBezTo>
                  <a:pt x="4492" y="12601"/>
                  <a:pt x="4548" y="12588"/>
                  <a:pt x="4564" y="12576"/>
                </a:cubicBezTo>
                <a:cubicBezTo>
                  <a:pt x="4608" y="12543"/>
                  <a:pt x="4630" y="12551"/>
                  <a:pt x="4688" y="12551"/>
                </a:cubicBezTo>
                <a:cubicBezTo>
                  <a:pt x="4716" y="12551"/>
                  <a:pt x="4798" y="12584"/>
                  <a:pt x="4812" y="12601"/>
                </a:cubicBezTo>
                <a:cubicBezTo>
                  <a:pt x="4854" y="12651"/>
                  <a:pt x="4842" y="12689"/>
                  <a:pt x="4837" y="12725"/>
                </a:cubicBezTo>
                <a:cubicBezTo>
                  <a:pt x="4828" y="12784"/>
                  <a:pt x="4800" y="12822"/>
                  <a:pt x="4762" y="12874"/>
                </a:cubicBezTo>
                <a:cubicBezTo>
                  <a:pt x="4740" y="12903"/>
                  <a:pt x="4694" y="12938"/>
                  <a:pt x="4663" y="12948"/>
                </a:cubicBezTo>
                <a:cubicBezTo>
                  <a:pt x="4655" y="12948"/>
                  <a:pt x="4646" y="12948"/>
                  <a:pt x="4638" y="12948"/>
                </a:cubicBezTo>
                <a:cubicBezTo>
                  <a:pt x="4672" y="12937"/>
                  <a:pt x="4669" y="12913"/>
                  <a:pt x="4713" y="12898"/>
                </a:cubicBezTo>
                <a:cubicBezTo>
                  <a:pt x="4759" y="12883"/>
                  <a:pt x="4783" y="12919"/>
                  <a:pt x="4812" y="12948"/>
                </a:cubicBezTo>
                <a:cubicBezTo>
                  <a:pt x="4850" y="12986"/>
                  <a:pt x="4859" y="13068"/>
                  <a:pt x="4862" y="13122"/>
                </a:cubicBezTo>
                <a:cubicBezTo>
                  <a:pt x="4864" y="13161"/>
                  <a:pt x="4844" y="13247"/>
                  <a:pt x="4812" y="13271"/>
                </a:cubicBezTo>
                <a:cubicBezTo>
                  <a:pt x="4772" y="13301"/>
                  <a:pt x="4712" y="13342"/>
                  <a:pt x="4663" y="13345"/>
                </a:cubicBezTo>
                <a:cubicBezTo>
                  <a:pt x="4611" y="13349"/>
                  <a:pt x="4553" y="13347"/>
                  <a:pt x="4514" y="13320"/>
                </a:cubicBezTo>
                <a:cubicBezTo>
                  <a:pt x="4429" y="13262"/>
                  <a:pt x="4547" y="13113"/>
                  <a:pt x="4564" y="13072"/>
                </a:cubicBezTo>
              </a:path>
              <a:path w="7144" h="1341">
                <a:moveTo>
                  <a:pt x="5011" y="12675"/>
                </a:moveTo>
                <a:cubicBezTo>
                  <a:pt x="5003" y="12700"/>
                  <a:pt x="4994" y="12725"/>
                  <a:pt x="4986" y="12750"/>
                </a:cubicBezTo>
                <a:cubicBezTo>
                  <a:pt x="5002" y="12745"/>
                  <a:pt x="5047" y="12727"/>
                  <a:pt x="5060" y="12700"/>
                </a:cubicBezTo>
                <a:cubicBezTo>
                  <a:pt x="5073" y="12673"/>
                  <a:pt x="5091" y="12655"/>
                  <a:pt x="5135" y="12650"/>
                </a:cubicBezTo>
                <a:cubicBezTo>
                  <a:pt x="5194" y="12643"/>
                  <a:pt x="5207" y="12708"/>
                  <a:pt x="5209" y="12750"/>
                </a:cubicBezTo>
                <a:cubicBezTo>
                  <a:pt x="5214" y="12829"/>
                  <a:pt x="5234" y="12889"/>
                  <a:pt x="5234" y="12973"/>
                </a:cubicBezTo>
                <a:cubicBezTo>
                  <a:pt x="5234" y="13043"/>
                  <a:pt x="5216" y="13157"/>
                  <a:pt x="5184" y="13221"/>
                </a:cubicBezTo>
                <a:cubicBezTo>
                  <a:pt x="5171" y="13246"/>
                  <a:pt x="5136" y="13332"/>
                  <a:pt x="5110" y="13345"/>
                </a:cubicBezTo>
                <a:cubicBezTo>
                  <a:pt x="5076" y="13362"/>
                  <a:pt x="5033" y="13340"/>
                  <a:pt x="5011" y="13320"/>
                </a:cubicBezTo>
                <a:cubicBezTo>
                  <a:pt x="4987" y="13298"/>
                  <a:pt x="4968" y="13229"/>
                  <a:pt x="4986" y="13196"/>
                </a:cubicBezTo>
                <a:cubicBezTo>
                  <a:pt x="5000" y="13170"/>
                  <a:pt x="5020" y="13124"/>
                  <a:pt x="5060" y="13146"/>
                </a:cubicBezTo>
                <a:cubicBezTo>
                  <a:pt x="5130" y="13185"/>
                  <a:pt x="5166" y="13227"/>
                  <a:pt x="5234" y="13295"/>
                </a:cubicBezTo>
                <a:cubicBezTo>
                  <a:pt x="5273" y="13334"/>
                  <a:pt x="5300" y="13364"/>
                  <a:pt x="5358" y="13370"/>
                </a:cubicBezTo>
                <a:cubicBezTo>
                  <a:pt x="5366" y="13370"/>
                  <a:pt x="5375" y="13370"/>
                  <a:pt x="5383" y="13370"/>
                </a:cubicBezTo>
              </a:path>
              <a:path w="7144" h="1341">
                <a:moveTo>
                  <a:pt x="5507" y="12601"/>
                </a:moveTo>
                <a:cubicBezTo>
                  <a:pt x="5590" y="12601"/>
                  <a:pt x="5672" y="12601"/>
                  <a:pt x="5755" y="12601"/>
                </a:cubicBezTo>
              </a:path>
              <a:path w="7144" h="1341">
                <a:moveTo>
                  <a:pt x="5457" y="12675"/>
                </a:moveTo>
                <a:cubicBezTo>
                  <a:pt x="5429" y="12735"/>
                  <a:pt x="5366" y="12808"/>
                  <a:pt x="5457" y="12849"/>
                </a:cubicBezTo>
                <a:cubicBezTo>
                  <a:pt x="5505" y="12870"/>
                  <a:pt x="5543" y="12831"/>
                  <a:pt x="5556" y="12824"/>
                </a:cubicBezTo>
                <a:cubicBezTo>
                  <a:pt x="5564" y="12824"/>
                  <a:pt x="5573" y="12824"/>
                  <a:pt x="5581" y="12824"/>
                </a:cubicBezTo>
                <a:cubicBezTo>
                  <a:pt x="5622" y="12855"/>
                  <a:pt x="5635" y="12852"/>
                  <a:pt x="5655" y="12898"/>
                </a:cubicBezTo>
                <a:cubicBezTo>
                  <a:pt x="5681" y="12958"/>
                  <a:pt x="5740" y="13006"/>
                  <a:pt x="5755" y="13072"/>
                </a:cubicBezTo>
                <a:cubicBezTo>
                  <a:pt x="5775" y="13162"/>
                  <a:pt x="5786" y="13221"/>
                  <a:pt x="5730" y="13295"/>
                </a:cubicBezTo>
                <a:cubicBezTo>
                  <a:pt x="5718" y="13311"/>
                  <a:pt x="5651" y="13354"/>
                  <a:pt x="5631" y="13345"/>
                </a:cubicBezTo>
                <a:cubicBezTo>
                  <a:pt x="5592" y="13328"/>
                  <a:pt x="5548" y="13315"/>
                  <a:pt x="5531" y="13295"/>
                </a:cubicBezTo>
                <a:cubicBezTo>
                  <a:pt x="5501" y="13260"/>
                  <a:pt x="5507" y="13241"/>
                  <a:pt x="5507" y="13196"/>
                </a:cubicBezTo>
              </a:path>
              <a:path w="7144" h="1341">
                <a:moveTo>
                  <a:pt x="5879" y="12750"/>
                </a:moveTo>
                <a:cubicBezTo>
                  <a:pt x="5879" y="12824"/>
                  <a:pt x="5857" y="12878"/>
                  <a:pt x="5854" y="12948"/>
                </a:cubicBezTo>
                <a:cubicBezTo>
                  <a:pt x="5849" y="13063"/>
                  <a:pt x="5828" y="13129"/>
                  <a:pt x="5879" y="13246"/>
                </a:cubicBezTo>
                <a:cubicBezTo>
                  <a:pt x="5917" y="13334"/>
                  <a:pt x="5956" y="13363"/>
                  <a:pt x="6028" y="13419"/>
                </a:cubicBezTo>
                <a:cubicBezTo>
                  <a:pt x="6072" y="13453"/>
                  <a:pt x="6137" y="13446"/>
                  <a:pt x="6176" y="13395"/>
                </a:cubicBezTo>
                <a:cubicBezTo>
                  <a:pt x="6203" y="13360"/>
                  <a:pt x="6224" y="13267"/>
                  <a:pt x="6226" y="13221"/>
                </a:cubicBezTo>
                <a:cubicBezTo>
                  <a:pt x="6230" y="13124"/>
                  <a:pt x="6231" y="13037"/>
                  <a:pt x="6201" y="12948"/>
                </a:cubicBezTo>
                <a:cubicBezTo>
                  <a:pt x="6167" y="12848"/>
                  <a:pt x="6134" y="12820"/>
                  <a:pt x="6077" y="12750"/>
                </a:cubicBezTo>
                <a:cubicBezTo>
                  <a:pt x="6049" y="12715"/>
                  <a:pt x="5989" y="12654"/>
                  <a:pt x="5928" y="12675"/>
                </a:cubicBezTo>
                <a:cubicBezTo>
                  <a:pt x="5895" y="12686"/>
                  <a:pt x="5838" y="12739"/>
                  <a:pt x="5829" y="12774"/>
                </a:cubicBezTo>
                <a:cubicBezTo>
                  <a:pt x="5807" y="12857"/>
                  <a:pt x="5816" y="12894"/>
                  <a:pt x="5829" y="12973"/>
                </a:cubicBezTo>
                <a:cubicBezTo>
                  <a:pt x="5829" y="13041"/>
                  <a:pt x="5842" y="13071"/>
                  <a:pt x="5904" y="13097"/>
                </a:cubicBezTo>
              </a:path>
              <a:path w="7144" h="1341">
                <a:moveTo>
                  <a:pt x="6350" y="12998"/>
                </a:moveTo>
                <a:cubicBezTo>
                  <a:pt x="6330" y="13108"/>
                  <a:pt x="6320" y="13190"/>
                  <a:pt x="6350" y="13295"/>
                </a:cubicBezTo>
                <a:cubicBezTo>
                  <a:pt x="6382" y="13406"/>
                  <a:pt x="6445" y="13463"/>
                  <a:pt x="6524" y="13543"/>
                </a:cubicBezTo>
                <a:cubicBezTo>
                  <a:pt x="6571" y="13591"/>
                  <a:pt x="6608" y="13593"/>
                  <a:pt x="6672" y="13593"/>
                </a:cubicBezTo>
                <a:cubicBezTo>
                  <a:pt x="6703" y="13593"/>
                  <a:pt x="6765" y="13505"/>
                  <a:pt x="6772" y="13469"/>
                </a:cubicBezTo>
                <a:cubicBezTo>
                  <a:pt x="6790" y="13370"/>
                  <a:pt x="6801" y="13296"/>
                  <a:pt x="6772" y="13196"/>
                </a:cubicBezTo>
                <a:cubicBezTo>
                  <a:pt x="6742" y="13095"/>
                  <a:pt x="6740" y="13031"/>
                  <a:pt x="6672" y="12948"/>
                </a:cubicBezTo>
                <a:cubicBezTo>
                  <a:pt x="6625" y="12891"/>
                  <a:pt x="6567" y="12855"/>
                  <a:pt x="6499" y="12849"/>
                </a:cubicBezTo>
                <a:cubicBezTo>
                  <a:pt x="6458" y="12846"/>
                  <a:pt x="6390" y="12846"/>
                  <a:pt x="6375" y="12898"/>
                </a:cubicBezTo>
                <a:cubicBezTo>
                  <a:pt x="6359" y="12955"/>
                  <a:pt x="6352" y="12990"/>
                  <a:pt x="6375" y="13047"/>
                </a:cubicBezTo>
                <a:cubicBezTo>
                  <a:pt x="6406" y="13124"/>
                  <a:pt x="6422" y="13116"/>
                  <a:pt x="6499" y="13146"/>
                </a:cubicBezTo>
              </a:path>
              <a:path w="7144" h="1341">
                <a:moveTo>
                  <a:pt x="7094" y="12799"/>
                </a:moveTo>
                <a:cubicBezTo>
                  <a:pt x="7100" y="12915"/>
                  <a:pt x="7110" y="13012"/>
                  <a:pt x="7144" y="13122"/>
                </a:cubicBezTo>
                <a:cubicBezTo>
                  <a:pt x="7172" y="13212"/>
                  <a:pt x="7210" y="13300"/>
                  <a:pt x="7218" y="13395"/>
                </a:cubicBezTo>
                <a:cubicBezTo>
                  <a:pt x="7218" y="13403"/>
                  <a:pt x="7218" y="13411"/>
                  <a:pt x="7218" y="13419"/>
                </a:cubicBezTo>
              </a:path>
              <a:path w="7144" h="1341">
                <a:moveTo>
                  <a:pt x="6995" y="13122"/>
                </a:moveTo>
                <a:cubicBezTo>
                  <a:pt x="7068" y="13107"/>
                  <a:pt x="7094" y="13120"/>
                  <a:pt x="7169" y="13122"/>
                </a:cubicBezTo>
                <a:cubicBezTo>
                  <a:pt x="7210" y="13122"/>
                  <a:pt x="7252" y="13122"/>
                  <a:pt x="7293" y="13122"/>
                </a:cubicBezTo>
              </a:path>
              <a:path w="7144" h="1341">
                <a:moveTo>
                  <a:pt x="7813" y="12700"/>
                </a:moveTo>
                <a:cubicBezTo>
                  <a:pt x="7735" y="12745"/>
                  <a:pt x="7741" y="12781"/>
                  <a:pt x="7689" y="12849"/>
                </a:cubicBezTo>
                <a:cubicBezTo>
                  <a:pt x="7626" y="12930"/>
                  <a:pt x="7598" y="13017"/>
                  <a:pt x="7590" y="13122"/>
                </a:cubicBezTo>
                <a:cubicBezTo>
                  <a:pt x="7578" y="13284"/>
                  <a:pt x="7599" y="13395"/>
                  <a:pt x="7665" y="13543"/>
                </a:cubicBezTo>
                <a:cubicBezTo>
                  <a:pt x="7691" y="13602"/>
                  <a:pt x="7705" y="13606"/>
                  <a:pt x="7764" y="13618"/>
                </a:cubicBezTo>
              </a:path>
              <a:path w="7144" h="1341">
                <a:moveTo>
                  <a:pt x="8012" y="12774"/>
                </a:moveTo>
                <a:cubicBezTo>
                  <a:pt x="8012" y="12831"/>
                  <a:pt x="8001" y="12871"/>
                  <a:pt x="7987" y="12923"/>
                </a:cubicBezTo>
                <a:cubicBezTo>
                  <a:pt x="7970" y="12987"/>
                  <a:pt x="7933" y="13110"/>
                  <a:pt x="7938" y="13171"/>
                </a:cubicBezTo>
                <a:cubicBezTo>
                  <a:pt x="7944" y="13249"/>
                  <a:pt x="7977" y="13325"/>
                  <a:pt x="8012" y="13395"/>
                </a:cubicBezTo>
                <a:cubicBezTo>
                  <a:pt x="8044" y="13458"/>
                  <a:pt x="8096" y="13541"/>
                  <a:pt x="8161" y="13568"/>
                </a:cubicBezTo>
                <a:cubicBezTo>
                  <a:pt x="8191" y="13580"/>
                  <a:pt x="8298" y="13581"/>
                  <a:pt x="8310" y="13543"/>
                </a:cubicBezTo>
                <a:cubicBezTo>
                  <a:pt x="8317" y="13521"/>
                  <a:pt x="8360" y="13406"/>
                  <a:pt x="8359" y="13395"/>
                </a:cubicBezTo>
                <a:cubicBezTo>
                  <a:pt x="8352" y="13344"/>
                  <a:pt x="8332" y="13288"/>
                  <a:pt x="8285" y="13271"/>
                </a:cubicBezTo>
                <a:cubicBezTo>
                  <a:pt x="8259" y="13262"/>
                  <a:pt x="8193" y="13321"/>
                  <a:pt x="8186" y="13345"/>
                </a:cubicBezTo>
                <a:cubicBezTo>
                  <a:pt x="8172" y="13395"/>
                  <a:pt x="8178" y="13483"/>
                  <a:pt x="8210" y="13519"/>
                </a:cubicBezTo>
                <a:cubicBezTo>
                  <a:pt x="8218" y="13527"/>
                  <a:pt x="8227" y="13535"/>
                  <a:pt x="8235" y="13543"/>
                </a:cubicBezTo>
              </a:path>
              <a:path w="7144" h="1341">
                <a:moveTo>
                  <a:pt x="8359" y="13122"/>
                </a:moveTo>
                <a:cubicBezTo>
                  <a:pt x="8499" y="13122"/>
                  <a:pt x="8578" y="13127"/>
                  <a:pt x="8706" y="13072"/>
                </a:cubicBezTo>
              </a:path>
              <a:path w="7144" h="1341">
                <a:moveTo>
                  <a:pt x="8806" y="12973"/>
                </a:moveTo>
                <a:cubicBezTo>
                  <a:pt x="8788" y="13060"/>
                  <a:pt x="8759" y="13179"/>
                  <a:pt x="8781" y="13271"/>
                </a:cubicBezTo>
                <a:cubicBezTo>
                  <a:pt x="8799" y="13345"/>
                  <a:pt x="8826" y="13416"/>
                  <a:pt x="8830" y="13494"/>
                </a:cubicBezTo>
                <a:cubicBezTo>
                  <a:pt x="8830" y="13502"/>
                  <a:pt x="8853" y="13627"/>
                  <a:pt x="8880" y="13618"/>
                </a:cubicBezTo>
                <a:cubicBezTo>
                  <a:pt x="8880" y="13610"/>
                  <a:pt x="8880" y="13601"/>
                  <a:pt x="8880" y="13593"/>
                </a:cubicBezTo>
              </a:path>
              <a:path w="7144" h="1341">
                <a:moveTo>
                  <a:pt x="8781" y="12526"/>
                </a:moveTo>
                <a:cubicBezTo>
                  <a:pt x="8841" y="12550"/>
                  <a:pt x="8889" y="12619"/>
                  <a:pt x="8930" y="12675"/>
                </a:cubicBezTo>
                <a:cubicBezTo>
                  <a:pt x="9009" y="12782"/>
                  <a:pt x="9062" y="12899"/>
                  <a:pt x="9103" y="13022"/>
                </a:cubicBezTo>
                <a:cubicBezTo>
                  <a:pt x="9145" y="13150"/>
                  <a:pt x="9176" y="13283"/>
                  <a:pt x="9153" y="13419"/>
                </a:cubicBezTo>
                <a:cubicBezTo>
                  <a:pt x="9138" y="13508"/>
                  <a:pt x="9074" y="13591"/>
                  <a:pt x="9054" y="13667"/>
                </a:cubicBezTo>
                <a:cubicBezTo>
                  <a:pt x="9043" y="13707"/>
                  <a:pt x="9038" y="13730"/>
                  <a:pt x="9029" y="13767"/>
                </a:cubicBezTo>
              </a:path>
              <a:path w="7144" h="1341">
                <a:moveTo>
                  <a:pt x="9550" y="12750"/>
                </a:moveTo>
                <a:cubicBezTo>
                  <a:pt x="9550" y="12811"/>
                  <a:pt x="9514" y="12814"/>
                  <a:pt x="9500" y="12874"/>
                </a:cubicBezTo>
                <a:cubicBezTo>
                  <a:pt x="9482" y="12948"/>
                  <a:pt x="9468" y="13023"/>
                  <a:pt x="9451" y="13097"/>
                </a:cubicBezTo>
                <a:cubicBezTo>
                  <a:pt x="9424" y="13215"/>
                  <a:pt x="9438" y="13279"/>
                  <a:pt x="9451" y="13395"/>
                </a:cubicBezTo>
                <a:cubicBezTo>
                  <a:pt x="9462" y="13495"/>
                  <a:pt x="9481" y="13574"/>
                  <a:pt x="9525" y="13667"/>
                </a:cubicBezTo>
                <a:cubicBezTo>
                  <a:pt x="9546" y="13712"/>
                  <a:pt x="9566" y="13732"/>
                  <a:pt x="9599" y="13767"/>
                </a:cubicBezTo>
              </a:path>
              <a:path w="7144" h="1341">
                <a:moveTo>
                  <a:pt x="9624" y="13072"/>
                </a:moveTo>
                <a:cubicBezTo>
                  <a:pt x="9652" y="13051"/>
                  <a:pt x="9708" y="13011"/>
                  <a:pt x="9748" y="13022"/>
                </a:cubicBezTo>
                <a:cubicBezTo>
                  <a:pt x="9807" y="13038"/>
                  <a:pt x="9863" y="13057"/>
                  <a:pt x="9922" y="13072"/>
                </a:cubicBezTo>
                <a:cubicBezTo>
                  <a:pt x="9958" y="13081"/>
                  <a:pt x="10009" y="13072"/>
                  <a:pt x="10046" y="13072"/>
                </a:cubicBezTo>
                <a:cubicBezTo>
                  <a:pt x="10024" y="13079"/>
                  <a:pt x="9980" y="13137"/>
                  <a:pt x="9971" y="13171"/>
                </a:cubicBezTo>
                <a:cubicBezTo>
                  <a:pt x="9959" y="13217"/>
                  <a:pt x="9944" y="13357"/>
                  <a:pt x="9947" y="13395"/>
                </a:cubicBezTo>
                <a:cubicBezTo>
                  <a:pt x="9954" y="13476"/>
                  <a:pt x="9979" y="13566"/>
                  <a:pt x="9996" y="13643"/>
                </a:cubicBezTo>
                <a:cubicBezTo>
                  <a:pt x="10006" y="13688"/>
                  <a:pt x="9997" y="13703"/>
                  <a:pt x="10021" y="13742"/>
                </a:cubicBezTo>
                <a:cubicBezTo>
                  <a:pt x="10054" y="13731"/>
                  <a:pt x="10044" y="13728"/>
                  <a:pt x="10071" y="13692"/>
                </a:cubicBezTo>
              </a:path>
              <a:path w="7144" h="1341">
                <a:moveTo>
                  <a:pt x="10269" y="13097"/>
                </a:moveTo>
                <a:cubicBezTo>
                  <a:pt x="10330" y="13075"/>
                  <a:pt x="10405" y="13033"/>
                  <a:pt x="10468" y="13022"/>
                </a:cubicBezTo>
                <a:cubicBezTo>
                  <a:pt x="10536" y="13010"/>
                  <a:pt x="10575" y="12995"/>
                  <a:pt x="10641" y="12973"/>
                </a:cubicBezTo>
              </a:path>
              <a:path w="7144" h="1341">
                <a:moveTo>
                  <a:pt x="10319" y="13122"/>
                </a:moveTo>
                <a:cubicBezTo>
                  <a:pt x="10291" y="13201"/>
                  <a:pt x="10233" y="13276"/>
                  <a:pt x="10294" y="13345"/>
                </a:cubicBezTo>
                <a:cubicBezTo>
                  <a:pt x="10308" y="13361"/>
                  <a:pt x="10401" y="13403"/>
                  <a:pt x="10418" y="13395"/>
                </a:cubicBezTo>
                <a:cubicBezTo>
                  <a:pt x="10445" y="13383"/>
                  <a:pt x="10495" y="13360"/>
                  <a:pt x="10517" y="13345"/>
                </a:cubicBezTo>
                <a:cubicBezTo>
                  <a:pt x="10560" y="13316"/>
                  <a:pt x="10573" y="13306"/>
                  <a:pt x="10616" y="13345"/>
                </a:cubicBezTo>
                <a:cubicBezTo>
                  <a:pt x="10658" y="13383"/>
                  <a:pt x="10641" y="13441"/>
                  <a:pt x="10641" y="13494"/>
                </a:cubicBezTo>
                <a:cubicBezTo>
                  <a:pt x="10641" y="13560"/>
                  <a:pt x="10606" y="13615"/>
                  <a:pt x="10567" y="13667"/>
                </a:cubicBezTo>
                <a:cubicBezTo>
                  <a:pt x="10536" y="13708"/>
                  <a:pt x="10516" y="13717"/>
                  <a:pt x="10468" y="13717"/>
                </a:cubicBezTo>
                <a:cubicBezTo>
                  <a:pt x="10414" y="13717"/>
                  <a:pt x="10358" y="13678"/>
                  <a:pt x="10319" y="13643"/>
                </a:cubicBezTo>
                <a:cubicBezTo>
                  <a:pt x="10288" y="13615"/>
                  <a:pt x="10273" y="13560"/>
                  <a:pt x="10269" y="13519"/>
                </a:cubicBezTo>
                <a:cubicBezTo>
                  <a:pt x="10269" y="13511"/>
                  <a:pt x="10269" y="13502"/>
                  <a:pt x="10269" y="13494"/>
                </a:cubicBezTo>
              </a:path>
              <a:path w="7144" h="1341">
                <a:moveTo>
                  <a:pt x="10790" y="13122"/>
                </a:moveTo>
                <a:cubicBezTo>
                  <a:pt x="10720" y="13348"/>
                  <a:pt x="10712" y="13335"/>
                  <a:pt x="10740" y="13519"/>
                </a:cubicBezTo>
                <a:cubicBezTo>
                  <a:pt x="10751" y="13588"/>
                  <a:pt x="10783" y="13671"/>
                  <a:pt x="10840" y="13717"/>
                </a:cubicBezTo>
                <a:cubicBezTo>
                  <a:pt x="10869" y="13741"/>
                  <a:pt x="10921" y="13703"/>
                  <a:pt x="10939" y="13692"/>
                </a:cubicBezTo>
                <a:cubicBezTo>
                  <a:pt x="11026" y="13641"/>
                  <a:pt x="11015" y="13584"/>
                  <a:pt x="11038" y="13494"/>
                </a:cubicBezTo>
                <a:cubicBezTo>
                  <a:pt x="11062" y="13397"/>
                  <a:pt x="11075" y="13294"/>
                  <a:pt x="11038" y="13196"/>
                </a:cubicBezTo>
                <a:cubicBezTo>
                  <a:pt x="11023" y="13156"/>
                  <a:pt x="10982" y="13102"/>
                  <a:pt x="10939" y="13097"/>
                </a:cubicBezTo>
                <a:cubicBezTo>
                  <a:pt x="10898" y="13092"/>
                  <a:pt x="10867" y="13144"/>
                  <a:pt x="10840" y="13171"/>
                </a:cubicBezTo>
                <a:cubicBezTo>
                  <a:pt x="10795" y="13216"/>
                  <a:pt x="10772" y="13281"/>
                  <a:pt x="10790" y="13345"/>
                </a:cubicBezTo>
                <a:cubicBezTo>
                  <a:pt x="10802" y="13388"/>
                  <a:pt x="10815" y="13436"/>
                  <a:pt x="10840" y="13469"/>
                </a:cubicBezTo>
              </a:path>
              <a:path w="7144" h="1341">
                <a:moveTo>
                  <a:pt x="11212" y="13072"/>
                </a:moveTo>
                <a:cubicBezTo>
                  <a:pt x="11161" y="13123"/>
                  <a:pt x="11166" y="13156"/>
                  <a:pt x="11137" y="13221"/>
                </a:cubicBezTo>
                <a:cubicBezTo>
                  <a:pt x="11108" y="13286"/>
                  <a:pt x="11097" y="13371"/>
                  <a:pt x="11112" y="13444"/>
                </a:cubicBezTo>
                <a:cubicBezTo>
                  <a:pt x="11129" y="13523"/>
                  <a:pt x="11176" y="13596"/>
                  <a:pt x="11212" y="13667"/>
                </a:cubicBezTo>
                <a:cubicBezTo>
                  <a:pt x="11241" y="13725"/>
                  <a:pt x="11304" y="13754"/>
                  <a:pt x="11361" y="13692"/>
                </a:cubicBezTo>
                <a:cubicBezTo>
                  <a:pt x="11428" y="13618"/>
                  <a:pt x="11472" y="13515"/>
                  <a:pt x="11485" y="13419"/>
                </a:cubicBezTo>
                <a:cubicBezTo>
                  <a:pt x="11494" y="13348"/>
                  <a:pt x="11463" y="13260"/>
                  <a:pt x="11435" y="13196"/>
                </a:cubicBezTo>
                <a:cubicBezTo>
                  <a:pt x="11405" y="13129"/>
                  <a:pt x="11353" y="13103"/>
                  <a:pt x="11286" y="13097"/>
                </a:cubicBezTo>
                <a:cubicBezTo>
                  <a:pt x="11241" y="13093"/>
                  <a:pt x="11217" y="13098"/>
                  <a:pt x="11212" y="13146"/>
                </a:cubicBezTo>
                <a:cubicBezTo>
                  <a:pt x="11212" y="13171"/>
                  <a:pt x="11212" y="13179"/>
                  <a:pt x="11212" y="13196"/>
                </a:cubicBezTo>
              </a:path>
              <a:path w="7144" h="1341">
                <a:moveTo>
                  <a:pt x="11435" y="12650"/>
                </a:moveTo>
                <a:cubicBezTo>
                  <a:pt x="11513" y="12740"/>
                  <a:pt x="11555" y="12830"/>
                  <a:pt x="11584" y="12948"/>
                </a:cubicBezTo>
                <a:cubicBezTo>
                  <a:pt x="11627" y="13124"/>
                  <a:pt x="11633" y="13288"/>
                  <a:pt x="11633" y="13469"/>
                </a:cubicBezTo>
                <a:cubicBezTo>
                  <a:pt x="11633" y="13622"/>
                  <a:pt x="11613" y="13686"/>
                  <a:pt x="11534" y="13791"/>
                </a:cubicBezTo>
                <a:cubicBezTo>
                  <a:pt x="11506" y="13848"/>
                  <a:pt x="11490" y="13867"/>
                  <a:pt x="11435" y="13866"/>
                </a:cubicBezTo>
              </a:path>
              <a:path w="7144" h="1341">
                <a:moveTo>
                  <a:pt x="9500" y="13171"/>
                </a:moveTo>
                <a:cubicBezTo>
                  <a:pt x="9527" y="13164"/>
                  <a:pt x="9574" y="13158"/>
                  <a:pt x="9599" y="13146"/>
                </a:cubicBezTo>
                <a:cubicBezTo>
                  <a:pt x="9639" y="13126"/>
                  <a:pt x="9675" y="13083"/>
                  <a:pt x="9723" y="13072"/>
                </a:cubicBezTo>
                <a:cubicBezTo>
                  <a:pt x="9771" y="13061"/>
                  <a:pt x="9804" y="13058"/>
                  <a:pt x="9847" y="13047"/>
                </a:cubicBezTo>
                <a:cubicBezTo>
                  <a:pt x="9855" y="13047"/>
                  <a:pt x="9864" y="13047"/>
                  <a:pt x="9872" y="13047"/>
                </a:cubicBezTo>
                <a:cubicBezTo>
                  <a:pt x="9935" y="12984"/>
                  <a:pt x="9816" y="13081"/>
                  <a:pt x="9798" y="13097"/>
                </a:cubicBezTo>
                <a:cubicBezTo>
                  <a:pt x="9751" y="13139"/>
                  <a:pt x="9725" y="13137"/>
                  <a:pt x="9674" y="13171"/>
                </a:cubicBezTo>
                <a:cubicBezTo>
                  <a:pt x="9640" y="13194"/>
                  <a:pt x="9638" y="13211"/>
                  <a:pt x="9599" y="13221"/>
                </a:cubicBezTo>
                <a:cubicBezTo>
                  <a:pt x="9599" y="13279"/>
                  <a:pt x="9613" y="13187"/>
                  <a:pt x="9624" y="13171"/>
                </a:cubicBezTo>
                <a:cubicBezTo>
                  <a:pt x="9652" y="13129"/>
                  <a:pt x="9690" y="13127"/>
                  <a:pt x="9723" y="13097"/>
                </a:cubicBezTo>
                <a:cubicBezTo>
                  <a:pt x="9775" y="13050"/>
                  <a:pt x="9823" y="12998"/>
                  <a:pt x="9872" y="12948"/>
                </a:cubicBezTo>
                <a:cubicBezTo>
                  <a:pt x="9896" y="12979"/>
                  <a:pt x="9912" y="13031"/>
                  <a:pt x="9922" y="13072"/>
                </a:cubicBezTo>
                <a:cubicBezTo>
                  <a:pt x="9945" y="13171"/>
                  <a:pt x="9930" y="13296"/>
                  <a:pt x="9947" y="13395"/>
                </a:cubicBezTo>
                <a:cubicBezTo>
                  <a:pt x="9959" y="13469"/>
                  <a:pt x="9958" y="13553"/>
                  <a:pt x="9971" y="13618"/>
                </a:cubicBezTo>
                <a:cubicBezTo>
                  <a:pt x="9981" y="13668"/>
                  <a:pt x="9987" y="13725"/>
                  <a:pt x="9996" y="13767"/>
                </a:cubicBezTo>
                <a:cubicBezTo>
                  <a:pt x="10006" y="13813"/>
                  <a:pt x="9976" y="13826"/>
                  <a:pt x="10021" y="13841"/>
                </a:cubicBezTo>
                <a:cubicBezTo>
                  <a:pt x="10021" y="13912"/>
                  <a:pt x="10025" y="13797"/>
                  <a:pt x="10021" y="13791"/>
                </a:cubicBezTo>
                <a:cubicBezTo>
                  <a:pt x="9997" y="13749"/>
                  <a:pt x="9933" y="13728"/>
                  <a:pt x="9897" y="13717"/>
                </a:cubicBezTo>
                <a:cubicBezTo>
                  <a:pt x="9857" y="13705"/>
                  <a:pt x="9785" y="13707"/>
                  <a:pt x="9748" y="13692"/>
                </a:cubicBezTo>
                <a:cubicBezTo>
                  <a:pt x="9706" y="13674"/>
                  <a:pt x="9701" y="13667"/>
                  <a:pt x="9649" y="13667"/>
                </a:cubicBezTo>
                <a:cubicBezTo>
                  <a:pt x="9666" y="13718"/>
                  <a:pt x="9678" y="13673"/>
                  <a:pt x="9723" y="13692"/>
                </a:cubicBezTo>
                <a:cubicBezTo>
                  <a:pt x="9791" y="13720"/>
                  <a:pt x="9870" y="13739"/>
                  <a:pt x="9947" y="13767"/>
                </a:cubicBezTo>
                <a:cubicBezTo>
                  <a:pt x="10008" y="13790"/>
                  <a:pt x="10090" y="13790"/>
                  <a:pt x="10145" y="13816"/>
                </a:cubicBezTo>
                <a:cubicBezTo>
                  <a:pt x="10168" y="13839"/>
                  <a:pt x="10176" y="13843"/>
                  <a:pt x="10170" y="13866"/>
                </a:cubicBezTo>
                <a:cubicBezTo>
                  <a:pt x="10081" y="13866"/>
                  <a:pt x="10005" y="13855"/>
                  <a:pt x="9922" y="13841"/>
                </a:cubicBezTo>
                <a:cubicBezTo>
                  <a:pt x="9896" y="13837"/>
                  <a:pt x="9721" y="13841"/>
                  <a:pt x="9773" y="13841"/>
                </a:cubicBezTo>
                <a:cubicBezTo>
                  <a:pt x="9840" y="13841"/>
                  <a:pt x="9886" y="13826"/>
                  <a:pt x="9947" y="13816"/>
                </a:cubicBezTo>
                <a:cubicBezTo>
                  <a:pt x="10026" y="13803"/>
                  <a:pt x="10100" y="13814"/>
                  <a:pt x="10170" y="13791"/>
                </a:cubicBezTo>
                <a:cubicBezTo>
                  <a:pt x="10227" y="13772"/>
                  <a:pt x="10226" y="13810"/>
                  <a:pt x="10170" y="13816"/>
                </a:cubicBezTo>
                <a:cubicBezTo>
                  <a:pt x="10145" y="13816"/>
                  <a:pt x="10137" y="13816"/>
                  <a:pt x="10120" y="1381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965160" y="4956120"/>
            <a:ext cx="1374840" cy="509760"/>
          </a:xfrm>
          <a:custGeom>
            <a:avLst/>
            <a:gdLst/>
            <a:ahLst/>
            <a:rect l="l" t="t" r="r" b="b"/>
            <a:pathLst>
              <a:path w="3821" h="1414">
                <a:moveTo>
                  <a:pt x="3175" y="14039"/>
                </a:moveTo>
                <a:cubicBezTo>
                  <a:pt x="3146" y="14077"/>
                  <a:pt x="3150" y="14090"/>
                  <a:pt x="3150" y="14139"/>
                </a:cubicBezTo>
                <a:cubicBezTo>
                  <a:pt x="3150" y="14077"/>
                  <a:pt x="3140" y="14048"/>
                  <a:pt x="3125" y="13990"/>
                </a:cubicBezTo>
                <a:cubicBezTo>
                  <a:pt x="3113" y="13943"/>
                  <a:pt x="3104" y="13883"/>
                  <a:pt x="3076" y="13841"/>
                </a:cubicBezTo>
                <a:cubicBezTo>
                  <a:pt x="3056" y="13811"/>
                  <a:pt x="3039" y="13775"/>
                  <a:pt x="3001" y="13767"/>
                </a:cubicBezTo>
                <a:cubicBezTo>
                  <a:pt x="2966" y="13760"/>
                  <a:pt x="2898" y="13786"/>
                  <a:pt x="2877" y="13816"/>
                </a:cubicBezTo>
                <a:cubicBezTo>
                  <a:pt x="2822" y="13898"/>
                  <a:pt x="2769" y="13960"/>
                  <a:pt x="2729" y="14064"/>
                </a:cubicBezTo>
                <a:cubicBezTo>
                  <a:pt x="2698" y="14146"/>
                  <a:pt x="2657" y="14247"/>
                  <a:pt x="2679" y="14337"/>
                </a:cubicBezTo>
                <a:cubicBezTo>
                  <a:pt x="2699" y="14422"/>
                  <a:pt x="2714" y="14457"/>
                  <a:pt x="2778" y="14511"/>
                </a:cubicBezTo>
                <a:cubicBezTo>
                  <a:pt x="2815" y="14543"/>
                  <a:pt x="2843" y="14584"/>
                  <a:pt x="2902" y="14560"/>
                </a:cubicBezTo>
                <a:cubicBezTo>
                  <a:pt x="2945" y="14542"/>
                  <a:pt x="2982" y="14473"/>
                  <a:pt x="3001" y="14436"/>
                </a:cubicBezTo>
                <a:cubicBezTo>
                  <a:pt x="3028" y="14386"/>
                  <a:pt x="3059" y="14318"/>
                  <a:pt x="3076" y="14263"/>
                </a:cubicBezTo>
                <a:cubicBezTo>
                  <a:pt x="3089" y="14220"/>
                  <a:pt x="3070" y="14229"/>
                  <a:pt x="3101" y="14188"/>
                </a:cubicBezTo>
                <a:cubicBezTo>
                  <a:pt x="3101" y="14129"/>
                  <a:pt x="3071" y="14253"/>
                  <a:pt x="3076" y="14312"/>
                </a:cubicBezTo>
                <a:cubicBezTo>
                  <a:pt x="3082" y="14385"/>
                  <a:pt x="3114" y="14465"/>
                  <a:pt x="3125" y="14536"/>
                </a:cubicBezTo>
                <a:cubicBezTo>
                  <a:pt x="3136" y="14606"/>
                  <a:pt x="3153" y="14667"/>
                  <a:pt x="3225" y="14684"/>
                </a:cubicBezTo>
              </a:path>
              <a:path w="3821" h="1414">
                <a:moveTo>
                  <a:pt x="3349" y="14486"/>
                </a:moveTo>
                <a:cubicBezTo>
                  <a:pt x="3324" y="14568"/>
                  <a:pt x="3272" y="14689"/>
                  <a:pt x="3299" y="14784"/>
                </a:cubicBezTo>
                <a:cubicBezTo>
                  <a:pt x="3312" y="14830"/>
                  <a:pt x="3331" y="14924"/>
                  <a:pt x="3373" y="14957"/>
                </a:cubicBezTo>
                <a:cubicBezTo>
                  <a:pt x="3403" y="14980"/>
                  <a:pt x="3477" y="14949"/>
                  <a:pt x="3497" y="14932"/>
                </a:cubicBezTo>
                <a:cubicBezTo>
                  <a:pt x="3527" y="14905"/>
                  <a:pt x="3537" y="14842"/>
                  <a:pt x="3547" y="14808"/>
                </a:cubicBezTo>
                <a:cubicBezTo>
                  <a:pt x="3556" y="14779"/>
                  <a:pt x="3533" y="14739"/>
                  <a:pt x="3522" y="14734"/>
                </a:cubicBezTo>
                <a:cubicBezTo>
                  <a:pt x="3514" y="14734"/>
                  <a:pt x="3505" y="14734"/>
                  <a:pt x="3497" y="14734"/>
                </a:cubicBezTo>
                <a:cubicBezTo>
                  <a:pt x="3486" y="14768"/>
                  <a:pt x="3463" y="14765"/>
                  <a:pt x="3448" y="14808"/>
                </a:cubicBezTo>
                <a:cubicBezTo>
                  <a:pt x="3441" y="14830"/>
                  <a:pt x="3448" y="14889"/>
                  <a:pt x="3448" y="14908"/>
                </a:cubicBezTo>
              </a:path>
              <a:path w="3821" h="1414">
                <a:moveTo>
                  <a:pt x="3671" y="14312"/>
                </a:moveTo>
                <a:cubicBezTo>
                  <a:pt x="3744" y="14293"/>
                  <a:pt x="3802" y="14269"/>
                  <a:pt x="3870" y="14263"/>
                </a:cubicBezTo>
                <a:cubicBezTo>
                  <a:pt x="3894" y="14263"/>
                  <a:pt x="3903" y="14263"/>
                  <a:pt x="3919" y="14263"/>
                </a:cubicBezTo>
              </a:path>
              <a:path w="3821" h="1414">
                <a:moveTo>
                  <a:pt x="3721" y="14461"/>
                </a:moveTo>
                <a:cubicBezTo>
                  <a:pt x="3810" y="14488"/>
                  <a:pt x="3833" y="14494"/>
                  <a:pt x="3919" y="14461"/>
                </a:cubicBezTo>
              </a:path>
              <a:path w="3821" h="1414">
                <a:moveTo>
                  <a:pt x="4192" y="14039"/>
                </a:moveTo>
                <a:cubicBezTo>
                  <a:pt x="4192" y="14086"/>
                  <a:pt x="4175" y="14102"/>
                  <a:pt x="4167" y="14139"/>
                </a:cubicBezTo>
                <a:cubicBezTo>
                  <a:pt x="4152" y="14209"/>
                  <a:pt x="4154" y="14351"/>
                  <a:pt x="4192" y="14412"/>
                </a:cubicBezTo>
                <a:cubicBezTo>
                  <a:pt x="4229" y="14471"/>
                  <a:pt x="4308" y="14506"/>
                  <a:pt x="4366" y="14536"/>
                </a:cubicBezTo>
                <a:cubicBezTo>
                  <a:pt x="4441" y="14575"/>
                  <a:pt x="4476" y="14561"/>
                  <a:pt x="4539" y="14511"/>
                </a:cubicBezTo>
              </a:path>
              <a:path w="3821" h="1414">
                <a:moveTo>
                  <a:pt x="4440" y="14039"/>
                </a:moveTo>
                <a:cubicBezTo>
                  <a:pt x="4403" y="14213"/>
                  <a:pt x="4390" y="14338"/>
                  <a:pt x="4390" y="14511"/>
                </a:cubicBezTo>
                <a:cubicBezTo>
                  <a:pt x="4390" y="14606"/>
                  <a:pt x="4378" y="14697"/>
                  <a:pt x="4415" y="14784"/>
                </a:cubicBezTo>
                <a:cubicBezTo>
                  <a:pt x="4442" y="14848"/>
                  <a:pt x="4433" y="14876"/>
                  <a:pt x="4490" y="14833"/>
                </a:cubicBezTo>
              </a:path>
              <a:path w="3821" h="1414">
                <a:moveTo>
                  <a:pt x="4589" y="14139"/>
                </a:moveTo>
                <a:cubicBezTo>
                  <a:pt x="4577" y="14186"/>
                  <a:pt x="4546" y="14236"/>
                  <a:pt x="4539" y="14288"/>
                </a:cubicBezTo>
                <a:cubicBezTo>
                  <a:pt x="4529" y="14365"/>
                  <a:pt x="4497" y="14456"/>
                  <a:pt x="4514" y="14536"/>
                </a:cubicBezTo>
                <a:cubicBezTo>
                  <a:pt x="4529" y="14606"/>
                  <a:pt x="4573" y="14699"/>
                  <a:pt x="4614" y="14759"/>
                </a:cubicBezTo>
                <a:cubicBezTo>
                  <a:pt x="4627" y="14778"/>
                  <a:pt x="4742" y="14808"/>
                  <a:pt x="4762" y="14784"/>
                </a:cubicBezTo>
                <a:cubicBezTo>
                  <a:pt x="4833" y="14700"/>
                  <a:pt x="4837" y="14612"/>
                  <a:pt x="4837" y="14511"/>
                </a:cubicBezTo>
                <a:cubicBezTo>
                  <a:pt x="4837" y="14420"/>
                  <a:pt x="4846" y="14339"/>
                  <a:pt x="4787" y="14263"/>
                </a:cubicBezTo>
                <a:cubicBezTo>
                  <a:pt x="4738" y="14200"/>
                  <a:pt x="4707" y="14159"/>
                  <a:pt x="4638" y="14139"/>
                </a:cubicBezTo>
                <a:cubicBezTo>
                  <a:pt x="4605" y="14129"/>
                  <a:pt x="4566" y="14167"/>
                  <a:pt x="4564" y="14188"/>
                </a:cubicBezTo>
                <a:cubicBezTo>
                  <a:pt x="4559" y="14249"/>
                  <a:pt x="4565" y="14257"/>
                  <a:pt x="4589" y="14312"/>
                </a:cubicBezTo>
              </a:path>
              <a:path w="3821" h="1414">
                <a:moveTo>
                  <a:pt x="4887" y="15032"/>
                </a:moveTo>
                <a:cubicBezTo>
                  <a:pt x="4860" y="15176"/>
                  <a:pt x="4833" y="15173"/>
                  <a:pt x="4887" y="15156"/>
                </a:cubicBezTo>
              </a:path>
              <a:path w="3821" h="1414">
                <a:moveTo>
                  <a:pt x="5184" y="14362"/>
                </a:moveTo>
                <a:cubicBezTo>
                  <a:pt x="5184" y="14252"/>
                  <a:pt x="5143" y="14401"/>
                  <a:pt x="5135" y="14436"/>
                </a:cubicBezTo>
                <a:cubicBezTo>
                  <a:pt x="5116" y="14517"/>
                  <a:pt x="5127" y="14636"/>
                  <a:pt x="5159" y="14709"/>
                </a:cubicBezTo>
                <a:cubicBezTo>
                  <a:pt x="5182" y="14761"/>
                  <a:pt x="5209" y="14825"/>
                  <a:pt x="5259" y="14858"/>
                </a:cubicBezTo>
                <a:cubicBezTo>
                  <a:pt x="5343" y="14913"/>
                  <a:pt x="5395" y="14854"/>
                  <a:pt x="5432" y="14784"/>
                </a:cubicBezTo>
                <a:cubicBezTo>
                  <a:pt x="5460" y="14731"/>
                  <a:pt x="5487" y="14591"/>
                  <a:pt x="5482" y="14536"/>
                </a:cubicBezTo>
                <a:cubicBezTo>
                  <a:pt x="5475" y="14461"/>
                  <a:pt x="5442" y="14382"/>
                  <a:pt x="5407" y="14312"/>
                </a:cubicBezTo>
                <a:cubicBezTo>
                  <a:pt x="5378" y="14254"/>
                  <a:pt x="5353" y="14218"/>
                  <a:pt x="5283" y="14213"/>
                </a:cubicBezTo>
                <a:cubicBezTo>
                  <a:pt x="5215" y="14208"/>
                  <a:pt x="5176" y="14236"/>
                  <a:pt x="5135" y="14288"/>
                </a:cubicBezTo>
                <a:cubicBezTo>
                  <a:pt x="5103" y="14328"/>
                  <a:pt x="5072" y="14486"/>
                  <a:pt x="5085" y="14536"/>
                </a:cubicBezTo>
                <a:cubicBezTo>
                  <a:pt x="5106" y="14613"/>
                  <a:pt x="5137" y="14675"/>
                  <a:pt x="5184" y="14734"/>
                </a:cubicBezTo>
              </a:path>
              <a:path w="3821" h="1414">
                <a:moveTo>
                  <a:pt x="5631" y="14312"/>
                </a:moveTo>
                <a:cubicBezTo>
                  <a:pt x="5571" y="14431"/>
                  <a:pt x="5556" y="14479"/>
                  <a:pt x="5556" y="14610"/>
                </a:cubicBezTo>
                <a:cubicBezTo>
                  <a:pt x="5556" y="14742"/>
                  <a:pt x="5589" y="14803"/>
                  <a:pt x="5655" y="14908"/>
                </a:cubicBezTo>
                <a:cubicBezTo>
                  <a:pt x="5704" y="14986"/>
                  <a:pt x="5757" y="15064"/>
                  <a:pt x="5854" y="15007"/>
                </a:cubicBezTo>
                <a:cubicBezTo>
                  <a:pt x="5946" y="14953"/>
                  <a:pt x="5931" y="14928"/>
                  <a:pt x="5953" y="14833"/>
                </a:cubicBezTo>
                <a:cubicBezTo>
                  <a:pt x="5981" y="14715"/>
                  <a:pt x="5985" y="14632"/>
                  <a:pt x="5953" y="14511"/>
                </a:cubicBezTo>
                <a:cubicBezTo>
                  <a:pt x="5926" y="14412"/>
                  <a:pt x="5883" y="14308"/>
                  <a:pt x="5804" y="14238"/>
                </a:cubicBezTo>
                <a:cubicBezTo>
                  <a:pt x="5766" y="14204"/>
                  <a:pt x="5682" y="14171"/>
                  <a:pt x="5631" y="14188"/>
                </a:cubicBezTo>
                <a:cubicBezTo>
                  <a:pt x="5590" y="14202"/>
                  <a:pt x="5522" y="14260"/>
                  <a:pt x="5531" y="14312"/>
                </a:cubicBezTo>
                <a:cubicBezTo>
                  <a:pt x="5536" y="14340"/>
                  <a:pt x="5565" y="14385"/>
                  <a:pt x="5581" y="14412"/>
                </a:cubicBezTo>
              </a:path>
              <a:path w="3821" h="1414">
                <a:moveTo>
                  <a:pt x="6102" y="14337"/>
                </a:moveTo>
                <a:cubicBezTo>
                  <a:pt x="6049" y="14411"/>
                  <a:pt x="5970" y="14514"/>
                  <a:pt x="5978" y="14610"/>
                </a:cubicBezTo>
                <a:cubicBezTo>
                  <a:pt x="5984" y="14686"/>
                  <a:pt x="6046" y="14785"/>
                  <a:pt x="6102" y="14833"/>
                </a:cubicBezTo>
                <a:cubicBezTo>
                  <a:pt x="6220" y="14934"/>
                  <a:pt x="6265" y="14926"/>
                  <a:pt x="6375" y="14858"/>
                </a:cubicBezTo>
                <a:cubicBezTo>
                  <a:pt x="6430" y="14824"/>
                  <a:pt x="6487" y="14754"/>
                  <a:pt x="6499" y="14684"/>
                </a:cubicBezTo>
                <a:cubicBezTo>
                  <a:pt x="6510" y="14620"/>
                  <a:pt x="6469" y="14462"/>
                  <a:pt x="6424" y="14412"/>
                </a:cubicBezTo>
                <a:cubicBezTo>
                  <a:pt x="6356" y="14336"/>
                  <a:pt x="6266" y="14302"/>
                  <a:pt x="6176" y="14263"/>
                </a:cubicBezTo>
                <a:cubicBezTo>
                  <a:pt x="6128" y="14239"/>
                  <a:pt x="6114" y="14230"/>
                  <a:pt x="6077" y="142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133960" y="4894200"/>
            <a:ext cx="295200" cy="793800"/>
          </a:xfrm>
          <a:custGeom>
            <a:avLst/>
            <a:gdLst/>
            <a:ahLst/>
            <a:rect l="l" t="t" r="r" b="b"/>
            <a:pathLst>
              <a:path w="819" h="2209">
                <a:moveTo>
                  <a:pt x="15081" y="13593"/>
                </a:moveTo>
                <a:cubicBezTo>
                  <a:pt x="15010" y="13605"/>
                  <a:pt x="14999" y="13612"/>
                  <a:pt x="14932" y="13643"/>
                </a:cubicBezTo>
                <a:cubicBezTo>
                  <a:pt x="14826" y="13693"/>
                  <a:pt x="14772" y="13769"/>
                  <a:pt x="14684" y="13841"/>
                </a:cubicBezTo>
                <a:cubicBezTo>
                  <a:pt x="14567" y="13936"/>
                  <a:pt x="14488" y="14026"/>
                  <a:pt x="14387" y="14139"/>
                </a:cubicBezTo>
                <a:cubicBezTo>
                  <a:pt x="14337" y="14188"/>
                  <a:pt x="14320" y="14204"/>
                  <a:pt x="14288" y="14238"/>
                </a:cubicBezTo>
                <a:cubicBezTo>
                  <a:pt x="14343" y="14231"/>
                  <a:pt x="14384" y="14197"/>
                  <a:pt x="14436" y="14188"/>
                </a:cubicBezTo>
                <a:cubicBezTo>
                  <a:pt x="14529" y="14172"/>
                  <a:pt x="14622" y="14182"/>
                  <a:pt x="14709" y="14188"/>
                </a:cubicBezTo>
                <a:cubicBezTo>
                  <a:pt x="14815" y="14196"/>
                  <a:pt x="14850" y="14254"/>
                  <a:pt x="14858" y="14362"/>
                </a:cubicBezTo>
                <a:cubicBezTo>
                  <a:pt x="14869" y="14505"/>
                  <a:pt x="14745" y="14684"/>
                  <a:pt x="14684" y="14808"/>
                </a:cubicBezTo>
                <a:cubicBezTo>
                  <a:pt x="14595" y="14988"/>
                  <a:pt x="14498" y="15163"/>
                  <a:pt x="14387" y="15329"/>
                </a:cubicBezTo>
                <a:cubicBezTo>
                  <a:pt x="14351" y="15383"/>
                  <a:pt x="14264" y="15452"/>
                  <a:pt x="14263" y="15453"/>
                </a:cubicBezTo>
              </a:path>
              <a:path w="819" h="2209">
                <a:moveTo>
                  <a:pt x="14536" y="13692"/>
                </a:moveTo>
                <a:cubicBezTo>
                  <a:pt x="14536" y="13891"/>
                  <a:pt x="14501" y="14067"/>
                  <a:pt x="14486" y="14263"/>
                </a:cubicBezTo>
                <a:cubicBezTo>
                  <a:pt x="14469" y="14486"/>
                  <a:pt x="14426" y="14709"/>
                  <a:pt x="14412" y="14932"/>
                </a:cubicBezTo>
                <a:cubicBezTo>
                  <a:pt x="14401" y="15116"/>
                  <a:pt x="14375" y="15376"/>
                  <a:pt x="14436" y="15553"/>
                </a:cubicBezTo>
                <a:cubicBezTo>
                  <a:pt x="14497" y="15728"/>
                  <a:pt x="14511" y="15430"/>
                  <a:pt x="14511" y="15429"/>
                </a:cubicBezTo>
              </a:path>
              <a:path w="819" h="2209">
                <a:moveTo>
                  <a:pt x="14709" y="13593"/>
                </a:moveTo>
                <a:cubicBezTo>
                  <a:pt x="14684" y="13777"/>
                  <a:pt x="14684" y="13952"/>
                  <a:pt x="14684" y="14139"/>
                </a:cubicBezTo>
                <a:cubicBezTo>
                  <a:pt x="14684" y="14531"/>
                  <a:pt x="14692" y="14895"/>
                  <a:pt x="14759" y="15280"/>
                </a:cubicBezTo>
                <a:cubicBezTo>
                  <a:pt x="14807" y="15547"/>
                  <a:pt x="14821" y="15632"/>
                  <a:pt x="14883" y="1580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5626080" y="4795920"/>
            <a:ext cx="1589040" cy="588960"/>
          </a:xfrm>
          <a:custGeom>
            <a:avLst/>
            <a:gdLst/>
            <a:ahLst/>
            <a:rect l="l" t="t" r="r" b="b"/>
            <a:pathLst>
              <a:path w="4416" h="1638">
                <a:moveTo>
                  <a:pt x="15900" y="13841"/>
                </a:moveTo>
                <a:cubicBezTo>
                  <a:pt x="15871" y="13837"/>
                  <a:pt x="15832" y="13835"/>
                  <a:pt x="15825" y="13816"/>
                </a:cubicBezTo>
                <a:cubicBezTo>
                  <a:pt x="15807" y="13771"/>
                  <a:pt x="15846" y="13723"/>
                  <a:pt x="15850" y="13692"/>
                </a:cubicBezTo>
                <a:cubicBezTo>
                  <a:pt x="15862" y="13608"/>
                  <a:pt x="15869" y="13558"/>
                  <a:pt x="15925" y="13494"/>
                </a:cubicBezTo>
                <a:cubicBezTo>
                  <a:pt x="15965" y="13449"/>
                  <a:pt x="16013" y="13387"/>
                  <a:pt x="16073" y="13370"/>
                </a:cubicBezTo>
                <a:cubicBezTo>
                  <a:pt x="16122" y="13356"/>
                  <a:pt x="16194" y="13335"/>
                  <a:pt x="16247" y="13345"/>
                </a:cubicBezTo>
                <a:cubicBezTo>
                  <a:pt x="16322" y="13359"/>
                  <a:pt x="16387" y="13432"/>
                  <a:pt x="16421" y="13494"/>
                </a:cubicBezTo>
                <a:cubicBezTo>
                  <a:pt x="16461" y="13569"/>
                  <a:pt x="16446" y="13661"/>
                  <a:pt x="16446" y="13742"/>
                </a:cubicBezTo>
                <a:cubicBezTo>
                  <a:pt x="16446" y="13879"/>
                  <a:pt x="16395" y="14036"/>
                  <a:pt x="16346" y="14163"/>
                </a:cubicBezTo>
                <a:cubicBezTo>
                  <a:pt x="16304" y="14272"/>
                  <a:pt x="16235" y="14388"/>
                  <a:pt x="16173" y="14486"/>
                </a:cubicBezTo>
                <a:cubicBezTo>
                  <a:pt x="16122" y="14566"/>
                  <a:pt x="16049" y="14675"/>
                  <a:pt x="15974" y="14734"/>
                </a:cubicBezTo>
                <a:cubicBezTo>
                  <a:pt x="15897" y="14795"/>
                  <a:pt x="15884" y="14828"/>
                  <a:pt x="15776" y="14833"/>
                </a:cubicBezTo>
                <a:cubicBezTo>
                  <a:pt x="15727" y="14835"/>
                  <a:pt x="15733" y="14842"/>
                  <a:pt x="15677" y="14808"/>
                </a:cubicBezTo>
                <a:cubicBezTo>
                  <a:pt x="15667" y="14802"/>
                  <a:pt x="15626" y="14759"/>
                  <a:pt x="15627" y="14734"/>
                </a:cubicBezTo>
                <a:cubicBezTo>
                  <a:pt x="15628" y="14710"/>
                  <a:pt x="15639" y="14631"/>
                  <a:pt x="15652" y="14610"/>
                </a:cubicBezTo>
                <a:cubicBezTo>
                  <a:pt x="15683" y="14559"/>
                  <a:pt x="15732" y="14557"/>
                  <a:pt x="15776" y="14536"/>
                </a:cubicBezTo>
                <a:cubicBezTo>
                  <a:pt x="15825" y="14513"/>
                  <a:pt x="15841" y="14509"/>
                  <a:pt x="15900" y="14536"/>
                </a:cubicBezTo>
                <a:cubicBezTo>
                  <a:pt x="15957" y="14562"/>
                  <a:pt x="16032" y="14644"/>
                  <a:pt x="16049" y="14709"/>
                </a:cubicBezTo>
                <a:cubicBezTo>
                  <a:pt x="16066" y="14773"/>
                  <a:pt x="16057" y="14844"/>
                  <a:pt x="16073" y="14908"/>
                </a:cubicBezTo>
                <a:cubicBezTo>
                  <a:pt x="16081" y="14940"/>
                  <a:pt x="16114" y="14946"/>
                  <a:pt x="16123" y="14957"/>
                </a:cubicBezTo>
              </a:path>
              <a:path w="4416" h="1638">
                <a:moveTo>
                  <a:pt x="16619" y="13568"/>
                </a:moveTo>
                <a:cubicBezTo>
                  <a:pt x="16600" y="13766"/>
                  <a:pt x="16598" y="13968"/>
                  <a:pt x="16570" y="14163"/>
                </a:cubicBezTo>
                <a:cubicBezTo>
                  <a:pt x="16549" y="14304"/>
                  <a:pt x="16524" y="14442"/>
                  <a:pt x="16520" y="14585"/>
                </a:cubicBezTo>
                <a:cubicBezTo>
                  <a:pt x="16518" y="14658"/>
                  <a:pt x="16467" y="14786"/>
                  <a:pt x="16495" y="14858"/>
                </a:cubicBezTo>
                <a:cubicBezTo>
                  <a:pt x="16503" y="14866"/>
                  <a:pt x="16512" y="14875"/>
                  <a:pt x="16520" y="14883"/>
                </a:cubicBezTo>
              </a:path>
              <a:path w="4416" h="1638">
                <a:moveTo>
                  <a:pt x="16818" y="13742"/>
                </a:moveTo>
                <a:cubicBezTo>
                  <a:pt x="16833" y="13752"/>
                  <a:pt x="16880" y="13793"/>
                  <a:pt x="16917" y="13791"/>
                </a:cubicBezTo>
                <a:cubicBezTo>
                  <a:pt x="16957" y="13789"/>
                  <a:pt x="17028" y="13765"/>
                  <a:pt x="17066" y="13742"/>
                </a:cubicBezTo>
                <a:cubicBezTo>
                  <a:pt x="17120" y="13708"/>
                  <a:pt x="17186" y="13679"/>
                  <a:pt x="17239" y="13643"/>
                </a:cubicBezTo>
                <a:cubicBezTo>
                  <a:pt x="17276" y="13618"/>
                  <a:pt x="17299" y="13584"/>
                  <a:pt x="17338" y="13568"/>
                </a:cubicBezTo>
                <a:cubicBezTo>
                  <a:pt x="17346" y="13568"/>
                  <a:pt x="17355" y="13568"/>
                  <a:pt x="17363" y="13568"/>
                </a:cubicBezTo>
                <a:cubicBezTo>
                  <a:pt x="17345" y="13597"/>
                  <a:pt x="17356" y="13606"/>
                  <a:pt x="17338" y="13643"/>
                </a:cubicBezTo>
                <a:cubicBezTo>
                  <a:pt x="17308" y="13704"/>
                  <a:pt x="17313" y="13752"/>
                  <a:pt x="17289" y="13816"/>
                </a:cubicBezTo>
                <a:cubicBezTo>
                  <a:pt x="17246" y="13931"/>
                  <a:pt x="17239" y="14021"/>
                  <a:pt x="17214" y="14139"/>
                </a:cubicBezTo>
                <a:cubicBezTo>
                  <a:pt x="17190" y="14248"/>
                  <a:pt x="17166" y="14354"/>
                  <a:pt x="17140" y="14461"/>
                </a:cubicBezTo>
                <a:cubicBezTo>
                  <a:pt x="17114" y="14568"/>
                  <a:pt x="17074" y="14745"/>
                  <a:pt x="17115" y="14833"/>
                </a:cubicBezTo>
                <a:cubicBezTo>
                  <a:pt x="17115" y="14858"/>
                  <a:pt x="17115" y="14866"/>
                  <a:pt x="17140" y="14858"/>
                </a:cubicBezTo>
              </a:path>
              <a:path w="4416" h="1638">
                <a:moveTo>
                  <a:pt x="17562" y="14337"/>
                </a:moveTo>
                <a:cubicBezTo>
                  <a:pt x="17536" y="14472"/>
                  <a:pt x="17518" y="14602"/>
                  <a:pt x="17487" y="14734"/>
                </a:cubicBezTo>
                <a:cubicBezTo>
                  <a:pt x="17469" y="14814"/>
                  <a:pt x="17446" y="14883"/>
                  <a:pt x="17413" y="14957"/>
                </a:cubicBezTo>
              </a:path>
              <a:path w="4416" h="1638">
                <a:moveTo>
                  <a:pt x="18132" y="13494"/>
                </a:moveTo>
                <a:cubicBezTo>
                  <a:pt x="18232" y="13494"/>
                  <a:pt x="18312" y="13491"/>
                  <a:pt x="18405" y="13469"/>
                </a:cubicBezTo>
                <a:cubicBezTo>
                  <a:pt x="18457" y="13457"/>
                  <a:pt x="18483" y="13459"/>
                  <a:pt x="18529" y="13419"/>
                </a:cubicBezTo>
                <a:cubicBezTo>
                  <a:pt x="18552" y="13397"/>
                  <a:pt x="18557" y="13389"/>
                  <a:pt x="18579" y="13395"/>
                </a:cubicBezTo>
                <a:cubicBezTo>
                  <a:pt x="18579" y="13370"/>
                  <a:pt x="18579" y="13345"/>
                  <a:pt x="18579" y="13320"/>
                </a:cubicBezTo>
              </a:path>
              <a:path w="4416" h="1638">
                <a:moveTo>
                  <a:pt x="18058" y="13568"/>
                </a:moveTo>
                <a:cubicBezTo>
                  <a:pt x="18017" y="13667"/>
                  <a:pt x="17972" y="13766"/>
                  <a:pt x="17934" y="13866"/>
                </a:cubicBezTo>
                <a:cubicBezTo>
                  <a:pt x="17909" y="13932"/>
                  <a:pt x="17882" y="14001"/>
                  <a:pt x="17859" y="14064"/>
                </a:cubicBezTo>
                <a:cubicBezTo>
                  <a:pt x="17916" y="14007"/>
                  <a:pt x="17961" y="13954"/>
                  <a:pt x="18008" y="13891"/>
                </a:cubicBezTo>
                <a:cubicBezTo>
                  <a:pt x="18017" y="13879"/>
                  <a:pt x="18093" y="13820"/>
                  <a:pt x="18107" y="13816"/>
                </a:cubicBezTo>
                <a:cubicBezTo>
                  <a:pt x="18169" y="13798"/>
                  <a:pt x="18251" y="13818"/>
                  <a:pt x="18306" y="13841"/>
                </a:cubicBezTo>
                <a:cubicBezTo>
                  <a:pt x="18371" y="13869"/>
                  <a:pt x="18437" y="13905"/>
                  <a:pt x="18479" y="13965"/>
                </a:cubicBezTo>
                <a:cubicBezTo>
                  <a:pt x="18521" y="14026"/>
                  <a:pt x="18566" y="14114"/>
                  <a:pt x="18554" y="14188"/>
                </a:cubicBezTo>
                <a:cubicBezTo>
                  <a:pt x="18536" y="14306"/>
                  <a:pt x="18474" y="14465"/>
                  <a:pt x="18405" y="14560"/>
                </a:cubicBezTo>
                <a:cubicBezTo>
                  <a:pt x="18335" y="14656"/>
                  <a:pt x="18255" y="14743"/>
                  <a:pt x="18157" y="14808"/>
                </a:cubicBezTo>
                <a:cubicBezTo>
                  <a:pt x="18143" y="14817"/>
                  <a:pt x="18017" y="14866"/>
                  <a:pt x="18008" y="14858"/>
                </a:cubicBezTo>
                <a:cubicBezTo>
                  <a:pt x="18008" y="14823"/>
                  <a:pt x="18003" y="14806"/>
                  <a:pt x="17983" y="14784"/>
                </a:cubicBezTo>
              </a:path>
              <a:path w="4416" h="1638">
                <a:moveTo>
                  <a:pt x="18901" y="13667"/>
                </a:moveTo>
                <a:cubicBezTo>
                  <a:pt x="18894" y="13812"/>
                  <a:pt x="18883" y="13947"/>
                  <a:pt x="18852" y="14089"/>
                </a:cubicBezTo>
                <a:cubicBezTo>
                  <a:pt x="18824" y="14217"/>
                  <a:pt x="18774" y="14352"/>
                  <a:pt x="18802" y="14486"/>
                </a:cubicBezTo>
                <a:cubicBezTo>
                  <a:pt x="18810" y="14527"/>
                  <a:pt x="18878" y="14638"/>
                  <a:pt x="18926" y="14635"/>
                </a:cubicBezTo>
                <a:cubicBezTo>
                  <a:pt x="18976" y="14632"/>
                  <a:pt x="19076" y="14579"/>
                  <a:pt x="19100" y="14536"/>
                </a:cubicBezTo>
                <a:cubicBezTo>
                  <a:pt x="19163" y="14424"/>
                  <a:pt x="19199" y="14282"/>
                  <a:pt x="19224" y="14163"/>
                </a:cubicBezTo>
                <a:cubicBezTo>
                  <a:pt x="19251" y="14032"/>
                  <a:pt x="19237" y="13945"/>
                  <a:pt x="19224" y="13816"/>
                </a:cubicBezTo>
                <a:cubicBezTo>
                  <a:pt x="19214" y="13722"/>
                  <a:pt x="19203" y="13626"/>
                  <a:pt x="19149" y="13543"/>
                </a:cubicBezTo>
                <a:cubicBezTo>
                  <a:pt x="19116" y="13493"/>
                  <a:pt x="19080" y="13474"/>
                  <a:pt x="19025" y="13469"/>
                </a:cubicBezTo>
                <a:cubicBezTo>
                  <a:pt x="18938" y="13462"/>
                  <a:pt x="18948" y="13481"/>
                  <a:pt x="18901" y="13543"/>
                </a:cubicBezTo>
                <a:cubicBezTo>
                  <a:pt x="18861" y="13596"/>
                  <a:pt x="18813" y="13698"/>
                  <a:pt x="18802" y="13767"/>
                </a:cubicBezTo>
                <a:cubicBezTo>
                  <a:pt x="18787" y="13862"/>
                  <a:pt x="18765" y="13966"/>
                  <a:pt x="18777" y="14064"/>
                </a:cubicBezTo>
                <a:cubicBezTo>
                  <a:pt x="18793" y="14198"/>
                  <a:pt x="18812" y="14290"/>
                  <a:pt x="18901" y="14387"/>
                </a:cubicBezTo>
                <a:cubicBezTo>
                  <a:pt x="18945" y="14435"/>
                  <a:pt x="19005" y="14414"/>
                  <a:pt x="19050" y="14387"/>
                </a:cubicBezTo>
              </a:path>
              <a:path w="4416" h="1638">
                <a:moveTo>
                  <a:pt x="19720" y="13320"/>
                </a:moveTo>
                <a:cubicBezTo>
                  <a:pt x="19680" y="13409"/>
                  <a:pt x="19656" y="13502"/>
                  <a:pt x="19621" y="13593"/>
                </a:cubicBezTo>
                <a:cubicBezTo>
                  <a:pt x="19565" y="13741"/>
                  <a:pt x="19531" y="13884"/>
                  <a:pt x="19496" y="14039"/>
                </a:cubicBezTo>
                <a:cubicBezTo>
                  <a:pt x="19465" y="14177"/>
                  <a:pt x="19482" y="14278"/>
                  <a:pt x="19496" y="14412"/>
                </a:cubicBezTo>
                <a:cubicBezTo>
                  <a:pt x="19505" y="14498"/>
                  <a:pt x="19531" y="14575"/>
                  <a:pt x="19621" y="14585"/>
                </a:cubicBezTo>
                <a:cubicBezTo>
                  <a:pt x="19705" y="14595"/>
                  <a:pt x="19764" y="14578"/>
                  <a:pt x="19819" y="14511"/>
                </a:cubicBezTo>
                <a:cubicBezTo>
                  <a:pt x="19907" y="14403"/>
                  <a:pt x="19994" y="14281"/>
                  <a:pt x="20017" y="14139"/>
                </a:cubicBezTo>
                <a:cubicBezTo>
                  <a:pt x="20035" y="14027"/>
                  <a:pt x="20061" y="13882"/>
                  <a:pt x="20042" y="13767"/>
                </a:cubicBezTo>
                <a:cubicBezTo>
                  <a:pt x="20025" y="13661"/>
                  <a:pt x="20009" y="13565"/>
                  <a:pt x="19918" y="13494"/>
                </a:cubicBezTo>
                <a:cubicBezTo>
                  <a:pt x="19846" y="13438"/>
                  <a:pt x="19765" y="13384"/>
                  <a:pt x="19670" y="13370"/>
                </a:cubicBezTo>
                <a:cubicBezTo>
                  <a:pt x="19593" y="13359"/>
                  <a:pt x="19500" y="13390"/>
                  <a:pt x="19422" y="1339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83.  Determine the seating capacity of an auditorium with 30 rows of seats if there are 20 seats in the first row, 24 seats in the second row, 28 seats in the third row, and so on.</a:t>
            </a:r>
            <a:endParaRPr b="0" lang="en-US" sz="2000" spc="-1" strike="noStrike">
              <a:solidFill>
                <a:srgbClr val="e3ebf1"/>
              </a:solidFill>
              <a:latin typeface="Arial"/>
            </a:endParaRPr>
          </a:p>
        </p:txBody>
      </p:sp>
      <p:pic>
        <p:nvPicPr>
          <p:cNvPr id="103" name="" descr=""/>
          <p:cNvPicPr/>
          <p:nvPr/>
        </p:nvPicPr>
        <p:blipFill>
          <a:blip r:embed="rId1"/>
          <a:stretch/>
        </p:blipFill>
        <p:spPr>
          <a:xfrm>
            <a:off x="5241960" y="3736800"/>
            <a:ext cx="3902040" cy="3121200"/>
          </a:xfrm>
          <a:prstGeom prst="rect">
            <a:avLst/>
          </a:prstGeom>
          <a:ln w="0">
            <a:noFill/>
          </a:ln>
        </p:spPr>
      </p:pic>
      <p:sp>
        <p:nvSpPr>
          <p:cNvPr id="104" name=""/>
          <p:cNvSpPr/>
          <p:nvPr/>
        </p:nvSpPr>
        <p:spPr>
          <a:xfrm>
            <a:off x="874800" y="1384200"/>
            <a:ext cx="3305160" cy="696960"/>
          </a:xfrm>
          <a:custGeom>
            <a:avLst/>
            <a:gdLst/>
            <a:ahLst/>
            <a:rect l="l" t="t" r="r" b="b"/>
            <a:pathLst>
              <a:path w="9179" h="1935">
                <a:moveTo>
                  <a:pt x="3101" y="4738"/>
                </a:moveTo>
                <a:lnTo>
                  <a:pt x="3101" y="4738"/>
                </a:lnTo>
              </a:path>
              <a:path w="9179" h="1935">
                <a:moveTo>
                  <a:pt x="3101" y="4738"/>
                </a:moveTo>
                <a:cubicBezTo>
                  <a:pt x="3101" y="4730"/>
                  <a:pt x="3101" y="4721"/>
                  <a:pt x="3101" y="4713"/>
                </a:cubicBezTo>
              </a:path>
              <a:path w="9179" h="1935">
                <a:moveTo>
                  <a:pt x="3101" y="4713"/>
                </a:moveTo>
                <a:cubicBezTo>
                  <a:pt x="3094" y="4654"/>
                  <a:pt x="3079" y="4620"/>
                  <a:pt x="3076" y="4564"/>
                </a:cubicBezTo>
                <a:cubicBezTo>
                  <a:pt x="3074" y="4516"/>
                  <a:pt x="3071" y="4455"/>
                  <a:pt x="3051" y="4415"/>
                </a:cubicBezTo>
                <a:cubicBezTo>
                  <a:pt x="3032" y="4378"/>
                  <a:pt x="2970" y="4334"/>
                  <a:pt x="2952" y="4316"/>
                </a:cubicBezTo>
                <a:cubicBezTo>
                  <a:pt x="2924" y="4288"/>
                  <a:pt x="2845" y="4276"/>
                  <a:pt x="2803" y="4291"/>
                </a:cubicBezTo>
                <a:cubicBezTo>
                  <a:pt x="2674" y="4337"/>
                  <a:pt x="2607" y="4496"/>
                  <a:pt x="2555" y="4614"/>
                </a:cubicBezTo>
                <a:cubicBezTo>
                  <a:pt x="2510" y="4717"/>
                  <a:pt x="2488" y="4829"/>
                  <a:pt x="2456" y="4936"/>
                </a:cubicBezTo>
                <a:cubicBezTo>
                  <a:pt x="2430" y="5024"/>
                  <a:pt x="2411" y="5140"/>
                  <a:pt x="2431" y="5234"/>
                </a:cubicBezTo>
                <a:cubicBezTo>
                  <a:pt x="2447" y="5309"/>
                  <a:pt x="2478" y="5356"/>
                  <a:pt x="2530" y="5407"/>
                </a:cubicBezTo>
                <a:cubicBezTo>
                  <a:pt x="2557" y="5434"/>
                  <a:pt x="2638" y="5412"/>
                  <a:pt x="2679" y="5383"/>
                </a:cubicBezTo>
                <a:cubicBezTo>
                  <a:pt x="2734" y="5343"/>
                  <a:pt x="2813" y="5240"/>
                  <a:pt x="2853" y="5184"/>
                </a:cubicBezTo>
                <a:cubicBezTo>
                  <a:pt x="2900" y="5118"/>
                  <a:pt x="2960" y="5043"/>
                  <a:pt x="2977" y="4961"/>
                </a:cubicBezTo>
                <a:cubicBezTo>
                  <a:pt x="2991" y="4894"/>
                  <a:pt x="3001" y="4833"/>
                  <a:pt x="3001" y="4762"/>
                </a:cubicBezTo>
                <a:cubicBezTo>
                  <a:pt x="3001" y="4738"/>
                  <a:pt x="3001" y="4729"/>
                  <a:pt x="3001" y="4713"/>
                </a:cubicBezTo>
                <a:cubicBezTo>
                  <a:pt x="2976" y="4765"/>
                  <a:pt x="2977" y="4796"/>
                  <a:pt x="2977" y="4862"/>
                </a:cubicBezTo>
                <a:cubicBezTo>
                  <a:pt x="2977" y="4948"/>
                  <a:pt x="2973" y="4995"/>
                  <a:pt x="2977" y="5085"/>
                </a:cubicBezTo>
                <a:cubicBezTo>
                  <a:pt x="2979" y="5133"/>
                  <a:pt x="2978" y="5221"/>
                  <a:pt x="3001" y="5259"/>
                </a:cubicBezTo>
                <a:cubicBezTo>
                  <a:pt x="3028" y="5303"/>
                  <a:pt x="3063" y="5345"/>
                  <a:pt x="3101" y="5383"/>
                </a:cubicBezTo>
              </a:path>
              <a:path w="9179" h="1935">
                <a:moveTo>
                  <a:pt x="3299" y="5283"/>
                </a:moveTo>
                <a:cubicBezTo>
                  <a:pt x="3337" y="5286"/>
                  <a:pt x="3456" y="5282"/>
                  <a:pt x="3448" y="5358"/>
                </a:cubicBezTo>
                <a:cubicBezTo>
                  <a:pt x="3441" y="5426"/>
                  <a:pt x="3388" y="5477"/>
                  <a:pt x="3349" y="5507"/>
                </a:cubicBezTo>
                <a:cubicBezTo>
                  <a:pt x="3334" y="5518"/>
                  <a:pt x="3252" y="5590"/>
                  <a:pt x="3299" y="5556"/>
                </a:cubicBezTo>
                <a:cubicBezTo>
                  <a:pt x="3355" y="5516"/>
                  <a:pt x="3366" y="5539"/>
                  <a:pt x="3423" y="5556"/>
                </a:cubicBezTo>
                <a:cubicBezTo>
                  <a:pt x="3452" y="5565"/>
                  <a:pt x="3468" y="5591"/>
                  <a:pt x="3473" y="5631"/>
                </a:cubicBezTo>
                <a:cubicBezTo>
                  <a:pt x="3476" y="5658"/>
                  <a:pt x="3464" y="5717"/>
                  <a:pt x="3448" y="5730"/>
                </a:cubicBezTo>
                <a:cubicBezTo>
                  <a:pt x="3411" y="5761"/>
                  <a:pt x="3342" y="5776"/>
                  <a:pt x="3299" y="5779"/>
                </a:cubicBezTo>
                <a:cubicBezTo>
                  <a:pt x="3257" y="5782"/>
                  <a:pt x="3204" y="5762"/>
                  <a:pt x="3200" y="5730"/>
                </a:cubicBezTo>
                <a:cubicBezTo>
                  <a:pt x="3200" y="5722"/>
                  <a:pt x="3200" y="5713"/>
                  <a:pt x="3200" y="5705"/>
                </a:cubicBezTo>
              </a:path>
              <a:path w="9179" h="1935">
                <a:moveTo>
                  <a:pt x="3621" y="5581"/>
                </a:moveTo>
                <a:cubicBezTo>
                  <a:pt x="3614" y="5613"/>
                  <a:pt x="3576" y="5725"/>
                  <a:pt x="3621" y="5755"/>
                </a:cubicBezTo>
                <a:cubicBezTo>
                  <a:pt x="3677" y="5793"/>
                  <a:pt x="3761" y="5737"/>
                  <a:pt x="3795" y="5705"/>
                </a:cubicBezTo>
                <a:cubicBezTo>
                  <a:pt x="3822" y="5680"/>
                  <a:pt x="3836" y="5595"/>
                  <a:pt x="3820" y="5556"/>
                </a:cubicBezTo>
                <a:cubicBezTo>
                  <a:pt x="3799" y="5505"/>
                  <a:pt x="3735" y="5508"/>
                  <a:pt x="3696" y="5482"/>
                </a:cubicBezTo>
                <a:cubicBezTo>
                  <a:pt x="3652" y="5453"/>
                  <a:pt x="3646" y="5461"/>
                  <a:pt x="3646" y="5407"/>
                </a:cubicBezTo>
              </a:path>
              <a:path w="9179" h="1935">
                <a:moveTo>
                  <a:pt x="4093" y="4713"/>
                </a:moveTo>
                <a:cubicBezTo>
                  <a:pt x="4185" y="4708"/>
                  <a:pt x="4253" y="4688"/>
                  <a:pt x="4341" y="4688"/>
                </a:cubicBezTo>
                <a:cubicBezTo>
                  <a:pt x="4382" y="4688"/>
                  <a:pt x="4390" y="4688"/>
                  <a:pt x="4415" y="4688"/>
                </a:cubicBezTo>
              </a:path>
              <a:path w="9179" h="1935">
                <a:moveTo>
                  <a:pt x="4118" y="4936"/>
                </a:moveTo>
                <a:cubicBezTo>
                  <a:pt x="4208" y="4936"/>
                  <a:pt x="4259" y="4927"/>
                  <a:pt x="4341" y="4911"/>
                </a:cubicBezTo>
              </a:path>
              <a:path w="9179" h="1935">
                <a:moveTo>
                  <a:pt x="5011" y="4440"/>
                </a:moveTo>
                <a:cubicBezTo>
                  <a:pt x="5021" y="4412"/>
                  <a:pt x="5022" y="4367"/>
                  <a:pt x="5035" y="4341"/>
                </a:cubicBezTo>
                <a:cubicBezTo>
                  <a:pt x="5049" y="4313"/>
                  <a:pt x="5069" y="4265"/>
                  <a:pt x="5085" y="4242"/>
                </a:cubicBezTo>
                <a:cubicBezTo>
                  <a:pt x="5106" y="4212"/>
                  <a:pt x="5197" y="4149"/>
                  <a:pt x="5234" y="4142"/>
                </a:cubicBezTo>
                <a:cubicBezTo>
                  <a:pt x="5294" y="4131"/>
                  <a:pt x="5334" y="4139"/>
                  <a:pt x="5358" y="4167"/>
                </a:cubicBezTo>
                <a:cubicBezTo>
                  <a:pt x="5380" y="4193"/>
                  <a:pt x="5398" y="4278"/>
                  <a:pt x="5383" y="4316"/>
                </a:cubicBezTo>
                <a:cubicBezTo>
                  <a:pt x="5356" y="4387"/>
                  <a:pt x="5309" y="4462"/>
                  <a:pt x="5283" y="4539"/>
                </a:cubicBezTo>
                <a:cubicBezTo>
                  <a:pt x="5248" y="4641"/>
                  <a:pt x="5171" y="4721"/>
                  <a:pt x="5110" y="4812"/>
                </a:cubicBezTo>
                <a:cubicBezTo>
                  <a:pt x="5048" y="4906"/>
                  <a:pt x="4984" y="5000"/>
                  <a:pt x="4911" y="5085"/>
                </a:cubicBezTo>
                <a:cubicBezTo>
                  <a:pt x="4863" y="5141"/>
                  <a:pt x="4836" y="5206"/>
                  <a:pt x="4787" y="5259"/>
                </a:cubicBezTo>
                <a:cubicBezTo>
                  <a:pt x="4765" y="5281"/>
                  <a:pt x="4760" y="5289"/>
                  <a:pt x="4738" y="5283"/>
                </a:cubicBezTo>
                <a:cubicBezTo>
                  <a:pt x="4768" y="5245"/>
                  <a:pt x="4780" y="5235"/>
                  <a:pt x="4812" y="5209"/>
                </a:cubicBezTo>
                <a:cubicBezTo>
                  <a:pt x="4829" y="5195"/>
                  <a:pt x="4840" y="5156"/>
                  <a:pt x="4887" y="5159"/>
                </a:cubicBezTo>
                <a:cubicBezTo>
                  <a:pt x="4931" y="5162"/>
                  <a:pt x="5024" y="5209"/>
                  <a:pt x="5060" y="5234"/>
                </a:cubicBezTo>
                <a:cubicBezTo>
                  <a:pt x="5119" y="5275"/>
                  <a:pt x="5208" y="5300"/>
                  <a:pt x="5283" y="5283"/>
                </a:cubicBezTo>
                <a:cubicBezTo>
                  <a:pt x="5325" y="5274"/>
                  <a:pt x="5309" y="5241"/>
                  <a:pt x="5333" y="5209"/>
                </a:cubicBezTo>
                <a:cubicBezTo>
                  <a:pt x="5363" y="5179"/>
                  <a:pt x="5374" y="5165"/>
                  <a:pt x="5383" y="5135"/>
                </a:cubicBezTo>
              </a:path>
              <a:path w="9179" h="1935">
                <a:moveTo>
                  <a:pt x="5581" y="4490"/>
                </a:moveTo>
                <a:cubicBezTo>
                  <a:pt x="5528" y="4633"/>
                  <a:pt x="5488" y="4737"/>
                  <a:pt x="5482" y="4887"/>
                </a:cubicBezTo>
                <a:cubicBezTo>
                  <a:pt x="5480" y="4953"/>
                  <a:pt x="5458" y="5083"/>
                  <a:pt x="5507" y="5135"/>
                </a:cubicBezTo>
                <a:cubicBezTo>
                  <a:pt x="5540" y="5171"/>
                  <a:pt x="5631" y="5220"/>
                  <a:pt x="5680" y="5209"/>
                </a:cubicBezTo>
                <a:cubicBezTo>
                  <a:pt x="5758" y="5192"/>
                  <a:pt x="5797" y="5161"/>
                  <a:pt x="5854" y="5110"/>
                </a:cubicBezTo>
                <a:cubicBezTo>
                  <a:pt x="5923" y="5049"/>
                  <a:pt x="5962" y="4952"/>
                  <a:pt x="5978" y="4862"/>
                </a:cubicBezTo>
                <a:cubicBezTo>
                  <a:pt x="5992" y="4783"/>
                  <a:pt x="5981" y="4687"/>
                  <a:pt x="5953" y="4614"/>
                </a:cubicBezTo>
                <a:cubicBezTo>
                  <a:pt x="5920" y="4527"/>
                  <a:pt x="5838" y="4472"/>
                  <a:pt x="5755" y="4440"/>
                </a:cubicBezTo>
                <a:cubicBezTo>
                  <a:pt x="5732" y="4431"/>
                  <a:pt x="5630" y="4390"/>
                  <a:pt x="5606" y="4415"/>
                </a:cubicBezTo>
                <a:cubicBezTo>
                  <a:pt x="5577" y="4444"/>
                  <a:pt x="5580" y="4445"/>
                  <a:pt x="5606" y="4465"/>
                </a:cubicBezTo>
                <a:cubicBezTo>
                  <a:pt x="5614" y="4473"/>
                  <a:pt x="5623" y="4482"/>
                  <a:pt x="5631" y="4490"/>
                </a:cubicBezTo>
              </a:path>
              <a:path w="9179" h="1935">
                <a:moveTo>
                  <a:pt x="6573" y="4341"/>
                </a:moveTo>
                <a:cubicBezTo>
                  <a:pt x="6578" y="4457"/>
                  <a:pt x="6574" y="4598"/>
                  <a:pt x="6598" y="4713"/>
                </a:cubicBezTo>
                <a:cubicBezTo>
                  <a:pt x="6615" y="4794"/>
                  <a:pt x="6623" y="4852"/>
                  <a:pt x="6623" y="4936"/>
                </a:cubicBezTo>
                <a:cubicBezTo>
                  <a:pt x="6623" y="4947"/>
                  <a:pt x="6634" y="5116"/>
                  <a:pt x="6598" y="5035"/>
                </a:cubicBezTo>
                <a:cubicBezTo>
                  <a:pt x="6598" y="5027"/>
                  <a:pt x="6598" y="5019"/>
                  <a:pt x="6598" y="5011"/>
                </a:cubicBezTo>
              </a:path>
              <a:path w="9179" h="1935">
                <a:moveTo>
                  <a:pt x="6300" y="4762"/>
                </a:moveTo>
                <a:cubicBezTo>
                  <a:pt x="6414" y="4743"/>
                  <a:pt x="6508" y="4738"/>
                  <a:pt x="6623" y="4738"/>
                </a:cubicBezTo>
                <a:cubicBezTo>
                  <a:pt x="6676" y="4738"/>
                  <a:pt x="6902" y="4738"/>
                  <a:pt x="6871" y="4738"/>
                </a:cubicBezTo>
              </a:path>
              <a:path w="9179" h="1935">
                <a:moveTo>
                  <a:pt x="7516" y="3845"/>
                </a:moveTo>
                <a:cubicBezTo>
                  <a:pt x="7492" y="3869"/>
                  <a:pt x="7467" y="3893"/>
                  <a:pt x="7441" y="3944"/>
                </a:cubicBezTo>
                <a:cubicBezTo>
                  <a:pt x="7396" y="4030"/>
                  <a:pt x="7356" y="4129"/>
                  <a:pt x="7317" y="4217"/>
                </a:cubicBezTo>
                <a:cubicBezTo>
                  <a:pt x="7263" y="4339"/>
                  <a:pt x="7240" y="4466"/>
                  <a:pt x="7193" y="4589"/>
                </a:cubicBezTo>
                <a:cubicBezTo>
                  <a:pt x="7141" y="4722"/>
                  <a:pt x="7119" y="4790"/>
                  <a:pt x="7119" y="4936"/>
                </a:cubicBezTo>
                <a:cubicBezTo>
                  <a:pt x="7119" y="5031"/>
                  <a:pt x="7107" y="5122"/>
                  <a:pt x="7144" y="5209"/>
                </a:cubicBezTo>
                <a:cubicBezTo>
                  <a:pt x="7181" y="5297"/>
                  <a:pt x="7177" y="5293"/>
                  <a:pt x="7243" y="5283"/>
                </a:cubicBezTo>
              </a:path>
              <a:path w="9179" h="1935">
                <a:moveTo>
                  <a:pt x="7491" y="4341"/>
                </a:moveTo>
                <a:cubicBezTo>
                  <a:pt x="7558" y="4257"/>
                  <a:pt x="7562" y="4242"/>
                  <a:pt x="7665" y="4242"/>
                </a:cubicBezTo>
                <a:cubicBezTo>
                  <a:pt x="7743" y="4242"/>
                  <a:pt x="7785" y="4230"/>
                  <a:pt x="7813" y="4316"/>
                </a:cubicBezTo>
                <a:cubicBezTo>
                  <a:pt x="7832" y="4375"/>
                  <a:pt x="7809" y="4476"/>
                  <a:pt x="7764" y="4514"/>
                </a:cubicBezTo>
                <a:cubicBezTo>
                  <a:pt x="7714" y="4557"/>
                  <a:pt x="7648" y="4603"/>
                  <a:pt x="7590" y="4638"/>
                </a:cubicBezTo>
                <a:cubicBezTo>
                  <a:pt x="7546" y="4664"/>
                  <a:pt x="7503" y="4677"/>
                  <a:pt x="7491" y="4713"/>
                </a:cubicBezTo>
                <a:cubicBezTo>
                  <a:pt x="7529" y="4684"/>
                  <a:pt x="7542" y="4688"/>
                  <a:pt x="7590" y="4688"/>
                </a:cubicBezTo>
                <a:cubicBezTo>
                  <a:pt x="7644" y="4688"/>
                  <a:pt x="7675" y="4678"/>
                  <a:pt x="7714" y="4713"/>
                </a:cubicBezTo>
                <a:cubicBezTo>
                  <a:pt x="7749" y="4745"/>
                  <a:pt x="7781" y="4816"/>
                  <a:pt x="7789" y="4862"/>
                </a:cubicBezTo>
                <a:cubicBezTo>
                  <a:pt x="7799" y="4917"/>
                  <a:pt x="7762" y="4986"/>
                  <a:pt x="7739" y="5035"/>
                </a:cubicBezTo>
                <a:cubicBezTo>
                  <a:pt x="7697" y="5124"/>
                  <a:pt x="7652" y="5122"/>
                  <a:pt x="7565" y="5159"/>
                </a:cubicBezTo>
                <a:cubicBezTo>
                  <a:pt x="7503" y="5185"/>
                  <a:pt x="7454" y="5200"/>
                  <a:pt x="7392" y="5209"/>
                </a:cubicBezTo>
                <a:cubicBezTo>
                  <a:pt x="7392" y="5156"/>
                  <a:pt x="7404" y="5148"/>
                  <a:pt x="7441" y="5110"/>
                </a:cubicBezTo>
              </a:path>
              <a:path w="9179" h="1935">
                <a:moveTo>
                  <a:pt x="8012" y="4688"/>
                </a:moveTo>
                <a:cubicBezTo>
                  <a:pt x="7983" y="4831"/>
                  <a:pt x="7925" y="4989"/>
                  <a:pt x="7987" y="5135"/>
                </a:cubicBezTo>
                <a:cubicBezTo>
                  <a:pt x="8010" y="5189"/>
                  <a:pt x="8064" y="5184"/>
                  <a:pt x="8111" y="5184"/>
                </a:cubicBezTo>
                <a:cubicBezTo>
                  <a:pt x="8172" y="5184"/>
                  <a:pt x="8187" y="5106"/>
                  <a:pt x="8210" y="5060"/>
                </a:cubicBezTo>
                <a:cubicBezTo>
                  <a:pt x="8256" y="4968"/>
                  <a:pt x="8266" y="4884"/>
                  <a:pt x="8235" y="4787"/>
                </a:cubicBezTo>
                <a:cubicBezTo>
                  <a:pt x="8215" y="4725"/>
                  <a:pt x="8160" y="4690"/>
                  <a:pt x="8136" y="4638"/>
                </a:cubicBezTo>
                <a:cubicBezTo>
                  <a:pt x="8126" y="4617"/>
                  <a:pt x="8053" y="4531"/>
                  <a:pt x="8111" y="4589"/>
                </a:cubicBezTo>
              </a:path>
              <a:path w="9179" h="1935">
                <a:moveTo>
                  <a:pt x="8384" y="4812"/>
                </a:moveTo>
                <a:cubicBezTo>
                  <a:pt x="8465" y="4834"/>
                  <a:pt x="8524" y="4837"/>
                  <a:pt x="8607" y="4837"/>
                </a:cubicBezTo>
                <a:cubicBezTo>
                  <a:pt x="8665" y="4837"/>
                  <a:pt x="8685" y="4840"/>
                  <a:pt x="8731" y="4812"/>
                </a:cubicBezTo>
              </a:path>
              <a:path w="9179" h="1935">
                <a:moveTo>
                  <a:pt x="8905" y="4514"/>
                </a:moveTo>
                <a:cubicBezTo>
                  <a:pt x="8886" y="4601"/>
                  <a:pt x="8865" y="4699"/>
                  <a:pt x="8855" y="4787"/>
                </a:cubicBezTo>
                <a:cubicBezTo>
                  <a:pt x="8842" y="4900"/>
                  <a:pt x="8855" y="5021"/>
                  <a:pt x="8855" y="5135"/>
                </a:cubicBezTo>
                <a:cubicBezTo>
                  <a:pt x="8887" y="5092"/>
                  <a:pt x="8880" y="5095"/>
                  <a:pt x="8880" y="5035"/>
                </a:cubicBezTo>
              </a:path>
              <a:path w="9179" h="1935">
                <a:moveTo>
                  <a:pt x="8880" y="3994"/>
                </a:moveTo>
                <a:cubicBezTo>
                  <a:pt x="8996" y="4089"/>
                  <a:pt x="9079" y="4161"/>
                  <a:pt x="9153" y="4291"/>
                </a:cubicBezTo>
                <a:cubicBezTo>
                  <a:pt x="9220" y="4410"/>
                  <a:pt x="9290" y="4533"/>
                  <a:pt x="9327" y="4663"/>
                </a:cubicBezTo>
                <a:cubicBezTo>
                  <a:pt x="9357" y="4769"/>
                  <a:pt x="9375" y="4907"/>
                  <a:pt x="9327" y="5011"/>
                </a:cubicBezTo>
                <a:cubicBezTo>
                  <a:pt x="9281" y="5111"/>
                  <a:pt x="9169" y="5202"/>
                  <a:pt x="9079" y="5259"/>
                </a:cubicBezTo>
                <a:cubicBezTo>
                  <a:pt x="9013" y="5300"/>
                  <a:pt x="8939" y="5347"/>
                  <a:pt x="8880" y="5383"/>
                </a:cubicBezTo>
                <a:cubicBezTo>
                  <a:pt x="8913" y="5350"/>
                  <a:pt x="8946" y="5316"/>
                  <a:pt x="8979" y="5283"/>
                </a:cubicBezTo>
              </a:path>
              <a:path w="9179" h="1935">
                <a:moveTo>
                  <a:pt x="9897" y="4093"/>
                </a:moveTo>
                <a:cubicBezTo>
                  <a:pt x="9805" y="4204"/>
                  <a:pt x="9769" y="4317"/>
                  <a:pt x="9699" y="4440"/>
                </a:cubicBezTo>
                <a:cubicBezTo>
                  <a:pt x="9646" y="4534"/>
                  <a:pt x="9562" y="4676"/>
                  <a:pt x="9550" y="4787"/>
                </a:cubicBezTo>
                <a:cubicBezTo>
                  <a:pt x="9536" y="4921"/>
                  <a:pt x="9556" y="5036"/>
                  <a:pt x="9575" y="5159"/>
                </a:cubicBezTo>
                <a:cubicBezTo>
                  <a:pt x="9588" y="5241"/>
                  <a:pt x="9626" y="5269"/>
                  <a:pt x="9699" y="5308"/>
                </a:cubicBezTo>
                <a:cubicBezTo>
                  <a:pt x="9751" y="5336"/>
                  <a:pt x="9823" y="5373"/>
                  <a:pt x="9872" y="5383"/>
                </a:cubicBezTo>
                <a:cubicBezTo>
                  <a:pt x="9896" y="5388"/>
                  <a:pt x="9923" y="5380"/>
                  <a:pt x="9947" y="5383"/>
                </a:cubicBezTo>
              </a:path>
              <a:path w="9179" h="1935">
                <a:moveTo>
                  <a:pt x="9996" y="4341"/>
                </a:moveTo>
                <a:cubicBezTo>
                  <a:pt x="10021" y="4341"/>
                  <a:pt x="10029" y="4341"/>
                  <a:pt x="10046" y="4341"/>
                </a:cubicBezTo>
                <a:cubicBezTo>
                  <a:pt x="10046" y="4408"/>
                  <a:pt x="10050" y="4459"/>
                  <a:pt x="10021" y="4514"/>
                </a:cubicBezTo>
                <a:cubicBezTo>
                  <a:pt x="9988" y="4575"/>
                  <a:pt x="9944" y="4636"/>
                  <a:pt x="9897" y="4688"/>
                </a:cubicBezTo>
                <a:cubicBezTo>
                  <a:pt x="9871" y="4716"/>
                  <a:pt x="9853" y="4715"/>
                  <a:pt x="9823" y="4738"/>
                </a:cubicBezTo>
                <a:cubicBezTo>
                  <a:pt x="9886" y="4738"/>
                  <a:pt x="9935" y="4755"/>
                  <a:pt x="9996" y="4762"/>
                </a:cubicBezTo>
                <a:cubicBezTo>
                  <a:pt x="10085" y="4772"/>
                  <a:pt x="10162" y="4756"/>
                  <a:pt x="10244" y="4738"/>
                </a:cubicBezTo>
                <a:cubicBezTo>
                  <a:pt x="10281" y="4730"/>
                  <a:pt x="10290" y="4717"/>
                  <a:pt x="10319" y="4688"/>
                </a:cubicBezTo>
              </a:path>
              <a:path w="9179" h="1935">
                <a:moveTo>
                  <a:pt x="10294" y="4440"/>
                </a:moveTo>
                <a:cubicBezTo>
                  <a:pt x="10311" y="4610"/>
                  <a:pt x="10319" y="4767"/>
                  <a:pt x="10319" y="4936"/>
                </a:cubicBezTo>
                <a:cubicBezTo>
                  <a:pt x="10319" y="5029"/>
                  <a:pt x="10324" y="5099"/>
                  <a:pt x="10344" y="5184"/>
                </a:cubicBezTo>
                <a:cubicBezTo>
                  <a:pt x="10354" y="5228"/>
                  <a:pt x="10339" y="5219"/>
                  <a:pt x="10368" y="5259"/>
                </a:cubicBezTo>
                <a:cubicBezTo>
                  <a:pt x="10385" y="5192"/>
                  <a:pt x="10410" y="5193"/>
                  <a:pt x="10418" y="5110"/>
                </a:cubicBezTo>
              </a:path>
              <a:path w="9179" h="1935">
                <a:moveTo>
                  <a:pt x="10492" y="4167"/>
                </a:moveTo>
                <a:cubicBezTo>
                  <a:pt x="10597" y="4298"/>
                  <a:pt x="10664" y="4438"/>
                  <a:pt x="10740" y="4589"/>
                </a:cubicBezTo>
                <a:cubicBezTo>
                  <a:pt x="10806" y="4721"/>
                  <a:pt x="10790" y="4840"/>
                  <a:pt x="10790" y="4986"/>
                </a:cubicBezTo>
                <a:cubicBezTo>
                  <a:pt x="10790" y="5076"/>
                  <a:pt x="10755" y="5130"/>
                  <a:pt x="10716" y="5209"/>
                </a:cubicBezTo>
                <a:cubicBezTo>
                  <a:pt x="10687" y="5268"/>
                  <a:pt x="10638" y="5286"/>
                  <a:pt x="10592" y="5333"/>
                </a:cubicBezTo>
                <a:cubicBezTo>
                  <a:pt x="10569" y="5357"/>
                  <a:pt x="10530" y="5389"/>
                  <a:pt x="10567" y="5333"/>
                </a:cubicBezTo>
              </a:path>
              <a:path w="9179" h="1935">
                <a:moveTo>
                  <a:pt x="11237" y="4713"/>
                </a:moveTo>
                <a:cubicBezTo>
                  <a:pt x="11315" y="4730"/>
                  <a:pt x="11411" y="4718"/>
                  <a:pt x="11485" y="4738"/>
                </a:cubicBezTo>
                <a:cubicBezTo>
                  <a:pt x="11525" y="4758"/>
                  <a:pt x="11532" y="4766"/>
                  <a:pt x="11559" y="4762"/>
                </a:cubicBezTo>
              </a:path>
              <a:path w="9179" h="1935">
                <a:moveTo>
                  <a:pt x="11237" y="5035"/>
                </a:moveTo>
                <a:cubicBezTo>
                  <a:pt x="11331" y="5082"/>
                  <a:pt x="11403" y="5105"/>
                  <a:pt x="11509" y="5110"/>
                </a:cubicBezTo>
                <a:cubicBezTo>
                  <a:pt x="11559" y="5110"/>
                  <a:pt x="11576" y="5110"/>
                  <a:pt x="11609" y="511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4367160" y="1527120"/>
            <a:ext cx="500040" cy="374760"/>
          </a:xfrm>
          <a:custGeom>
            <a:avLst/>
            <a:gdLst/>
            <a:ahLst/>
            <a:rect l="l" t="t" r="r" b="b"/>
            <a:pathLst>
              <a:path w="1391" h="1042">
                <a:moveTo>
                  <a:pt x="12254" y="4266"/>
                </a:moveTo>
                <a:cubicBezTo>
                  <a:pt x="12254" y="4202"/>
                  <a:pt x="12254" y="4305"/>
                  <a:pt x="12254" y="4316"/>
                </a:cubicBezTo>
                <a:cubicBezTo>
                  <a:pt x="12254" y="4388"/>
                  <a:pt x="12243" y="4491"/>
                  <a:pt x="12229" y="4564"/>
                </a:cubicBezTo>
                <a:cubicBezTo>
                  <a:pt x="12206" y="4686"/>
                  <a:pt x="12206" y="4815"/>
                  <a:pt x="12179" y="4936"/>
                </a:cubicBezTo>
                <a:cubicBezTo>
                  <a:pt x="12163" y="5006"/>
                  <a:pt x="12173" y="5092"/>
                  <a:pt x="12154" y="5159"/>
                </a:cubicBezTo>
                <a:cubicBezTo>
                  <a:pt x="12150" y="5174"/>
                  <a:pt x="12129" y="5292"/>
                  <a:pt x="12129" y="5234"/>
                </a:cubicBezTo>
              </a:path>
              <a:path w="1391" h="1042">
                <a:moveTo>
                  <a:pt x="12427" y="4514"/>
                </a:moveTo>
                <a:cubicBezTo>
                  <a:pt x="12510" y="4419"/>
                  <a:pt x="12547" y="4371"/>
                  <a:pt x="12650" y="4316"/>
                </a:cubicBezTo>
                <a:cubicBezTo>
                  <a:pt x="12724" y="4276"/>
                  <a:pt x="12745" y="4287"/>
                  <a:pt x="12799" y="4341"/>
                </a:cubicBezTo>
                <a:cubicBezTo>
                  <a:pt x="12827" y="4370"/>
                  <a:pt x="12837" y="4423"/>
                  <a:pt x="12824" y="4465"/>
                </a:cubicBezTo>
                <a:cubicBezTo>
                  <a:pt x="12800" y="4545"/>
                  <a:pt x="12755" y="4590"/>
                  <a:pt x="12700" y="4638"/>
                </a:cubicBezTo>
                <a:cubicBezTo>
                  <a:pt x="12649" y="4683"/>
                  <a:pt x="12609" y="4727"/>
                  <a:pt x="12551" y="4762"/>
                </a:cubicBezTo>
                <a:cubicBezTo>
                  <a:pt x="12493" y="4797"/>
                  <a:pt x="12458" y="4833"/>
                  <a:pt x="12526" y="4787"/>
                </a:cubicBezTo>
                <a:cubicBezTo>
                  <a:pt x="12559" y="4765"/>
                  <a:pt x="12585" y="4742"/>
                  <a:pt x="12626" y="4738"/>
                </a:cubicBezTo>
                <a:cubicBezTo>
                  <a:pt x="12679" y="4732"/>
                  <a:pt x="12730" y="4797"/>
                  <a:pt x="12750" y="4837"/>
                </a:cubicBezTo>
                <a:cubicBezTo>
                  <a:pt x="12777" y="4891"/>
                  <a:pt x="12747" y="5011"/>
                  <a:pt x="12725" y="5060"/>
                </a:cubicBezTo>
                <a:cubicBezTo>
                  <a:pt x="12689" y="5141"/>
                  <a:pt x="12650" y="5151"/>
                  <a:pt x="12601" y="5209"/>
                </a:cubicBezTo>
                <a:cubicBezTo>
                  <a:pt x="12571" y="5244"/>
                  <a:pt x="12514" y="5303"/>
                  <a:pt x="12452" y="5283"/>
                </a:cubicBezTo>
                <a:cubicBezTo>
                  <a:pt x="12444" y="5275"/>
                  <a:pt x="12435" y="5267"/>
                  <a:pt x="12427" y="5259"/>
                </a:cubicBezTo>
              </a:path>
              <a:path w="1391" h="1042">
                <a:moveTo>
                  <a:pt x="13072" y="4490"/>
                </a:moveTo>
                <a:cubicBezTo>
                  <a:pt x="13066" y="4600"/>
                  <a:pt x="13067" y="4728"/>
                  <a:pt x="13047" y="4837"/>
                </a:cubicBezTo>
                <a:cubicBezTo>
                  <a:pt x="13032" y="4915"/>
                  <a:pt x="13000" y="5002"/>
                  <a:pt x="13022" y="5085"/>
                </a:cubicBezTo>
                <a:cubicBezTo>
                  <a:pt x="13039" y="5151"/>
                  <a:pt x="13054" y="5206"/>
                  <a:pt x="13122" y="5234"/>
                </a:cubicBezTo>
                <a:cubicBezTo>
                  <a:pt x="13181" y="5258"/>
                  <a:pt x="13272" y="5221"/>
                  <a:pt x="13320" y="5184"/>
                </a:cubicBezTo>
                <a:cubicBezTo>
                  <a:pt x="13405" y="5119"/>
                  <a:pt x="13429" y="5054"/>
                  <a:pt x="13469" y="4961"/>
                </a:cubicBezTo>
                <a:cubicBezTo>
                  <a:pt x="13510" y="4865"/>
                  <a:pt x="13517" y="4860"/>
                  <a:pt x="13494" y="4762"/>
                </a:cubicBezTo>
                <a:cubicBezTo>
                  <a:pt x="13486" y="4728"/>
                  <a:pt x="13437" y="4725"/>
                  <a:pt x="13395" y="4738"/>
                </a:cubicBezTo>
                <a:cubicBezTo>
                  <a:pt x="13328" y="4760"/>
                  <a:pt x="13288" y="4837"/>
                  <a:pt x="13246" y="4887"/>
                </a:cubicBezTo>
                <a:cubicBezTo>
                  <a:pt x="13211" y="4929"/>
                  <a:pt x="13196" y="4930"/>
                  <a:pt x="13196" y="4986"/>
                </a:cubicBezTo>
                <a:cubicBezTo>
                  <a:pt x="13196" y="5042"/>
                  <a:pt x="13221" y="5056"/>
                  <a:pt x="13221" y="511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15960" y="2536920"/>
            <a:ext cx="5921280" cy="785880"/>
          </a:xfrm>
          <a:custGeom>
            <a:avLst/>
            <a:gdLst/>
            <a:ahLst/>
            <a:rect l="l" t="t" r="r" b="b"/>
            <a:pathLst>
              <a:path w="16446" h="2183">
                <a:moveTo>
                  <a:pt x="3101" y="7218"/>
                </a:moveTo>
                <a:cubicBezTo>
                  <a:pt x="3108" y="7273"/>
                  <a:pt x="3106" y="7296"/>
                  <a:pt x="3125" y="7342"/>
                </a:cubicBezTo>
                <a:cubicBezTo>
                  <a:pt x="3148" y="7365"/>
                  <a:pt x="3156" y="7369"/>
                  <a:pt x="3150" y="7392"/>
                </a:cubicBezTo>
                <a:cubicBezTo>
                  <a:pt x="3134" y="7360"/>
                  <a:pt x="3118" y="7326"/>
                  <a:pt x="3101" y="7293"/>
                </a:cubicBezTo>
                <a:cubicBezTo>
                  <a:pt x="3069" y="7229"/>
                  <a:pt x="3037" y="7180"/>
                  <a:pt x="2977" y="7144"/>
                </a:cubicBezTo>
                <a:cubicBezTo>
                  <a:pt x="2914" y="7107"/>
                  <a:pt x="2850" y="7072"/>
                  <a:pt x="2778" y="7069"/>
                </a:cubicBezTo>
                <a:cubicBezTo>
                  <a:pt x="2685" y="7065"/>
                  <a:pt x="2593" y="7062"/>
                  <a:pt x="2505" y="7094"/>
                </a:cubicBezTo>
                <a:cubicBezTo>
                  <a:pt x="2414" y="7127"/>
                  <a:pt x="2338" y="7178"/>
                  <a:pt x="2257" y="7218"/>
                </a:cubicBezTo>
                <a:cubicBezTo>
                  <a:pt x="2171" y="7261"/>
                  <a:pt x="2094" y="7309"/>
                  <a:pt x="2034" y="7392"/>
                </a:cubicBezTo>
                <a:cubicBezTo>
                  <a:pt x="1993" y="7449"/>
                  <a:pt x="1964" y="7522"/>
                  <a:pt x="1960" y="7590"/>
                </a:cubicBezTo>
                <a:cubicBezTo>
                  <a:pt x="1957" y="7642"/>
                  <a:pt x="2000" y="7722"/>
                  <a:pt x="2034" y="7764"/>
                </a:cubicBezTo>
                <a:cubicBezTo>
                  <a:pt x="2087" y="7828"/>
                  <a:pt x="2160" y="7872"/>
                  <a:pt x="2232" y="7913"/>
                </a:cubicBezTo>
                <a:cubicBezTo>
                  <a:pt x="2351" y="7982"/>
                  <a:pt x="2465" y="8059"/>
                  <a:pt x="2580" y="8136"/>
                </a:cubicBezTo>
                <a:cubicBezTo>
                  <a:pt x="2673" y="8198"/>
                  <a:pt x="2775" y="8308"/>
                  <a:pt x="2828" y="8409"/>
                </a:cubicBezTo>
                <a:cubicBezTo>
                  <a:pt x="2869" y="8487"/>
                  <a:pt x="2864" y="8588"/>
                  <a:pt x="2828" y="8657"/>
                </a:cubicBezTo>
                <a:cubicBezTo>
                  <a:pt x="2762" y="8781"/>
                  <a:pt x="2692" y="8761"/>
                  <a:pt x="2580" y="8806"/>
                </a:cubicBezTo>
                <a:cubicBezTo>
                  <a:pt x="2447" y="8859"/>
                  <a:pt x="2354" y="8855"/>
                  <a:pt x="2208" y="8855"/>
                </a:cubicBezTo>
                <a:cubicBezTo>
                  <a:pt x="2123" y="8855"/>
                  <a:pt x="1958" y="8824"/>
                  <a:pt x="1885" y="8781"/>
                </a:cubicBezTo>
                <a:cubicBezTo>
                  <a:pt x="1815" y="8740"/>
                  <a:pt x="1763" y="8700"/>
                  <a:pt x="1736" y="8657"/>
                </a:cubicBezTo>
                <a:cubicBezTo>
                  <a:pt x="1716" y="8626"/>
                  <a:pt x="1700" y="8644"/>
                  <a:pt x="1761" y="8632"/>
                </a:cubicBezTo>
              </a:path>
              <a:path w="16446" h="2183">
                <a:moveTo>
                  <a:pt x="3026" y="8706"/>
                </a:moveTo>
                <a:cubicBezTo>
                  <a:pt x="3092" y="8650"/>
                  <a:pt x="3090" y="8657"/>
                  <a:pt x="3175" y="8657"/>
                </a:cubicBezTo>
                <a:cubicBezTo>
                  <a:pt x="3245" y="8657"/>
                  <a:pt x="3227" y="8715"/>
                  <a:pt x="3225" y="8731"/>
                </a:cubicBezTo>
                <a:cubicBezTo>
                  <a:pt x="3217" y="8788"/>
                  <a:pt x="3114" y="8847"/>
                  <a:pt x="3051" y="8855"/>
                </a:cubicBezTo>
                <a:cubicBezTo>
                  <a:pt x="3010" y="8860"/>
                  <a:pt x="2936" y="8855"/>
                  <a:pt x="2977" y="8855"/>
                </a:cubicBezTo>
                <a:cubicBezTo>
                  <a:pt x="3034" y="8855"/>
                  <a:pt x="3084" y="8842"/>
                  <a:pt x="3125" y="8880"/>
                </a:cubicBezTo>
                <a:cubicBezTo>
                  <a:pt x="3183" y="8934"/>
                  <a:pt x="3221" y="8923"/>
                  <a:pt x="3225" y="9004"/>
                </a:cubicBezTo>
                <a:cubicBezTo>
                  <a:pt x="3229" y="9090"/>
                  <a:pt x="3205" y="9139"/>
                  <a:pt x="3125" y="9153"/>
                </a:cubicBezTo>
                <a:cubicBezTo>
                  <a:pt x="3048" y="9166"/>
                  <a:pt x="3036" y="9173"/>
                  <a:pt x="2977" y="9153"/>
                </a:cubicBezTo>
                <a:cubicBezTo>
                  <a:pt x="2955" y="9146"/>
                  <a:pt x="2970" y="9132"/>
                  <a:pt x="3001" y="9079"/>
                </a:cubicBezTo>
              </a:path>
              <a:path w="16446" h="2183">
                <a:moveTo>
                  <a:pt x="3349" y="9004"/>
                </a:moveTo>
                <a:cubicBezTo>
                  <a:pt x="3340" y="9093"/>
                  <a:pt x="3295" y="9217"/>
                  <a:pt x="3398" y="9227"/>
                </a:cubicBezTo>
                <a:cubicBezTo>
                  <a:pt x="3495" y="9236"/>
                  <a:pt x="3520" y="9241"/>
                  <a:pt x="3572" y="9178"/>
                </a:cubicBezTo>
                <a:cubicBezTo>
                  <a:pt x="3597" y="9148"/>
                  <a:pt x="3617" y="9045"/>
                  <a:pt x="3597" y="9004"/>
                </a:cubicBezTo>
                <a:cubicBezTo>
                  <a:pt x="3589" y="8989"/>
                  <a:pt x="3497" y="8904"/>
                  <a:pt x="3473" y="8880"/>
                </a:cubicBezTo>
                <a:cubicBezTo>
                  <a:pt x="3418" y="8825"/>
                  <a:pt x="3433" y="8894"/>
                  <a:pt x="3448" y="8806"/>
                </a:cubicBezTo>
              </a:path>
              <a:path w="16446" h="2183">
                <a:moveTo>
                  <a:pt x="3870" y="8235"/>
                </a:moveTo>
                <a:cubicBezTo>
                  <a:pt x="3940" y="8262"/>
                  <a:pt x="3992" y="8260"/>
                  <a:pt x="4068" y="8260"/>
                </a:cubicBezTo>
                <a:cubicBezTo>
                  <a:pt x="4118" y="8260"/>
                  <a:pt x="4167" y="8260"/>
                  <a:pt x="4217" y="8260"/>
                </a:cubicBezTo>
              </a:path>
              <a:path w="16446" h="2183">
                <a:moveTo>
                  <a:pt x="3870" y="8434"/>
                </a:moveTo>
                <a:cubicBezTo>
                  <a:pt x="3994" y="8434"/>
                  <a:pt x="4063" y="8421"/>
                  <a:pt x="4167" y="8483"/>
                </a:cubicBezTo>
              </a:path>
              <a:path w="16446" h="2183">
                <a:moveTo>
                  <a:pt x="4887" y="7119"/>
                </a:moveTo>
                <a:cubicBezTo>
                  <a:pt x="4950" y="7095"/>
                  <a:pt x="5002" y="7089"/>
                  <a:pt x="5060" y="7069"/>
                </a:cubicBezTo>
                <a:cubicBezTo>
                  <a:pt x="5162" y="7034"/>
                  <a:pt x="5232" y="7049"/>
                  <a:pt x="5333" y="7094"/>
                </a:cubicBezTo>
                <a:cubicBezTo>
                  <a:pt x="5392" y="7121"/>
                  <a:pt x="5402" y="7175"/>
                  <a:pt x="5383" y="7243"/>
                </a:cubicBezTo>
                <a:cubicBezTo>
                  <a:pt x="5362" y="7319"/>
                  <a:pt x="5297" y="7376"/>
                  <a:pt x="5234" y="7417"/>
                </a:cubicBezTo>
                <a:cubicBezTo>
                  <a:pt x="5168" y="7461"/>
                  <a:pt x="5074" y="7478"/>
                  <a:pt x="5011" y="7516"/>
                </a:cubicBezTo>
                <a:cubicBezTo>
                  <a:pt x="4948" y="7554"/>
                  <a:pt x="5023" y="7525"/>
                  <a:pt x="5035" y="7516"/>
                </a:cubicBezTo>
                <a:cubicBezTo>
                  <a:pt x="5067" y="7492"/>
                  <a:pt x="5125" y="7473"/>
                  <a:pt x="5159" y="7466"/>
                </a:cubicBezTo>
                <a:cubicBezTo>
                  <a:pt x="5210" y="7456"/>
                  <a:pt x="5291" y="7512"/>
                  <a:pt x="5333" y="7541"/>
                </a:cubicBezTo>
                <a:cubicBezTo>
                  <a:pt x="5363" y="7561"/>
                  <a:pt x="5435" y="7679"/>
                  <a:pt x="5432" y="7714"/>
                </a:cubicBezTo>
                <a:cubicBezTo>
                  <a:pt x="5426" y="7786"/>
                  <a:pt x="5353" y="7834"/>
                  <a:pt x="5283" y="7863"/>
                </a:cubicBezTo>
                <a:cubicBezTo>
                  <a:pt x="5201" y="7897"/>
                  <a:pt x="5122" y="7888"/>
                  <a:pt x="5035" y="7888"/>
                </a:cubicBezTo>
                <a:cubicBezTo>
                  <a:pt x="4980" y="7888"/>
                  <a:pt x="4914" y="7901"/>
                  <a:pt x="4887" y="7838"/>
                </a:cubicBezTo>
                <a:cubicBezTo>
                  <a:pt x="4868" y="7795"/>
                  <a:pt x="4910" y="7765"/>
                  <a:pt x="4936" y="7739"/>
                </a:cubicBezTo>
              </a:path>
              <a:path w="16446" h="2183">
                <a:moveTo>
                  <a:pt x="5457" y="7417"/>
                </a:moveTo>
                <a:cubicBezTo>
                  <a:pt x="5426" y="7596"/>
                  <a:pt x="5375" y="7664"/>
                  <a:pt x="5482" y="7789"/>
                </a:cubicBezTo>
                <a:cubicBezTo>
                  <a:pt x="5526" y="7840"/>
                  <a:pt x="5570" y="7838"/>
                  <a:pt x="5631" y="7838"/>
                </a:cubicBezTo>
                <a:cubicBezTo>
                  <a:pt x="5716" y="7838"/>
                  <a:pt x="5769" y="7795"/>
                  <a:pt x="5829" y="7739"/>
                </a:cubicBezTo>
                <a:cubicBezTo>
                  <a:pt x="5878" y="7694"/>
                  <a:pt x="5901" y="7606"/>
                  <a:pt x="5904" y="7541"/>
                </a:cubicBezTo>
                <a:cubicBezTo>
                  <a:pt x="5908" y="7456"/>
                  <a:pt x="5908" y="7365"/>
                  <a:pt x="5854" y="7293"/>
                </a:cubicBezTo>
                <a:cubicBezTo>
                  <a:pt x="5821" y="7248"/>
                  <a:pt x="5741" y="7155"/>
                  <a:pt x="5680" y="7144"/>
                </a:cubicBezTo>
                <a:cubicBezTo>
                  <a:pt x="5619" y="7133"/>
                  <a:pt x="5529" y="7134"/>
                  <a:pt x="5482" y="7169"/>
                </a:cubicBezTo>
              </a:path>
              <a:path w="16446" h="2183">
                <a:moveTo>
                  <a:pt x="4688" y="8062"/>
                </a:moveTo>
                <a:cubicBezTo>
                  <a:pt x="4824" y="8084"/>
                  <a:pt x="4947" y="8086"/>
                  <a:pt x="5085" y="8086"/>
                </a:cubicBezTo>
                <a:cubicBezTo>
                  <a:pt x="5286" y="8086"/>
                  <a:pt x="5482" y="8096"/>
                  <a:pt x="5680" y="8111"/>
                </a:cubicBezTo>
                <a:cubicBezTo>
                  <a:pt x="5715" y="8114"/>
                  <a:pt x="5929" y="8111"/>
                  <a:pt x="5879" y="8111"/>
                </a:cubicBezTo>
                <a:cubicBezTo>
                  <a:pt x="5838" y="8111"/>
                  <a:pt x="5796" y="8111"/>
                  <a:pt x="5755" y="8111"/>
                </a:cubicBezTo>
              </a:path>
              <a:path w="16446" h="2183">
                <a:moveTo>
                  <a:pt x="4986" y="8334"/>
                </a:moveTo>
                <a:cubicBezTo>
                  <a:pt x="5060" y="8334"/>
                  <a:pt x="5115" y="8321"/>
                  <a:pt x="5184" y="8310"/>
                </a:cubicBezTo>
                <a:cubicBezTo>
                  <a:pt x="5256" y="8298"/>
                  <a:pt x="5314" y="8329"/>
                  <a:pt x="5383" y="8334"/>
                </a:cubicBezTo>
                <a:cubicBezTo>
                  <a:pt x="5452" y="8339"/>
                  <a:pt x="5512" y="8408"/>
                  <a:pt x="5507" y="8483"/>
                </a:cubicBezTo>
                <a:cubicBezTo>
                  <a:pt x="5504" y="8536"/>
                  <a:pt x="5447" y="8614"/>
                  <a:pt x="5407" y="8657"/>
                </a:cubicBezTo>
                <a:cubicBezTo>
                  <a:pt x="5363" y="8703"/>
                  <a:pt x="5256" y="8826"/>
                  <a:pt x="5209" y="8855"/>
                </a:cubicBezTo>
                <a:cubicBezTo>
                  <a:pt x="5165" y="8881"/>
                  <a:pt x="5081" y="8908"/>
                  <a:pt x="5035" y="8954"/>
                </a:cubicBezTo>
                <a:cubicBezTo>
                  <a:pt x="5027" y="8971"/>
                  <a:pt x="5019" y="8987"/>
                  <a:pt x="5011" y="9004"/>
                </a:cubicBezTo>
                <a:cubicBezTo>
                  <a:pt x="4944" y="9004"/>
                  <a:pt x="5049" y="9004"/>
                  <a:pt x="5060" y="9004"/>
                </a:cubicBezTo>
                <a:cubicBezTo>
                  <a:pt x="5169" y="9004"/>
                  <a:pt x="5274" y="9024"/>
                  <a:pt x="5383" y="9029"/>
                </a:cubicBezTo>
                <a:cubicBezTo>
                  <a:pt x="5460" y="9032"/>
                  <a:pt x="5500" y="9079"/>
                  <a:pt x="5581" y="9079"/>
                </a:cubicBezTo>
                <a:cubicBezTo>
                  <a:pt x="5678" y="9079"/>
                  <a:pt x="5645" y="9093"/>
                  <a:pt x="5680" y="9029"/>
                </a:cubicBezTo>
                <a:cubicBezTo>
                  <a:pt x="5688" y="9021"/>
                  <a:pt x="5697" y="9012"/>
                  <a:pt x="5705" y="9004"/>
                </a:cubicBezTo>
              </a:path>
              <a:path w="16446" h="2183">
                <a:moveTo>
                  <a:pt x="6648" y="7243"/>
                </a:moveTo>
                <a:cubicBezTo>
                  <a:pt x="6592" y="7275"/>
                  <a:pt x="6560" y="7293"/>
                  <a:pt x="6524" y="7367"/>
                </a:cubicBezTo>
                <a:cubicBezTo>
                  <a:pt x="6473" y="7474"/>
                  <a:pt x="6427" y="7581"/>
                  <a:pt x="6375" y="7689"/>
                </a:cubicBezTo>
                <a:cubicBezTo>
                  <a:pt x="6310" y="7823"/>
                  <a:pt x="6300" y="7919"/>
                  <a:pt x="6276" y="8062"/>
                </a:cubicBezTo>
                <a:cubicBezTo>
                  <a:pt x="6256" y="8181"/>
                  <a:pt x="6271" y="8244"/>
                  <a:pt x="6276" y="8359"/>
                </a:cubicBezTo>
                <a:cubicBezTo>
                  <a:pt x="6279" y="8439"/>
                  <a:pt x="6297" y="8559"/>
                  <a:pt x="6325" y="8632"/>
                </a:cubicBezTo>
                <a:cubicBezTo>
                  <a:pt x="6342" y="8677"/>
                  <a:pt x="6391" y="8699"/>
                  <a:pt x="6400" y="8731"/>
                </a:cubicBezTo>
                <a:cubicBezTo>
                  <a:pt x="6428" y="8836"/>
                  <a:pt x="6384" y="8767"/>
                  <a:pt x="6400" y="8731"/>
                </a:cubicBezTo>
                <a:cubicBezTo>
                  <a:pt x="6429" y="8701"/>
                  <a:pt x="6440" y="8687"/>
                  <a:pt x="6449" y="8657"/>
                </a:cubicBezTo>
              </a:path>
              <a:path w="16446" h="2183">
                <a:moveTo>
                  <a:pt x="6896" y="7838"/>
                </a:moveTo>
                <a:cubicBezTo>
                  <a:pt x="7008" y="7754"/>
                  <a:pt x="7036" y="7721"/>
                  <a:pt x="7169" y="7714"/>
                </a:cubicBezTo>
                <a:cubicBezTo>
                  <a:pt x="7231" y="7711"/>
                  <a:pt x="7321" y="7712"/>
                  <a:pt x="7367" y="7764"/>
                </a:cubicBezTo>
                <a:cubicBezTo>
                  <a:pt x="7408" y="7810"/>
                  <a:pt x="7385" y="7865"/>
                  <a:pt x="7367" y="7913"/>
                </a:cubicBezTo>
                <a:cubicBezTo>
                  <a:pt x="7335" y="8001"/>
                  <a:pt x="7282" y="8068"/>
                  <a:pt x="7218" y="8136"/>
                </a:cubicBezTo>
                <a:cubicBezTo>
                  <a:pt x="7155" y="8203"/>
                  <a:pt x="7074" y="8289"/>
                  <a:pt x="6995" y="8334"/>
                </a:cubicBezTo>
                <a:cubicBezTo>
                  <a:pt x="6950" y="8359"/>
                  <a:pt x="6889" y="8369"/>
                  <a:pt x="6871" y="8434"/>
                </a:cubicBezTo>
                <a:cubicBezTo>
                  <a:pt x="6871" y="8450"/>
                  <a:pt x="6871" y="8467"/>
                  <a:pt x="6871" y="8483"/>
                </a:cubicBezTo>
                <a:cubicBezTo>
                  <a:pt x="6900" y="8505"/>
                  <a:pt x="6975" y="8550"/>
                  <a:pt x="6995" y="8558"/>
                </a:cubicBezTo>
                <a:cubicBezTo>
                  <a:pt x="7111" y="8604"/>
                  <a:pt x="7403" y="8567"/>
                  <a:pt x="7491" y="8508"/>
                </a:cubicBezTo>
              </a:path>
              <a:path w="16446" h="2183">
                <a:moveTo>
                  <a:pt x="7838" y="7764"/>
                </a:moveTo>
                <a:cubicBezTo>
                  <a:pt x="7792" y="7821"/>
                  <a:pt x="7764" y="7868"/>
                  <a:pt x="7739" y="7938"/>
                </a:cubicBezTo>
                <a:cubicBezTo>
                  <a:pt x="7708" y="8024"/>
                  <a:pt x="7653" y="8119"/>
                  <a:pt x="7640" y="8210"/>
                </a:cubicBezTo>
                <a:cubicBezTo>
                  <a:pt x="7625" y="8314"/>
                  <a:pt x="7669" y="8372"/>
                  <a:pt x="7714" y="8434"/>
                </a:cubicBezTo>
                <a:cubicBezTo>
                  <a:pt x="7764" y="8502"/>
                  <a:pt x="7801" y="8483"/>
                  <a:pt x="7888" y="8483"/>
                </a:cubicBezTo>
                <a:cubicBezTo>
                  <a:pt x="7977" y="8483"/>
                  <a:pt x="8049" y="8481"/>
                  <a:pt x="8111" y="8409"/>
                </a:cubicBezTo>
                <a:cubicBezTo>
                  <a:pt x="8174" y="8336"/>
                  <a:pt x="8206" y="8316"/>
                  <a:pt x="8210" y="8210"/>
                </a:cubicBezTo>
                <a:cubicBezTo>
                  <a:pt x="8213" y="8120"/>
                  <a:pt x="8214" y="8017"/>
                  <a:pt x="8161" y="7938"/>
                </a:cubicBezTo>
                <a:cubicBezTo>
                  <a:pt x="8121" y="7878"/>
                  <a:pt x="8035" y="7805"/>
                  <a:pt x="7962" y="7789"/>
                </a:cubicBezTo>
                <a:cubicBezTo>
                  <a:pt x="7897" y="7775"/>
                  <a:pt x="7827" y="7761"/>
                  <a:pt x="7764" y="7789"/>
                </a:cubicBezTo>
                <a:cubicBezTo>
                  <a:pt x="7741" y="7811"/>
                  <a:pt x="7736" y="7819"/>
                  <a:pt x="7714" y="7813"/>
                </a:cubicBezTo>
                <a:cubicBezTo>
                  <a:pt x="7723" y="7849"/>
                  <a:pt x="7752" y="7892"/>
                  <a:pt x="7789" y="7913"/>
                </a:cubicBezTo>
                <a:cubicBezTo>
                  <a:pt x="7822" y="7929"/>
                  <a:pt x="7855" y="7946"/>
                  <a:pt x="7888" y="7962"/>
                </a:cubicBezTo>
              </a:path>
              <a:path w="16446" h="2183">
                <a:moveTo>
                  <a:pt x="8756" y="7913"/>
                </a:moveTo>
                <a:cubicBezTo>
                  <a:pt x="8710" y="7997"/>
                  <a:pt x="8699" y="8045"/>
                  <a:pt x="8682" y="8136"/>
                </a:cubicBezTo>
                <a:cubicBezTo>
                  <a:pt x="8659" y="8265"/>
                  <a:pt x="8662" y="8268"/>
                  <a:pt x="8682" y="8359"/>
                </a:cubicBezTo>
                <a:cubicBezTo>
                  <a:pt x="8694" y="8414"/>
                  <a:pt x="8718" y="8514"/>
                  <a:pt x="8657" y="8434"/>
                </a:cubicBezTo>
              </a:path>
              <a:path w="16446" h="2183">
                <a:moveTo>
                  <a:pt x="8434" y="8161"/>
                </a:moveTo>
                <a:cubicBezTo>
                  <a:pt x="8527" y="8151"/>
                  <a:pt x="8610" y="8136"/>
                  <a:pt x="8706" y="8136"/>
                </a:cubicBezTo>
                <a:cubicBezTo>
                  <a:pt x="8810" y="8136"/>
                  <a:pt x="8902" y="8120"/>
                  <a:pt x="9004" y="8111"/>
                </a:cubicBezTo>
              </a:path>
              <a:path w="16446" h="2183">
                <a:moveTo>
                  <a:pt x="9451" y="7813"/>
                </a:moveTo>
                <a:cubicBezTo>
                  <a:pt x="9464" y="7865"/>
                  <a:pt x="9475" y="7900"/>
                  <a:pt x="9475" y="7962"/>
                </a:cubicBezTo>
                <a:cubicBezTo>
                  <a:pt x="9475" y="8070"/>
                  <a:pt x="9451" y="8172"/>
                  <a:pt x="9451" y="8285"/>
                </a:cubicBezTo>
                <a:cubicBezTo>
                  <a:pt x="9451" y="8433"/>
                  <a:pt x="9417" y="8843"/>
                  <a:pt x="9475" y="8706"/>
                </a:cubicBezTo>
                <a:cubicBezTo>
                  <a:pt x="9475" y="8665"/>
                  <a:pt x="9475" y="8657"/>
                  <a:pt x="9475" y="8632"/>
                </a:cubicBezTo>
              </a:path>
              <a:path w="16446" h="2183">
                <a:moveTo>
                  <a:pt x="9649" y="7987"/>
                </a:moveTo>
                <a:cubicBezTo>
                  <a:pt x="9746" y="7926"/>
                  <a:pt x="9783" y="7913"/>
                  <a:pt x="9897" y="7913"/>
                </a:cubicBezTo>
                <a:cubicBezTo>
                  <a:pt x="9954" y="7913"/>
                  <a:pt x="10001" y="7962"/>
                  <a:pt x="10021" y="8012"/>
                </a:cubicBezTo>
                <a:cubicBezTo>
                  <a:pt x="10032" y="8040"/>
                  <a:pt x="9994" y="8120"/>
                  <a:pt x="9971" y="8136"/>
                </a:cubicBezTo>
                <a:cubicBezTo>
                  <a:pt x="9931" y="8164"/>
                  <a:pt x="9866" y="8218"/>
                  <a:pt x="9823" y="8235"/>
                </a:cubicBezTo>
                <a:cubicBezTo>
                  <a:pt x="9815" y="8238"/>
                  <a:pt x="9704" y="8235"/>
                  <a:pt x="9773" y="8235"/>
                </a:cubicBezTo>
                <a:cubicBezTo>
                  <a:pt x="9819" y="8200"/>
                  <a:pt x="9885" y="8191"/>
                  <a:pt x="9947" y="8210"/>
                </a:cubicBezTo>
                <a:cubicBezTo>
                  <a:pt x="10000" y="8226"/>
                  <a:pt x="10033" y="8273"/>
                  <a:pt x="10071" y="8310"/>
                </a:cubicBezTo>
                <a:cubicBezTo>
                  <a:pt x="10128" y="8366"/>
                  <a:pt x="10136" y="8402"/>
                  <a:pt x="10096" y="8483"/>
                </a:cubicBezTo>
                <a:cubicBezTo>
                  <a:pt x="10067" y="8541"/>
                  <a:pt x="9980" y="8601"/>
                  <a:pt x="9922" y="8632"/>
                </a:cubicBezTo>
                <a:cubicBezTo>
                  <a:pt x="9858" y="8666"/>
                  <a:pt x="9700" y="8638"/>
                  <a:pt x="9674" y="8582"/>
                </a:cubicBezTo>
                <a:cubicBezTo>
                  <a:pt x="9653" y="8536"/>
                  <a:pt x="9664" y="8528"/>
                  <a:pt x="9699" y="8483"/>
                </a:cubicBezTo>
                <a:cubicBezTo>
                  <a:pt x="9715" y="8458"/>
                  <a:pt x="9732" y="8434"/>
                  <a:pt x="9748" y="8409"/>
                </a:cubicBezTo>
              </a:path>
              <a:path w="16446" h="2183">
                <a:moveTo>
                  <a:pt x="10468" y="7888"/>
                </a:moveTo>
                <a:cubicBezTo>
                  <a:pt x="10468" y="7960"/>
                  <a:pt x="10451" y="7998"/>
                  <a:pt x="10418" y="8062"/>
                </a:cubicBezTo>
                <a:cubicBezTo>
                  <a:pt x="10375" y="8148"/>
                  <a:pt x="10353" y="8234"/>
                  <a:pt x="10319" y="8310"/>
                </a:cubicBezTo>
                <a:cubicBezTo>
                  <a:pt x="10285" y="8388"/>
                  <a:pt x="10298" y="8410"/>
                  <a:pt x="10344" y="8483"/>
                </a:cubicBezTo>
                <a:cubicBezTo>
                  <a:pt x="10376" y="8533"/>
                  <a:pt x="10458" y="8609"/>
                  <a:pt x="10517" y="8632"/>
                </a:cubicBezTo>
                <a:cubicBezTo>
                  <a:pt x="10595" y="8662"/>
                  <a:pt x="10685" y="8625"/>
                  <a:pt x="10740" y="8582"/>
                </a:cubicBezTo>
                <a:cubicBezTo>
                  <a:pt x="10811" y="8527"/>
                  <a:pt x="10840" y="8494"/>
                  <a:pt x="10840" y="8409"/>
                </a:cubicBezTo>
                <a:cubicBezTo>
                  <a:pt x="10840" y="8326"/>
                  <a:pt x="10812" y="8334"/>
                  <a:pt x="10740" y="8334"/>
                </a:cubicBezTo>
                <a:cubicBezTo>
                  <a:pt x="10651" y="8334"/>
                  <a:pt x="10665" y="8342"/>
                  <a:pt x="10616" y="8409"/>
                </a:cubicBezTo>
                <a:cubicBezTo>
                  <a:pt x="10593" y="8440"/>
                  <a:pt x="10575" y="8515"/>
                  <a:pt x="10592" y="8558"/>
                </a:cubicBezTo>
                <a:cubicBezTo>
                  <a:pt x="10618" y="8621"/>
                  <a:pt x="10650" y="8609"/>
                  <a:pt x="10691" y="8632"/>
                </a:cubicBezTo>
                <a:cubicBezTo>
                  <a:pt x="10753" y="8666"/>
                  <a:pt x="10779" y="8635"/>
                  <a:pt x="10815" y="8582"/>
                </a:cubicBezTo>
              </a:path>
              <a:path w="16446" h="2183">
                <a:moveTo>
                  <a:pt x="11162" y="7317"/>
                </a:moveTo>
                <a:cubicBezTo>
                  <a:pt x="11266" y="7506"/>
                  <a:pt x="11364" y="7690"/>
                  <a:pt x="11385" y="7913"/>
                </a:cubicBezTo>
                <a:cubicBezTo>
                  <a:pt x="11400" y="8071"/>
                  <a:pt x="11359" y="8221"/>
                  <a:pt x="11286" y="8359"/>
                </a:cubicBezTo>
                <a:cubicBezTo>
                  <a:pt x="11218" y="8486"/>
                  <a:pt x="11078" y="8647"/>
                  <a:pt x="10964" y="8731"/>
                </a:cubicBezTo>
                <a:cubicBezTo>
                  <a:pt x="10860" y="8783"/>
                  <a:pt x="10824" y="8802"/>
                  <a:pt x="10765" y="8855"/>
                </a:cubicBezTo>
              </a:path>
              <a:path w="16446" h="2183">
                <a:moveTo>
                  <a:pt x="11683" y="8235"/>
                </a:moveTo>
                <a:cubicBezTo>
                  <a:pt x="11772" y="8246"/>
                  <a:pt x="11813" y="8239"/>
                  <a:pt x="11906" y="8235"/>
                </a:cubicBezTo>
                <a:cubicBezTo>
                  <a:pt x="11989" y="8232"/>
                  <a:pt x="12049" y="8246"/>
                  <a:pt x="12129" y="8260"/>
                </a:cubicBezTo>
              </a:path>
              <a:path w="16446" h="2183">
                <a:moveTo>
                  <a:pt x="11782" y="8434"/>
                </a:moveTo>
                <a:cubicBezTo>
                  <a:pt x="11873" y="8483"/>
                  <a:pt x="11903" y="8483"/>
                  <a:pt x="12005" y="8483"/>
                </a:cubicBezTo>
                <a:cubicBezTo>
                  <a:pt x="12022" y="8483"/>
                  <a:pt x="12038" y="8483"/>
                  <a:pt x="12055" y="8483"/>
                </a:cubicBezTo>
              </a:path>
              <a:path w="16446" h="2183">
                <a:moveTo>
                  <a:pt x="12477" y="7987"/>
                </a:moveTo>
                <a:cubicBezTo>
                  <a:pt x="12525" y="7952"/>
                  <a:pt x="12532" y="7932"/>
                  <a:pt x="12576" y="7888"/>
                </a:cubicBezTo>
                <a:cubicBezTo>
                  <a:pt x="12618" y="7846"/>
                  <a:pt x="12693" y="7822"/>
                  <a:pt x="12750" y="7813"/>
                </a:cubicBezTo>
                <a:cubicBezTo>
                  <a:pt x="12822" y="7802"/>
                  <a:pt x="12823" y="7830"/>
                  <a:pt x="12874" y="7863"/>
                </a:cubicBezTo>
                <a:cubicBezTo>
                  <a:pt x="12924" y="7896"/>
                  <a:pt x="12945" y="7887"/>
                  <a:pt x="12948" y="7962"/>
                </a:cubicBezTo>
                <a:cubicBezTo>
                  <a:pt x="12951" y="8018"/>
                  <a:pt x="12940" y="8085"/>
                  <a:pt x="12923" y="8136"/>
                </a:cubicBezTo>
                <a:cubicBezTo>
                  <a:pt x="12901" y="8202"/>
                  <a:pt x="12836" y="8272"/>
                  <a:pt x="12799" y="8334"/>
                </a:cubicBezTo>
                <a:cubicBezTo>
                  <a:pt x="12746" y="8421"/>
                  <a:pt x="12652" y="8482"/>
                  <a:pt x="12601" y="8558"/>
                </a:cubicBezTo>
                <a:cubicBezTo>
                  <a:pt x="12551" y="8633"/>
                  <a:pt x="12523" y="8724"/>
                  <a:pt x="12452" y="8781"/>
                </a:cubicBezTo>
                <a:cubicBezTo>
                  <a:pt x="12406" y="8818"/>
                  <a:pt x="12378" y="8849"/>
                  <a:pt x="12353" y="8880"/>
                </a:cubicBezTo>
                <a:cubicBezTo>
                  <a:pt x="12389" y="8866"/>
                  <a:pt x="12409" y="8858"/>
                  <a:pt x="12452" y="8855"/>
                </a:cubicBezTo>
                <a:cubicBezTo>
                  <a:pt x="12527" y="8851"/>
                  <a:pt x="12534" y="8824"/>
                  <a:pt x="12601" y="8806"/>
                </a:cubicBezTo>
                <a:cubicBezTo>
                  <a:pt x="12689" y="8782"/>
                  <a:pt x="12723" y="8847"/>
                  <a:pt x="12799" y="8855"/>
                </a:cubicBezTo>
                <a:cubicBezTo>
                  <a:pt x="12861" y="8862"/>
                  <a:pt x="12914" y="8871"/>
                  <a:pt x="12973" y="8880"/>
                </a:cubicBezTo>
                <a:cubicBezTo>
                  <a:pt x="13003" y="8884"/>
                  <a:pt x="13041" y="8880"/>
                  <a:pt x="13072" y="8880"/>
                </a:cubicBezTo>
              </a:path>
              <a:path w="16446" h="2183">
                <a:moveTo>
                  <a:pt x="13295" y="7962"/>
                </a:moveTo>
                <a:cubicBezTo>
                  <a:pt x="13399" y="7918"/>
                  <a:pt x="13435" y="7913"/>
                  <a:pt x="13543" y="7913"/>
                </a:cubicBezTo>
                <a:cubicBezTo>
                  <a:pt x="13603" y="7913"/>
                  <a:pt x="13673" y="7947"/>
                  <a:pt x="13692" y="8012"/>
                </a:cubicBezTo>
                <a:cubicBezTo>
                  <a:pt x="13711" y="8076"/>
                  <a:pt x="13672" y="8113"/>
                  <a:pt x="13643" y="8161"/>
                </a:cubicBezTo>
                <a:cubicBezTo>
                  <a:pt x="13607" y="8221"/>
                  <a:pt x="13553" y="8257"/>
                  <a:pt x="13494" y="8285"/>
                </a:cubicBezTo>
                <a:cubicBezTo>
                  <a:pt x="13430" y="8315"/>
                  <a:pt x="13418" y="8334"/>
                  <a:pt x="13345" y="8334"/>
                </a:cubicBezTo>
                <a:cubicBezTo>
                  <a:pt x="13413" y="8334"/>
                  <a:pt x="13518" y="8313"/>
                  <a:pt x="13568" y="8359"/>
                </a:cubicBezTo>
                <a:cubicBezTo>
                  <a:pt x="13643" y="8429"/>
                  <a:pt x="13624" y="8421"/>
                  <a:pt x="13667" y="8508"/>
                </a:cubicBezTo>
                <a:cubicBezTo>
                  <a:pt x="13711" y="8596"/>
                  <a:pt x="13678" y="8626"/>
                  <a:pt x="13667" y="8706"/>
                </a:cubicBezTo>
                <a:cubicBezTo>
                  <a:pt x="13657" y="8782"/>
                  <a:pt x="13612" y="8840"/>
                  <a:pt x="13519" y="8855"/>
                </a:cubicBezTo>
                <a:cubicBezTo>
                  <a:pt x="13405" y="8874"/>
                  <a:pt x="13320" y="8850"/>
                  <a:pt x="13246" y="8806"/>
                </a:cubicBezTo>
                <a:cubicBezTo>
                  <a:pt x="13202" y="8780"/>
                  <a:pt x="13220" y="8792"/>
                  <a:pt x="13246" y="8706"/>
                </a:cubicBezTo>
              </a:path>
              <a:path w="16446" h="2183">
                <a:moveTo>
                  <a:pt x="13940" y="8062"/>
                </a:moveTo>
                <a:cubicBezTo>
                  <a:pt x="13940" y="8135"/>
                  <a:pt x="13927" y="8176"/>
                  <a:pt x="13915" y="8235"/>
                </a:cubicBezTo>
                <a:cubicBezTo>
                  <a:pt x="13907" y="8275"/>
                  <a:pt x="13893" y="8324"/>
                  <a:pt x="13891" y="8359"/>
                </a:cubicBezTo>
                <a:cubicBezTo>
                  <a:pt x="13888" y="8404"/>
                  <a:pt x="13904" y="8429"/>
                  <a:pt x="13940" y="8434"/>
                </a:cubicBezTo>
                <a:cubicBezTo>
                  <a:pt x="13948" y="8434"/>
                  <a:pt x="13957" y="8434"/>
                  <a:pt x="13965" y="8434"/>
                </a:cubicBezTo>
                <a:cubicBezTo>
                  <a:pt x="13989" y="8504"/>
                  <a:pt x="14007" y="8483"/>
                  <a:pt x="14089" y="8483"/>
                </a:cubicBezTo>
                <a:cubicBezTo>
                  <a:pt x="14205" y="8483"/>
                  <a:pt x="14296" y="8501"/>
                  <a:pt x="14387" y="8434"/>
                </a:cubicBezTo>
              </a:path>
              <a:path w="16446" h="2183">
                <a:moveTo>
                  <a:pt x="14312" y="7764"/>
                </a:moveTo>
                <a:cubicBezTo>
                  <a:pt x="14292" y="7868"/>
                  <a:pt x="14288" y="7956"/>
                  <a:pt x="14288" y="8062"/>
                </a:cubicBezTo>
                <a:cubicBezTo>
                  <a:pt x="14288" y="8189"/>
                  <a:pt x="14267" y="8308"/>
                  <a:pt x="14263" y="8434"/>
                </a:cubicBezTo>
                <a:cubicBezTo>
                  <a:pt x="14259" y="8536"/>
                  <a:pt x="14244" y="8633"/>
                  <a:pt x="14238" y="8731"/>
                </a:cubicBezTo>
                <a:cubicBezTo>
                  <a:pt x="14236" y="8766"/>
                  <a:pt x="14244" y="8886"/>
                  <a:pt x="14263" y="8880"/>
                </a:cubicBezTo>
                <a:cubicBezTo>
                  <a:pt x="14271" y="8872"/>
                  <a:pt x="14280" y="8863"/>
                  <a:pt x="14288" y="8855"/>
                </a:cubicBezTo>
              </a:path>
              <a:path w="16446" h="2183">
                <a:moveTo>
                  <a:pt x="14585" y="7962"/>
                </a:moveTo>
                <a:cubicBezTo>
                  <a:pt x="14585" y="8048"/>
                  <a:pt x="14578" y="8128"/>
                  <a:pt x="14560" y="8210"/>
                </a:cubicBezTo>
                <a:cubicBezTo>
                  <a:pt x="14539" y="8303"/>
                  <a:pt x="14515" y="8387"/>
                  <a:pt x="14511" y="8483"/>
                </a:cubicBezTo>
                <a:cubicBezTo>
                  <a:pt x="14507" y="8584"/>
                  <a:pt x="14512" y="8645"/>
                  <a:pt x="14560" y="8731"/>
                </a:cubicBezTo>
                <a:cubicBezTo>
                  <a:pt x="14601" y="8805"/>
                  <a:pt x="14620" y="8895"/>
                  <a:pt x="14709" y="8930"/>
                </a:cubicBezTo>
                <a:cubicBezTo>
                  <a:pt x="14802" y="8966"/>
                  <a:pt x="14991" y="8932"/>
                  <a:pt x="15056" y="8880"/>
                </a:cubicBezTo>
                <a:cubicBezTo>
                  <a:pt x="15148" y="8807"/>
                  <a:pt x="15176" y="8733"/>
                  <a:pt x="15205" y="8632"/>
                </a:cubicBezTo>
                <a:cubicBezTo>
                  <a:pt x="15235" y="8529"/>
                  <a:pt x="15228" y="8438"/>
                  <a:pt x="15205" y="8334"/>
                </a:cubicBezTo>
                <a:cubicBezTo>
                  <a:pt x="15179" y="8219"/>
                  <a:pt x="15138" y="8136"/>
                  <a:pt x="15081" y="8037"/>
                </a:cubicBezTo>
                <a:cubicBezTo>
                  <a:pt x="15037" y="7961"/>
                  <a:pt x="14956" y="7941"/>
                  <a:pt x="14883" y="7913"/>
                </a:cubicBezTo>
                <a:cubicBezTo>
                  <a:pt x="14802" y="7881"/>
                  <a:pt x="14719" y="7925"/>
                  <a:pt x="14635" y="7962"/>
                </a:cubicBezTo>
                <a:cubicBezTo>
                  <a:pt x="14551" y="7999"/>
                  <a:pt x="14548" y="8083"/>
                  <a:pt x="14511" y="8161"/>
                </a:cubicBezTo>
                <a:cubicBezTo>
                  <a:pt x="14475" y="8236"/>
                  <a:pt x="14497" y="8290"/>
                  <a:pt x="14511" y="8334"/>
                </a:cubicBezTo>
                <a:cubicBezTo>
                  <a:pt x="14531" y="8395"/>
                  <a:pt x="14529" y="8409"/>
                  <a:pt x="14560" y="8434"/>
                </a:cubicBezTo>
              </a:path>
              <a:path w="16446" h="2183">
                <a:moveTo>
                  <a:pt x="15974" y="8334"/>
                </a:moveTo>
                <a:cubicBezTo>
                  <a:pt x="15923" y="8322"/>
                  <a:pt x="15926" y="8277"/>
                  <a:pt x="15900" y="8260"/>
                </a:cubicBezTo>
                <a:cubicBezTo>
                  <a:pt x="15874" y="8242"/>
                  <a:pt x="15837" y="8235"/>
                  <a:pt x="15801" y="8235"/>
                </a:cubicBezTo>
                <a:cubicBezTo>
                  <a:pt x="15765" y="8235"/>
                  <a:pt x="15727" y="8242"/>
                  <a:pt x="15701" y="8260"/>
                </a:cubicBezTo>
                <a:cubicBezTo>
                  <a:pt x="15676" y="8277"/>
                  <a:pt x="15636" y="8330"/>
                  <a:pt x="15627" y="8334"/>
                </a:cubicBezTo>
                <a:cubicBezTo>
                  <a:pt x="15574" y="8359"/>
                  <a:pt x="15618" y="8383"/>
                  <a:pt x="15652" y="8409"/>
                </a:cubicBezTo>
                <a:cubicBezTo>
                  <a:pt x="15710" y="8454"/>
                  <a:pt x="15695" y="8488"/>
                  <a:pt x="15776" y="8508"/>
                </a:cubicBezTo>
                <a:cubicBezTo>
                  <a:pt x="15848" y="8526"/>
                  <a:pt x="15848" y="8601"/>
                  <a:pt x="15900" y="8632"/>
                </a:cubicBezTo>
                <a:cubicBezTo>
                  <a:pt x="15945" y="8659"/>
                  <a:pt x="16004" y="8655"/>
                  <a:pt x="16024" y="8731"/>
                </a:cubicBezTo>
                <a:cubicBezTo>
                  <a:pt x="16034" y="8770"/>
                  <a:pt x="16064" y="8836"/>
                  <a:pt x="16049" y="8880"/>
                </a:cubicBezTo>
                <a:cubicBezTo>
                  <a:pt x="16029" y="8939"/>
                  <a:pt x="15977" y="8991"/>
                  <a:pt x="15925" y="9004"/>
                </a:cubicBezTo>
                <a:cubicBezTo>
                  <a:pt x="15838" y="9026"/>
                  <a:pt x="15816" y="8984"/>
                  <a:pt x="15751" y="8954"/>
                </a:cubicBezTo>
                <a:cubicBezTo>
                  <a:pt x="15724" y="8941"/>
                  <a:pt x="15617" y="8945"/>
                  <a:pt x="15602" y="8930"/>
                </a:cubicBezTo>
                <a:cubicBezTo>
                  <a:pt x="15575" y="8903"/>
                  <a:pt x="15560" y="8878"/>
                  <a:pt x="15553" y="8855"/>
                </a:cubicBezTo>
                <a:cubicBezTo>
                  <a:pt x="15587" y="8855"/>
                  <a:pt x="15600" y="8846"/>
                  <a:pt x="15602" y="8806"/>
                </a:cubicBezTo>
              </a:path>
              <a:path w="16446" h="2183">
                <a:moveTo>
                  <a:pt x="16049" y="8706"/>
                </a:moveTo>
                <a:cubicBezTo>
                  <a:pt x="16187" y="8706"/>
                  <a:pt x="16436" y="8749"/>
                  <a:pt x="16520" y="8657"/>
                </a:cubicBezTo>
                <a:cubicBezTo>
                  <a:pt x="16557" y="8617"/>
                  <a:pt x="16591" y="8630"/>
                  <a:pt x="16594" y="8558"/>
                </a:cubicBezTo>
                <a:cubicBezTo>
                  <a:pt x="16597" y="8495"/>
                  <a:pt x="16594" y="8417"/>
                  <a:pt x="16520" y="8409"/>
                </a:cubicBezTo>
                <a:cubicBezTo>
                  <a:pt x="16452" y="8401"/>
                  <a:pt x="16322" y="8388"/>
                  <a:pt x="16272" y="8434"/>
                </a:cubicBezTo>
                <a:cubicBezTo>
                  <a:pt x="16241" y="8462"/>
                  <a:pt x="16184" y="8541"/>
                  <a:pt x="16173" y="8582"/>
                </a:cubicBezTo>
                <a:cubicBezTo>
                  <a:pt x="16159" y="8636"/>
                  <a:pt x="16134" y="8722"/>
                  <a:pt x="16148" y="8781"/>
                </a:cubicBezTo>
                <a:cubicBezTo>
                  <a:pt x="16168" y="8867"/>
                  <a:pt x="16222" y="8991"/>
                  <a:pt x="16297" y="9004"/>
                </a:cubicBezTo>
                <a:cubicBezTo>
                  <a:pt x="16377" y="9018"/>
                  <a:pt x="16388" y="9018"/>
                  <a:pt x="16470" y="9004"/>
                </a:cubicBezTo>
                <a:cubicBezTo>
                  <a:pt x="16520" y="9004"/>
                  <a:pt x="16537" y="9004"/>
                  <a:pt x="16570" y="9004"/>
                </a:cubicBezTo>
              </a:path>
              <a:path w="16446" h="2183">
                <a:moveTo>
                  <a:pt x="17016" y="8558"/>
                </a:moveTo>
                <a:cubicBezTo>
                  <a:pt x="17016" y="8610"/>
                  <a:pt x="17026" y="8505"/>
                  <a:pt x="16991" y="8483"/>
                </a:cubicBezTo>
                <a:cubicBezTo>
                  <a:pt x="16953" y="8459"/>
                  <a:pt x="16969" y="8417"/>
                  <a:pt x="16892" y="8409"/>
                </a:cubicBezTo>
                <a:cubicBezTo>
                  <a:pt x="16814" y="8401"/>
                  <a:pt x="16805" y="8459"/>
                  <a:pt x="16743" y="8483"/>
                </a:cubicBezTo>
                <a:cubicBezTo>
                  <a:pt x="16683" y="8506"/>
                  <a:pt x="16639" y="8514"/>
                  <a:pt x="16594" y="8582"/>
                </a:cubicBezTo>
                <a:cubicBezTo>
                  <a:pt x="16556" y="8639"/>
                  <a:pt x="16525" y="8718"/>
                  <a:pt x="16520" y="8781"/>
                </a:cubicBezTo>
                <a:cubicBezTo>
                  <a:pt x="16515" y="8842"/>
                  <a:pt x="16516" y="8902"/>
                  <a:pt x="16545" y="8930"/>
                </a:cubicBezTo>
                <a:cubicBezTo>
                  <a:pt x="16617" y="9000"/>
                  <a:pt x="16618" y="9004"/>
                  <a:pt x="16718" y="9004"/>
                </a:cubicBezTo>
                <a:cubicBezTo>
                  <a:pt x="16804" y="9004"/>
                  <a:pt x="16812" y="9014"/>
                  <a:pt x="16867" y="8954"/>
                </a:cubicBezTo>
                <a:cubicBezTo>
                  <a:pt x="16894" y="8924"/>
                  <a:pt x="16961" y="8878"/>
                  <a:pt x="16966" y="8855"/>
                </a:cubicBezTo>
                <a:cubicBezTo>
                  <a:pt x="16981" y="8788"/>
                  <a:pt x="16972" y="8729"/>
                  <a:pt x="16966" y="8706"/>
                </a:cubicBezTo>
                <a:cubicBezTo>
                  <a:pt x="16936" y="8597"/>
                  <a:pt x="16964" y="8757"/>
                  <a:pt x="16966" y="8781"/>
                </a:cubicBezTo>
                <a:cubicBezTo>
                  <a:pt x="16970" y="8835"/>
                  <a:pt x="16989" y="8889"/>
                  <a:pt x="17041" y="8930"/>
                </a:cubicBezTo>
                <a:cubicBezTo>
                  <a:pt x="17081" y="8961"/>
                  <a:pt x="17111" y="8995"/>
                  <a:pt x="17165" y="9004"/>
                </a:cubicBezTo>
                <a:cubicBezTo>
                  <a:pt x="17204" y="9010"/>
                  <a:pt x="17217" y="8958"/>
                  <a:pt x="17239" y="8930"/>
                </a:cubicBezTo>
              </a:path>
              <a:path w="16446" h="2183">
                <a:moveTo>
                  <a:pt x="17289" y="7938"/>
                </a:moveTo>
                <a:cubicBezTo>
                  <a:pt x="17289" y="8132"/>
                  <a:pt x="17291" y="8320"/>
                  <a:pt x="17314" y="8508"/>
                </a:cubicBezTo>
                <a:cubicBezTo>
                  <a:pt x="17325" y="8600"/>
                  <a:pt x="17352" y="8690"/>
                  <a:pt x="17363" y="8781"/>
                </a:cubicBezTo>
                <a:cubicBezTo>
                  <a:pt x="17370" y="8845"/>
                  <a:pt x="17478" y="8951"/>
                  <a:pt x="17413" y="8954"/>
                </a:cubicBezTo>
                <a:cubicBezTo>
                  <a:pt x="17383" y="8925"/>
                  <a:pt x="17371" y="8911"/>
                  <a:pt x="17363" y="8880"/>
                </a:cubicBezTo>
              </a:path>
              <a:path w="16446" h="2183">
                <a:moveTo>
                  <a:pt x="16991" y="8409"/>
                </a:moveTo>
                <a:cubicBezTo>
                  <a:pt x="17064" y="8346"/>
                  <a:pt x="17090" y="8359"/>
                  <a:pt x="17190" y="8359"/>
                </a:cubicBezTo>
                <a:cubicBezTo>
                  <a:pt x="17303" y="8359"/>
                  <a:pt x="17405" y="8347"/>
                  <a:pt x="17512" y="8334"/>
                </a:cubicBezTo>
              </a:path>
              <a:path w="16446" h="2183">
                <a:moveTo>
                  <a:pt x="18033" y="8434"/>
                </a:moveTo>
                <a:cubicBezTo>
                  <a:pt x="17992" y="8420"/>
                  <a:pt x="17988" y="8413"/>
                  <a:pt x="17983" y="8359"/>
                </a:cubicBezTo>
                <a:cubicBezTo>
                  <a:pt x="17983" y="8351"/>
                  <a:pt x="17983" y="8342"/>
                  <a:pt x="17983" y="8334"/>
                </a:cubicBezTo>
                <a:cubicBezTo>
                  <a:pt x="17918" y="8334"/>
                  <a:pt x="17840" y="8319"/>
                  <a:pt x="17785" y="8359"/>
                </a:cubicBezTo>
                <a:cubicBezTo>
                  <a:pt x="17729" y="8399"/>
                  <a:pt x="17703" y="8416"/>
                  <a:pt x="17686" y="8483"/>
                </a:cubicBezTo>
                <a:cubicBezTo>
                  <a:pt x="17674" y="8531"/>
                  <a:pt x="17749" y="8611"/>
                  <a:pt x="17785" y="8632"/>
                </a:cubicBezTo>
                <a:cubicBezTo>
                  <a:pt x="17822" y="8653"/>
                  <a:pt x="17892" y="8684"/>
                  <a:pt x="17934" y="8706"/>
                </a:cubicBezTo>
                <a:cubicBezTo>
                  <a:pt x="17968" y="8724"/>
                  <a:pt x="18046" y="8719"/>
                  <a:pt x="18083" y="8731"/>
                </a:cubicBezTo>
                <a:cubicBezTo>
                  <a:pt x="18147" y="8753"/>
                  <a:pt x="18167" y="8861"/>
                  <a:pt x="18157" y="8930"/>
                </a:cubicBezTo>
                <a:cubicBezTo>
                  <a:pt x="18138" y="9054"/>
                  <a:pt x="18105" y="8971"/>
                  <a:pt x="18058" y="9029"/>
                </a:cubicBezTo>
                <a:cubicBezTo>
                  <a:pt x="18050" y="9046"/>
                  <a:pt x="18041" y="9062"/>
                  <a:pt x="18033" y="9079"/>
                </a:cubicBezTo>
                <a:cubicBezTo>
                  <a:pt x="17988" y="9054"/>
                  <a:pt x="17842" y="9031"/>
                  <a:pt x="17810" y="9004"/>
                </a:cubicBezTo>
                <a:cubicBezTo>
                  <a:pt x="17769" y="8969"/>
                  <a:pt x="17728" y="8908"/>
                  <a:pt x="17686" y="8880"/>
                </a:cubicBezTo>
                <a:cubicBezTo>
                  <a:pt x="17645" y="8853"/>
                  <a:pt x="17655" y="8840"/>
                  <a:pt x="17661" y="8880"/>
                </a:cubicBezTo>
                <a:cubicBezTo>
                  <a:pt x="17661" y="8922"/>
                  <a:pt x="17669" y="8938"/>
                  <a:pt x="17636" y="893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85.  A brick patio has the approximate shape of a trapezoid, as shown in the figure.  The patio has 18 rows of bricks.  The first row has 14 bricks and the 18</a:t>
            </a:r>
            <a:r>
              <a:rPr b="0" lang="en-US" sz="2000" spc="-1" strike="noStrike" baseline="30000">
                <a:solidFill>
                  <a:srgbClr val="e3ebf1"/>
                </a:solidFill>
                <a:latin typeface="Arial"/>
              </a:rPr>
              <a:t>th</a:t>
            </a:r>
            <a:r>
              <a:rPr b="0" lang="en-US" sz="2000" spc="-1" strike="noStrike">
                <a:solidFill>
                  <a:srgbClr val="e3ebf1"/>
                </a:solidFill>
                <a:latin typeface="Arial"/>
              </a:rPr>
              <a:t> row has 31 bricks.  How many bricks are in the patio?</a:t>
            </a:r>
            <a:endParaRPr b="0" lang="en-US" sz="2000" spc="-1" strike="noStrike">
              <a:solidFill>
                <a:srgbClr val="e3ebf1"/>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7238880" y="4343400"/>
            <a:ext cx="1521000" cy="1827360"/>
          </a:xfrm>
          <a:prstGeom prst="rect">
            <a:avLst/>
          </a:prstGeom>
          <a:ln w="0">
            <a:noFill/>
          </a:ln>
        </p:spPr>
      </p:pic>
      <p:sp>
        <p:nvSpPr>
          <p:cNvPr id="110" name=""/>
          <p:cNvSpPr/>
          <p:nvPr/>
        </p:nvSpPr>
        <p:spPr>
          <a:xfrm>
            <a:off x="1044720" y="1697040"/>
            <a:ext cx="2054160" cy="803160"/>
          </a:xfrm>
          <a:custGeom>
            <a:avLst/>
            <a:gdLst/>
            <a:ahLst/>
            <a:rect l="l" t="t" r="r" b="b"/>
            <a:pathLst>
              <a:path w="5706" h="2233">
                <a:moveTo>
                  <a:pt x="3175" y="4887"/>
                </a:moveTo>
                <a:cubicBezTo>
                  <a:pt x="3175" y="5137"/>
                  <a:pt x="3177" y="5386"/>
                  <a:pt x="3150" y="5631"/>
                </a:cubicBezTo>
                <a:cubicBezTo>
                  <a:pt x="3144" y="5681"/>
                  <a:pt x="3147" y="5783"/>
                  <a:pt x="3125" y="5829"/>
                </a:cubicBezTo>
                <a:cubicBezTo>
                  <a:pt x="3107" y="5867"/>
                  <a:pt x="3092" y="5902"/>
                  <a:pt x="3076" y="5854"/>
                </a:cubicBezTo>
              </a:path>
              <a:path w="5706" h="2233">
                <a:moveTo>
                  <a:pt x="3770" y="4936"/>
                </a:moveTo>
                <a:cubicBezTo>
                  <a:pt x="3670" y="4983"/>
                  <a:pt x="3559" y="5033"/>
                  <a:pt x="3497" y="5135"/>
                </a:cubicBezTo>
                <a:cubicBezTo>
                  <a:pt x="3467" y="5185"/>
                  <a:pt x="3371" y="5335"/>
                  <a:pt x="3448" y="5407"/>
                </a:cubicBezTo>
                <a:cubicBezTo>
                  <a:pt x="3504" y="5459"/>
                  <a:pt x="3577" y="5457"/>
                  <a:pt x="3646" y="5457"/>
                </a:cubicBezTo>
                <a:cubicBezTo>
                  <a:pt x="3754" y="5457"/>
                  <a:pt x="3813" y="5403"/>
                  <a:pt x="3894" y="5333"/>
                </a:cubicBezTo>
                <a:cubicBezTo>
                  <a:pt x="3952" y="5283"/>
                  <a:pt x="4010" y="5206"/>
                  <a:pt x="4018" y="5135"/>
                </a:cubicBezTo>
                <a:cubicBezTo>
                  <a:pt x="4024" y="5082"/>
                  <a:pt x="3996" y="5011"/>
                  <a:pt x="3944" y="4986"/>
                </a:cubicBezTo>
                <a:cubicBezTo>
                  <a:pt x="3861" y="4947"/>
                  <a:pt x="3764" y="4916"/>
                  <a:pt x="3671" y="4936"/>
                </a:cubicBezTo>
                <a:cubicBezTo>
                  <a:pt x="3644" y="4942"/>
                  <a:pt x="3531" y="5010"/>
                  <a:pt x="3522" y="5035"/>
                </a:cubicBezTo>
                <a:cubicBezTo>
                  <a:pt x="3522" y="5052"/>
                  <a:pt x="3522" y="5068"/>
                  <a:pt x="3522" y="5085"/>
                </a:cubicBezTo>
              </a:path>
              <a:path w="5706" h="2233">
                <a:moveTo>
                  <a:pt x="3696" y="5457"/>
                </a:moveTo>
                <a:cubicBezTo>
                  <a:pt x="3614" y="5514"/>
                  <a:pt x="3583" y="5558"/>
                  <a:pt x="3522" y="5631"/>
                </a:cubicBezTo>
                <a:cubicBezTo>
                  <a:pt x="3478" y="5684"/>
                  <a:pt x="3383" y="5773"/>
                  <a:pt x="3423" y="5854"/>
                </a:cubicBezTo>
                <a:cubicBezTo>
                  <a:pt x="3451" y="5911"/>
                  <a:pt x="3517" y="5925"/>
                  <a:pt x="3572" y="5928"/>
                </a:cubicBezTo>
                <a:cubicBezTo>
                  <a:pt x="3639" y="5932"/>
                  <a:pt x="3741" y="5894"/>
                  <a:pt x="3795" y="5854"/>
                </a:cubicBezTo>
                <a:cubicBezTo>
                  <a:pt x="3854" y="5810"/>
                  <a:pt x="3927" y="5730"/>
                  <a:pt x="3944" y="5655"/>
                </a:cubicBezTo>
                <a:cubicBezTo>
                  <a:pt x="3957" y="5596"/>
                  <a:pt x="3946" y="5541"/>
                  <a:pt x="3894" y="5507"/>
                </a:cubicBezTo>
                <a:cubicBezTo>
                  <a:pt x="3843" y="5474"/>
                  <a:pt x="3707" y="5458"/>
                  <a:pt x="3646" y="5482"/>
                </a:cubicBezTo>
                <a:cubicBezTo>
                  <a:pt x="3624" y="5504"/>
                  <a:pt x="3619" y="5513"/>
                  <a:pt x="3597" y="5507"/>
                </a:cubicBezTo>
              </a:path>
              <a:path w="5706" h="2233">
                <a:moveTo>
                  <a:pt x="2902" y="5978"/>
                </a:moveTo>
                <a:cubicBezTo>
                  <a:pt x="2986" y="6028"/>
                  <a:pt x="3054" y="5986"/>
                  <a:pt x="3150" y="5978"/>
                </a:cubicBezTo>
                <a:cubicBezTo>
                  <a:pt x="3298" y="5965"/>
                  <a:pt x="3449" y="5956"/>
                  <a:pt x="3597" y="5953"/>
                </a:cubicBezTo>
                <a:cubicBezTo>
                  <a:pt x="3745" y="5950"/>
                  <a:pt x="3871" y="5948"/>
                  <a:pt x="4018" y="5953"/>
                </a:cubicBezTo>
                <a:cubicBezTo>
                  <a:pt x="4067" y="5955"/>
                  <a:pt x="4167" y="5953"/>
                  <a:pt x="4118" y="5953"/>
                </a:cubicBezTo>
              </a:path>
              <a:path w="5706" h="2233">
                <a:moveTo>
                  <a:pt x="3225" y="6350"/>
                </a:moveTo>
                <a:cubicBezTo>
                  <a:pt x="3286" y="6319"/>
                  <a:pt x="3356" y="6284"/>
                  <a:pt x="3423" y="6276"/>
                </a:cubicBezTo>
                <a:cubicBezTo>
                  <a:pt x="3505" y="6266"/>
                  <a:pt x="3597" y="6267"/>
                  <a:pt x="3671" y="6300"/>
                </a:cubicBezTo>
                <a:cubicBezTo>
                  <a:pt x="3726" y="6324"/>
                  <a:pt x="3748" y="6412"/>
                  <a:pt x="3721" y="6474"/>
                </a:cubicBezTo>
                <a:cubicBezTo>
                  <a:pt x="3671" y="6588"/>
                  <a:pt x="3535" y="6694"/>
                  <a:pt x="3448" y="6772"/>
                </a:cubicBezTo>
                <a:cubicBezTo>
                  <a:pt x="3398" y="6817"/>
                  <a:pt x="3346" y="6849"/>
                  <a:pt x="3299" y="6896"/>
                </a:cubicBezTo>
                <a:cubicBezTo>
                  <a:pt x="3340" y="6927"/>
                  <a:pt x="3390" y="6933"/>
                  <a:pt x="3448" y="6921"/>
                </a:cubicBezTo>
                <a:cubicBezTo>
                  <a:pt x="3547" y="6901"/>
                  <a:pt x="3647" y="6861"/>
                  <a:pt x="3746" y="6846"/>
                </a:cubicBezTo>
                <a:cubicBezTo>
                  <a:pt x="3872" y="6827"/>
                  <a:pt x="3895" y="6815"/>
                  <a:pt x="4018" y="6747"/>
                </a:cubicBezTo>
              </a:path>
              <a:path w="5706" h="2233">
                <a:moveTo>
                  <a:pt x="4862" y="4986"/>
                </a:moveTo>
                <a:cubicBezTo>
                  <a:pt x="4767" y="5057"/>
                  <a:pt x="4729" y="5136"/>
                  <a:pt x="4663" y="5234"/>
                </a:cubicBezTo>
                <a:cubicBezTo>
                  <a:pt x="4560" y="5387"/>
                  <a:pt x="4491" y="5511"/>
                  <a:pt x="4415" y="5680"/>
                </a:cubicBezTo>
                <a:cubicBezTo>
                  <a:pt x="4328" y="5874"/>
                  <a:pt x="4330" y="6042"/>
                  <a:pt x="4341" y="6251"/>
                </a:cubicBezTo>
                <a:cubicBezTo>
                  <a:pt x="4346" y="6353"/>
                  <a:pt x="4364" y="6476"/>
                  <a:pt x="4390" y="6573"/>
                </a:cubicBezTo>
                <a:cubicBezTo>
                  <a:pt x="4402" y="6616"/>
                  <a:pt x="4443" y="6690"/>
                  <a:pt x="4465" y="6722"/>
                </a:cubicBezTo>
                <a:cubicBezTo>
                  <a:pt x="4486" y="6752"/>
                  <a:pt x="4519" y="6794"/>
                  <a:pt x="4490" y="6772"/>
                </a:cubicBezTo>
                <a:cubicBezTo>
                  <a:pt x="4465" y="6772"/>
                  <a:pt x="4457" y="6772"/>
                  <a:pt x="4465" y="6747"/>
                </a:cubicBezTo>
              </a:path>
              <a:path w="5706" h="2233">
                <a:moveTo>
                  <a:pt x="5283" y="5383"/>
                </a:moveTo>
                <a:cubicBezTo>
                  <a:pt x="5283" y="5712"/>
                  <a:pt x="5263" y="6052"/>
                  <a:pt x="5308" y="6375"/>
                </a:cubicBezTo>
                <a:cubicBezTo>
                  <a:pt x="5316" y="6434"/>
                  <a:pt x="5295" y="6451"/>
                  <a:pt x="5283" y="6499"/>
                </a:cubicBezTo>
                <a:cubicBezTo>
                  <a:pt x="5283" y="6445"/>
                  <a:pt x="5301" y="6404"/>
                  <a:pt x="5308" y="6350"/>
                </a:cubicBezTo>
              </a:path>
              <a:path w="5706" h="2233">
                <a:moveTo>
                  <a:pt x="5755" y="5531"/>
                </a:moveTo>
                <a:cubicBezTo>
                  <a:pt x="5755" y="5631"/>
                  <a:pt x="5725" y="5665"/>
                  <a:pt x="5705" y="5755"/>
                </a:cubicBezTo>
                <a:cubicBezTo>
                  <a:pt x="5691" y="5819"/>
                  <a:pt x="5680" y="5830"/>
                  <a:pt x="5631" y="5879"/>
                </a:cubicBezTo>
                <a:cubicBezTo>
                  <a:pt x="5601" y="5909"/>
                  <a:pt x="5606" y="5913"/>
                  <a:pt x="5606" y="5953"/>
                </a:cubicBezTo>
                <a:cubicBezTo>
                  <a:pt x="5681" y="5953"/>
                  <a:pt x="5735" y="5940"/>
                  <a:pt x="5804" y="5928"/>
                </a:cubicBezTo>
                <a:cubicBezTo>
                  <a:pt x="5879" y="5915"/>
                  <a:pt x="5931" y="5936"/>
                  <a:pt x="6003" y="5904"/>
                </a:cubicBezTo>
                <a:cubicBezTo>
                  <a:pt x="6019" y="5896"/>
                  <a:pt x="6036" y="5887"/>
                  <a:pt x="6052" y="5879"/>
                </a:cubicBezTo>
              </a:path>
              <a:path w="5706" h="2233">
                <a:moveTo>
                  <a:pt x="6028" y="5283"/>
                </a:moveTo>
                <a:cubicBezTo>
                  <a:pt x="6007" y="5432"/>
                  <a:pt x="5982" y="5580"/>
                  <a:pt x="5978" y="5730"/>
                </a:cubicBezTo>
                <a:cubicBezTo>
                  <a:pt x="5974" y="5866"/>
                  <a:pt x="5966" y="5993"/>
                  <a:pt x="5953" y="6127"/>
                </a:cubicBezTo>
                <a:cubicBezTo>
                  <a:pt x="5945" y="6212"/>
                  <a:pt x="5983" y="6327"/>
                  <a:pt x="5928" y="6400"/>
                </a:cubicBezTo>
                <a:cubicBezTo>
                  <a:pt x="5905" y="6431"/>
                  <a:pt x="5959" y="6334"/>
                  <a:pt x="5978" y="6300"/>
                </a:cubicBezTo>
              </a:path>
              <a:path w="5706" h="2233">
                <a:moveTo>
                  <a:pt x="6499" y="5482"/>
                </a:moveTo>
                <a:cubicBezTo>
                  <a:pt x="6492" y="5621"/>
                  <a:pt x="6464" y="5744"/>
                  <a:pt x="6449" y="5879"/>
                </a:cubicBezTo>
                <a:cubicBezTo>
                  <a:pt x="6447" y="5902"/>
                  <a:pt x="6431" y="6286"/>
                  <a:pt x="6424" y="6276"/>
                </a:cubicBezTo>
                <a:cubicBezTo>
                  <a:pt x="6424" y="6268"/>
                  <a:pt x="6424" y="6259"/>
                  <a:pt x="6424" y="6251"/>
                </a:cubicBezTo>
              </a:path>
              <a:path w="5706" h="2233">
                <a:moveTo>
                  <a:pt x="6251" y="6003"/>
                </a:moveTo>
                <a:cubicBezTo>
                  <a:pt x="6360" y="5984"/>
                  <a:pt x="6428" y="5976"/>
                  <a:pt x="6524" y="5928"/>
                </a:cubicBezTo>
              </a:path>
              <a:path w="5706" h="2233">
                <a:moveTo>
                  <a:pt x="6995" y="5581"/>
                </a:moveTo>
                <a:cubicBezTo>
                  <a:pt x="7070" y="5540"/>
                  <a:pt x="7155" y="5499"/>
                  <a:pt x="7243" y="5482"/>
                </a:cubicBezTo>
                <a:cubicBezTo>
                  <a:pt x="7272" y="5476"/>
                  <a:pt x="7423" y="5496"/>
                  <a:pt x="7441" y="5531"/>
                </a:cubicBezTo>
                <a:cubicBezTo>
                  <a:pt x="7464" y="5576"/>
                  <a:pt x="7419" y="5648"/>
                  <a:pt x="7392" y="5680"/>
                </a:cubicBezTo>
                <a:cubicBezTo>
                  <a:pt x="7327" y="5758"/>
                  <a:pt x="7245" y="5793"/>
                  <a:pt x="7169" y="5854"/>
                </a:cubicBezTo>
                <a:cubicBezTo>
                  <a:pt x="7113" y="5899"/>
                  <a:pt x="7048" y="5930"/>
                  <a:pt x="6995" y="5978"/>
                </a:cubicBezTo>
                <a:cubicBezTo>
                  <a:pt x="6970" y="5978"/>
                  <a:pt x="6962" y="5978"/>
                  <a:pt x="6970" y="6003"/>
                </a:cubicBezTo>
                <a:cubicBezTo>
                  <a:pt x="7008" y="6022"/>
                  <a:pt x="7034" y="6006"/>
                  <a:pt x="7094" y="6003"/>
                </a:cubicBezTo>
                <a:cubicBezTo>
                  <a:pt x="7160" y="5999"/>
                  <a:pt x="7243" y="5989"/>
                  <a:pt x="7293" y="6028"/>
                </a:cubicBezTo>
                <a:cubicBezTo>
                  <a:pt x="7343" y="6068"/>
                  <a:pt x="7355" y="6141"/>
                  <a:pt x="7342" y="6201"/>
                </a:cubicBezTo>
                <a:cubicBezTo>
                  <a:pt x="7320" y="6304"/>
                  <a:pt x="7273" y="6332"/>
                  <a:pt x="7218" y="6400"/>
                </a:cubicBezTo>
                <a:cubicBezTo>
                  <a:pt x="7168" y="6461"/>
                  <a:pt x="7127" y="6485"/>
                  <a:pt x="7045" y="6499"/>
                </a:cubicBezTo>
                <a:cubicBezTo>
                  <a:pt x="6965" y="6512"/>
                  <a:pt x="6887" y="6495"/>
                  <a:pt x="6821" y="6449"/>
                </a:cubicBezTo>
                <a:cubicBezTo>
                  <a:pt x="6754" y="6402"/>
                  <a:pt x="6780" y="6390"/>
                  <a:pt x="6796" y="6325"/>
                </a:cubicBezTo>
              </a:path>
              <a:path w="5706" h="2233">
                <a:moveTo>
                  <a:pt x="7739" y="5432"/>
                </a:moveTo>
                <a:cubicBezTo>
                  <a:pt x="7733" y="5631"/>
                  <a:pt x="7705" y="5809"/>
                  <a:pt x="7689" y="6003"/>
                </a:cubicBezTo>
                <a:cubicBezTo>
                  <a:pt x="7675" y="6176"/>
                  <a:pt x="7689" y="6648"/>
                  <a:pt x="7689" y="6474"/>
                </a:cubicBezTo>
                <a:cubicBezTo>
                  <a:pt x="7689" y="6441"/>
                  <a:pt x="7689" y="6425"/>
                  <a:pt x="7689" y="6400"/>
                </a:cubicBezTo>
              </a:path>
              <a:path w="5706" h="2233">
                <a:moveTo>
                  <a:pt x="8037" y="4713"/>
                </a:moveTo>
                <a:cubicBezTo>
                  <a:pt x="8301" y="4977"/>
                  <a:pt x="8393" y="5090"/>
                  <a:pt x="8508" y="5432"/>
                </a:cubicBezTo>
                <a:cubicBezTo>
                  <a:pt x="8565" y="5600"/>
                  <a:pt x="8623" y="5798"/>
                  <a:pt x="8607" y="5978"/>
                </a:cubicBezTo>
                <a:cubicBezTo>
                  <a:pt x="8594" y="6125"/>
                  <a:pt x="8537" y="6276"/>
                  <a:pt x="8458" y="6400"/>
                </a:cubicBezTo>
                <a:cubicBezTo>
                  <a:pt x="8346" y="6575"/>
                  <a:pt x="8170" y="6668"/>
                  <a:pt x="8012" y="6796"/>
                </a:cubicBezTo>
                <a:cubicBezTo>
                  <a:pt x="7954" y="6846"/>
                  <a:pt x="7896" y="6895"/>
                  <a:pt x="7838" y="694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177920" y="2840040"/>
            <a:ext cx="831960" cy="509760"/>
          </a:xfrm>
          <a:custGeom>
            <a:avLst/>
            <a:gdLst/>
            <a:ahLst/>
            <a:rect l="l" t="t" r="r" b="b"/>
            <a:pathLst>
              <a:path w="2308" h="1415">
                <a:moveTo>
                  <a:pt x="3497" y="7987"/>
                </a:moveTo>
                <a:cubicBezTo>
                  <a:pt x="3536" y="8053"/>
                  <a:pt x="3526" y="8110"/>
                  <a:pt x="3497" y="8186"/>
                </a:cubicBezTo>
                <a:cubicBezTo>
                  <a:pt x="3464" y="8273"/>
                  <a:pt x="3412" y="8333"/>
                  <a:pt x="3373" y="8409"/>
                </a:cubicBezTo>
                <a:cubicBezTo>
                  <a:pt x="3346" y="8460"/>
                  <a:pt x="3359" y="8550"/>
                  <a:pt x="3299" y="8582"/>
                </a:cubicBezTo>
                <a:cubicBezTo>
                  <a:pt x="3266" y="8582"/>
                  <a:pt x="3257" y="8590"/>
                  <a:pt x="3274" y="8632"/>
                </a:cubicBezTo>
                <a:cubicBezTo>
                  <a:pt x="3303" y="8613"/>
                  <a:pt x="3296" y="8569"/>
                  <a:pt x="3349" y="8558"/>
                </a:cubicBezTo>
                <a:cubicBezTo>
                  <a:pt x="3419" y="8543"/>
                  <a:pt x="3483" y="8572"/>
                  <a:pt x="3547" y="8582"/>
                </a:cubicBezTo>
                <a:cubicBezTo>
                  <a:pt x="3663" y="8601"/>
                  <a:pt x="3786" y="8575"/>
                  <a:pt x="3894" y="8558"/>
                </a:cubicBezTo>
                <a:cubicBezTo>
                  <a:pt x="3911" y="8558"/>
                  <a:pt x="3927" y="8558"/>
                  <a:pt x="3944" y="8558"/>
                </a:cubicBezTo>
              </a:path>
              <a:path w="2308" h="1415">
                <a:moveTo>
                  <a:pt x="3944" y="7888"/>
                </a:moveTo>
                <a:cubicBezTo>
                  <a:pt x="3933" y="7942"/>
                  <a:pt x="3898" y="8008"/>
                  <a:pt x="3894" y="8062"/>
                </a:cubicBezTo>
                <a:cubicBezTo>
                  <a:pt x="3883" y="8212"/>
                  <a:pt x="3870" y="8357"/>
                  <a:pt x="3870" y="8508"/>
                </a:cubicBezTo>
                <a:cubicBezTo>
                  <a:pt x="3870" y="8637"/>
                  <a:pt x="3848" y="8754"/>
                  <a:pt x="3845" y="8880"/>
                </a:cubicBezTo>
                <a:cubicBezTo>
                  <a:pt x="3842" y="8993"/>
                  <a:pt x="3820" y="9070"/>
                  <a:pt x="3820" y="9178"/>
                </a:cubicBezTo>
              </a:path>
              <a:path w="2308" h="1415">
                <a:moveTo>
                  <a:pt x="4341" y="8334"/>
                </a:moveTo>
                <a:cubicBezTo>
                  <a:pt x="4318" y="8515"/>
                  <a:pt x="4291" y="8675"/>
                  <a:pt x="4291" y="8855"/>
                </a:cubicBezTo>
                <a:cubicBezTo>
                  <a:pt x="4291" y="8960"/>
                  <a:pt x="4305" y="9052"/>
                  <a:pt x="4316" y="9153"/>
                </a:cubicBezTo>
                <a:cubicBezTo>
                  <a:pt x="4325" y="9237"/>
                  <a:pt x="4326" y="9287"/>
                  <a:pt x="4415" y="9302"/>
                </a:cubicBezTo>
                <a:cubicBezTo>
                  <a:pt x="4490" y="9315"/>
                  <a:pt x="4505" y="9288"/>
                  <a:pt x="4564" y="9252"/>
                </a:cubicBezTo>
                <a:cubicBezTo>
                  <a:pt x="4662" y="9192"/>
                  <a:pt x="4678" y="9109"/>
                  <a:pt x="4713" y="9004"/>
                </a:cubicBezTo>
                <a:cubicBezTo>
                  <a:pt x="4752" y="8888"/>
                  <a:pt x="4782" y="8755"/>
                  <a:pt x="4762" y="8632"/>
                </a:cubicBezTo>
                <a:cubicBezTo>
                  <a:pt x="4746" y="8534"/>
                  <a:pt x="4697" y="8365"/>
                  <a:pt x="4638" y="8285"/>
                </a:cubicBezTo>
                <a:cubicBezTo>
                  <a:pt x="4585" y="8212"/>
                  <a:pt x="4527" y="8168"/>
                  <a:pt x="4440" y="8161"/>
                </a:cubicBezTo>
                <a:cubicBezTo>
                  <a:pt x="4381" y="8156"/>
                  <a:pt x="4320" y="8171"/>
                  <a:pt x="4291" y="8235"/>
                </a:cubicBezTo>
                <a:cubicBezTo>
                  <a:pt x="4253" y="8320"/>
                  <a:pt x="4224" y="8462"/>
                  <a:pt x="4242" y="8558"/>
                </a:cubicBezTo>
                <a:cubicBezTo>
                  <a:pt x="4254" y="8621"/>
                  <a:pt x="4267" y="8682"/>
                  <a:pt x="4316" y="8706"/>
                </a:cubicBezTo>
              </a:path>
              <a:path w="2308" h="1415">
                <a:moveTo>
                  <a:pt x="5011" y="8186"/>
                </a:moveTo>
                <a:cubicBezTo>
                  <a:pt x="5063" y="8163"/>
                  <a:pt x="5081" y="8161"/>
                  <a:pt x="5135" y="8161"/>
                </a:cubicBezTo>
                <a:cubicBezTo>
                  <a:pt x="5216" y="8161"/>
                  <a:pt x="5561" y="8197"/>
                  <a:pt x="5581" y="8136"/>
                </a:cubicBezTo>
              </a:path>
              <a:path w="2308" h="1415">
                <a:moveTo>
                  <a:pt x="5060" y="8086"/>
                </a:moveTo>
                <a:cubicBezTo>
                  <a:pt x="5016" y="8176"/>
                  <a:pt x="4974" y="8271"/>
                  <a:pt x="4936" y="8359"/>
                </a:cubicBezTo>
                <a:cubicBezTo>
                  <a:pt x="4902" y="8438"/>
                  <a:pt x="4929" y="8428"/>
                  <a:pt x="4936" y="8508"/>
                </a:cubicBezTo>
                <a:cubicBezTo>
                  <a:pt x="4943" y="8585"/>
                  <a:pt x="4948" y="8550"/>
                  <a:pt x="5011" y="8558"/>
                </a:cubicBezTo>
                <a:cubicBezTo>
                  <a:pt x="5071" y="8565"/>
                  <a:pt x="5086" y="8516"/>
                  <a:pt x="5135" y="8483"/>
                </a:cubicBezTo>
                <a:cubicBezTo>
                  <a:pt x="5173" y="8457"/>
                  <a:pt x="5225" y="8416"/>
                  <a:pt x="5283" y="8434"/>
                </a:cubicBezTo>
                <a:cubicBezTo>
                  <a:pt x="5385" y="8465"/>
                  <a:pt x="5346" y="8497"/>
                  <a:pt x="5407" y="8558"/>
                </a:cubicBezTo>
                <a:cubicBezTo>
                  <a:pt x="5495" y="8646"/>
                  <a:pt x="5494" y="8742"/>
                  <a:pt x="5507" y="8880"/>
                </a:cubicBezTo>
                <a:cubicBezTo>
                  <a:pt x="5515" y="8962"/>
                  <a:pt x="5513" y="9040"/>
                  <a:pt x="5457" y="9103"/>
                </a:cubicBezTo>
                <a:cubicBezTo>
                  <a:pt x="5407" y="9160"/>
                  <a:pt x="5334" y="9174"/>
                  <a:pt x="5259" y="9178"/>
                </a:cubicBezTo>
                <a:cubicBezTo>
                  <a:pt x="5235" y="9179"/>
                  <a:pt x="5076" y="9166"/>
                  <a:pt x="5060" y="9153"/>
                </a:cubicBezTo>
                <a:cubicBezTo>
                  <a:pt x="5005" y="9111"/>
                  <a:pt x="5008" y="9051"/>
                  <a:pt x="5035" y="900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268360" y="2857680"/>
            <a:ext cx="1249560" cy="598320"/>
          </a:xfrm>
          <a:custGeom>
            <a:avLst/>
            <a:gdLst/>
            <a:ahLst/>
            <a:rect l="l" t="t" r="r" b="b"/>
            <a:pathLst>
              <a:path w="3474" h="1662">
                <a:moveTo>
                  <a:pt x="6350" y="7938"/>
                </a:moveTo>
                <a:cubicBezTo>
                  <a:pt x="6381" y="7988"/>
                  <a:pt x="6388" y="8071"/>
                  <a:pt x="6375" y="8136"/>
                </a:cubicBezTo>
                <a:cubicBezTo>
                  <a:pt x="6353" y="8248"/>
                  <a:pt x="6334" y="8367"/>
                  <a:pt x="6325" y="8483"/>
                </a:cubicBezTo>
                <a:cubicBezTo>
                  <a:pt x="6313" y="8635"/>
                  <a:pt x="6346" y="8779"/>
                  <a:pt x="6350" y="8930"/>
                </a:cubicBezTo>
                <a:cubicBezTo>
                  <a:pt x="6352" y="9004"/>
                  <a:pt x="6350" y="9343"/>
                  <a:pt x="6350" y="9252"/>
                </a:cubicBezTo>
                <a:cubicBezTo>
                  <a:pt x="6350" y="9162"/>
                  <a:pt x="6388" y="9093"/>
                  <a:pt x="6400" y="9004"/>
                </a:cubicBezTo>
                <a:cubicBezTo>
                  <a:pt x="6412" y="8911"/>
                  <a:pt x="6435" y="8866"/>
                  <a:pt x="6474" y="8781"/>
                </a:cubicBezTo>
                <a:cubicBezTo>
                  <a:pt x="6522" y="8674"/>
                  <a:pt x="6551" y="8652"/>
                  <a:pt x="6648" y="8632"/>
                </a:cubicBezTo>
                <a:cubicBezTo>
                  <a:pt x="6749" y="8612"/>
                  <a:pt x="6759" y="8657"/>
                  <a:pt x="6821" y="8706"/>
                </a:cubicBezTo>
                <a:cubicBezTo>
                  <a:pt x="6909" y="8776"/>
                  <a:pt x="6904" y="8829"/>
                  <a:pt x="6896" y="8930"/>
                </a:cubicBezTo>
                <a:cubicBezTo>
                  <a:pt x="6887" y="9037"/>
                  <a:pt x="6845" y="9110"/>
                  <a:pt x="6772" y="9178"/>
                </a:cubicBezTo>
                <a:cubicBezTo>
                  <a:pt x="6714" y="9232"/>
                  <a:pt x="6650" y="9295"/>
                  <a:pt x="6573" y="9302"/>
                </a:cubicBezTo>
                <a:cubicBezTo>
                  <a:pt x="6464" y="9312"/>
                  <a:pt x="6443" y="9302"/>
                  <a:pt x="6375" y="9252"/>
                </a:cubicBezTo>
                <a:cubicBezTo>
                  <a:pt x="6299" y="9196"/>
                  <a:pt x="6324" y="9273"/>
                  <a:pt x="6300" y="9153"/>
                </a:cubicBezTo>
              </a:path>
              <a:path w="3474" h="1662">
                <a:moveTo>
                  <a:pt x="7094" y="8930"/>
                </a:moveTo>
                <a:cubicBezTo>
                  <a:pt x="7094" y="9041"/>
                  <a:pt x="7126" y="9231"/>
                  <a:pt x="7069" y="9327"/>
                </a:cubicBezTo>
                <a:cubicBezTo>
                  <a:pt x="7057" y="9291"/>
                  <a:pt x="7064" y="9231"/>
                  <a:pt x="7045" y="9178"/>
                </a:cubicBezTo>
                <a:cubicBezTo>
                  <a:pt x="7028" y="9130"/>
                  <a:pt x="7030" y="8997"/>
                  <a:pt x="7045" y="8930"/>
                </a:cubicBezTo>
                <a:cubicBezTo>
                  <a:pt x="7072" y="8806"/>
                  <a:pt x="7203" y="8729"/>
                  <a:pt x="7293" y="8657"/>
                </a:cubicBezTo>
                <a:cubicBezTo>
                  <a:pt x="7319" y="8636"/>
                  <a:pt x="7378" y="8575"/>
                  <a:pt x="7392" y="8558"/>
                </a:cubicBezTo>
                <a:cubicBezTo>
                  <a:pt x="7414" y="8514"/>
                  <a:pt x="7417" y="8503"/>
                  <a:pt x="7441" y="8483"/>
                </a:cubicBezTo>
              </a:path>
              <a:path w="3474" h="1662">
                <a:moveTo>
                  <a:pt x="7565" y="8880"/>
                </a:moveTo>
                <a:cubicBezTo>
                  <a:pt x="7590" y="9027"/>
                  <a:pt x="7606" y="9166"/>
                  <a:pt x="7640" y="9302"/>
                </a:cubicBezTo>
                <a:cubicBezTo>
                  <a:pt x="7653" y="9356"/>
                  <a:pt x="7670" y="9430"/>
                  <a:pt x="7615" y="9302"/>
                </a:cubicBezTo>
              </a:path>
              <a:path w="3474" h="1662">
                <a:moveTo>
                  <a:pt x="7590" y="8434"/>
                </a:moveTo>
                <a:cubicBezTo>
                  <a:pt x="7609" y="8376"/>
                  <a:pt x="7618" y="8369"/>
                  <a:pt x="7615" y="8334"/>
                </a:cubicBezTo>
              </a:path>
              <a:path w="3474" h="1662">
                <a:moveTo>
                  <a:pt x="8161" y="8880"/>
                </a:moveTo>
                <a:cubicBezTo>
                  <a:pt x="8177" y="8905"/>
                  <a:pt x="8194" y="8929"/>
                  <a:pt x="8210" y="8954"/>
                </a:cubicBezTo>
                <a:cubicBezTo>
                  <a:pt x="8198" y="8881"/>
                  <a:pt x="8177" y="8795"/>
                  <a:pt x="8136" y="8731"/>
                </a:cubicBezTo>
                <a:cubicBezTo>
                  <a:pt x="8103" y="8680"/>
                  <a:pt x="8077" y="8717"/>
                  <a:pt x="8037" y="8657"/>
                </a:cubicBezTo>
                <a:cubicBezTo>
                  <a:pt x="7999" y="8712"/>
                  <a:pt x="7959" y="8726"/>
                  <a:pt x="7913" y="8781"/>
                </a:cubicBezTo>
                <a:cubicBezTo>
                  <a:pt x="7884" y="8816"/>
                  <a:pt x="7858" y="8960"/>
                  <a:pt x="7863" y="9004"/>
                </a:cubicBezTo>
                <a:cubicBezTo>
                  <a:pt x="7872" y="9084"/>
                  <a:pt x="7926" y="9154"/>
                  <a:pt x="7962" y="9227"/>
                </a:cubicBezTo>
                <a:cubicBezTo>
                  <a:pt x="8019" y="9342"/>
                  <a:pt x="8056" y="9382"/>
                  <a:pt x="8186" y="9401"/>
                </a:cubicBezTo>
                <a:cubicBezTo>
                  <a:pt x="8274" y="9414"/>
                  <a:pt x="8340" y="9366"/>
                  <a:pt x="8384" y="9302"/>
                </a:cubicBezTo>
                <a:cubicBezTo>
                  <a:pt x="8425" y="9243"/>
                  <a:pt x="8447" y="9166"/>
                  <a:pt x="8483" y="9103"/>
                </a:cubicBezTo>
              </a:path>
              <a:path w="3474" h="1662">
                <a:moveTo>
                  <a:pt x="8533" y="8111"/>
                </a:moveTo>
                <a:cubicBezTo>
                  <a:pt x="8533" y="8242"/>
                  <a:pt x="8520" y="8354"/>
                  <a:pt x="8508" y="8483"/>
                </a:cubicBezTo>
                <a:cubicBezTo>
                  <a:pt x="8494" y="8632"/>
                  <a:pt x="8487" y="8781"/>
                  <a:pt x="8483" y="8930"/>
                </a:cubicBezTo>
                <a:cubicBezTo>
                  <a:pt x="8479" y="9056"/>
                  <a:pt x="8462" y="9177"/>
                  <a:pt x="8458" y="9302"/>
                </a:cubicBezTo>
                <a:cubicBezTo>
                  <a:pt x="8456" y="9363"/>
                  <a:pt x="8472" y="9424"/>
                  <a:pt x="8434" y="9451"/>
                </a:cubicBezTo>
                <a:cubicBezTo>
                  <a:pt x="8443" y="9386"/>
                  <a:pt x="8451" y="9374"/>
                  <a:pt x="8458" y="9302"/>
                </a:cubicBezTo>
              </a:path>
              <a:path w="3474" h="1662">
                <a:moveTo>
                  <a:pt x="8756" y="8582"/>
                </a:moveTo>
                <a:cubicBezTo>
                  <a:pt x="8722" y="8659"/>
                  <a:pt x="8698" y="8717"/>
                  <a:pt x="8657" y="8781"/>
                </a:cubicBezTo>
                <a:cubicBezTo>
                  <a:pt x="8621" y="8838"/>
                  <a:pt x="8585" y="8862"/>
                  <a:pt x="8582" y="8930"/>
                </a:cubicBezTo>
                <a:cubicBezTo>
                  <a:pt x="8580" y="8977"/>
                  <a:pt x="8566" y="9119"/>
                  <a:pt x="8607" y="9153"/>
                </a:cubicBezTo>
                <a:cubicBezTo>
                  <a:pt x="8650" y="9189"/>
                  <a:pt x="8712" y="9256"/>
                  <a:pt x="8781" y="9302"/>
                </a:cubicBezTo>
                <a:cubicBezTo>
                  <a:pt x="8856" y="9353"/>
                  <a:pt x="8915" y="9387"/>
                  <a:pt x="9004" y="9401"/>
                </a:cubicBezTo>
                <a:cubicBezTo>
                  <a:pt x="9073" y="9412"/>
                  <a:pt x="9136" y="9390"/>
                  <a:pt x="9203" y="9376"/>
                </a:cubicBezTo>
              </a:path>
              <a:path w="3474" h="1662">
                <a:moveTo>
                  <a:pt x="9525" y="8781"/>
                </a:moveTo>
                <a:cubicBezTo>
                  <a:pt x="9485" y="8759"/>
                  <a:pt x="9359" y="8687"/>
                  <a:pt x="9302" y="8731"/>
                </a:cubicBezTo>
                <a:cubicBezTo>
                  <a:pt x="9273" y="8754"/>
                  <a:pt x="9198" y="8809"/>
                  <a:pt x="9203" y="8855"/>
                </a:cubicBezTo>
                <a:cubicBezTo>
                  <a:pt x="9210" y="8923"/>
                  <a:pt x="9244" y="8967"/>
                  <a:pt x="9302" y="9004"/>
                </a:cubicBezTo>
                <a:cubicBezTo>
                  <a:pt x="9361" y="9042"/>
                  <a:pt x="9428" y="9105"/>
                  <a:pt x="9500" y="9153"/>
                </a:cubicBezTo>
                <a:cubicBezTo>
                  <a:pt x="9572" y="9201"/>
                  <a:pt x="9626" y="9251"/>
                  <a:pt x="9674" y="9327"/>
                </a:cubicBezTo>
                <a:cubicBezTo>
                  <a:pt x="9712" y="9387"/>
                  <a:pt x="9754" y="9411"/>
                  <a:pt x="9773" y="9475"/>
                </a:cubicBezTo>
                <a:cubicBezTo>
                  <a:pt x="9787" y="9522"/>
                  <a:pt x="9685" y="9594"/>
                  <a:pt x="9649" y="9599"/>
                </a:cubicBezTo>
                <a:cubicBezTo>
                  <a:pt x="9568" y="9610"/>
                  <a:pt x="9538" y="9579"/>
                  <a:pt x="9475" y="9550"/>
                </a:cubicBezTo>
                <a:cubicBezTo>
                  <a:pt x="9406" y="9518"/>
                  <a:pt x="9351" y="9505"/>
                  <a:pt x="9277" y="9500"/>
                </a:cubicBezTo>
                <a:cubicBezTo>
                  <a:pt x="9225" y="9496"/>
                  <a:pt x="9223" y="9515"/>
                  <a:pt x="9203" y="9525"/>
                </a:cubicBezTo>
                <a:cubicBezTo>
                  <a:pt x="9195" y="9525"/>
                  <a:pt x="9186" y="9525"/>
                  <a:pt x="9178" y="952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bf1"/>
                </a:solidFill>
                <a:latin typeface="Arial"/>
              </a:rPr>
              <a:t>87.  Each row in a small auditorium has two more seats than the preceding row, as shown in the figure.  Find the seating capacity of the auditorium if the front seats 25 people and there are 15 rows of seats.</a:t>
            </a:r>
            <a:endParaRPr b="0" lang="en-US" sz="2000" spc="-1" strike="noStrike">
              <a:solidFill>
                <a:srgbClr val="e3ebf1"/>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 descr=""/>
          <p:cNvPicPr/>
          <p:nvPr/>
        </p:nvPicPr>
        <p:blipFill>
          <a:blip r:embed="rId1"/>
          <a:stretch/>
        </p:blipFill>
        <p:spPr>
          <a:xfrm>
            <a:off x="6553080" y="2971800"/>
            <a:ext cx="2081160" cy="3121200"/>
          </a:xfrm>
          <a:prstGeom prst="rect">
            <a:avLst/>
          </a:prstGeom>
          <a:ln w="0">
            <a:noFill/>
          </a:ln>
        </p:spPr>
      </p:pic>
      <p:sp>
        <p:nvSpPr>
          <p:cNvPr id="116" name=""/>
          <p:cNvSpPr/>
          <p:nvPr/>
        </p:nvSpPr>
        <p:spPr>
          <a:xfrm>
            <a:off x="884160" y="1509840"/>
            <a:ext cx="2982960" cy="669960"/>
          </a:xfrm>
          <a:custGeom>
            <a:avLst/>
            <a:gdLst/>
            <a:ahLst/>
            <a:rect l="l" t="t" r="r" b="b"/>
            <a:pathLst>
              <a:path w="8285" h="1861">
                <a:moveTo>
                  <a:pt x="3150" y="5060"/>
                </a:moveTo>
                <a:cubicBezTo>
                  <a:pt x="3150" y="4995"/>
                  <a:pt x="3135" y="4938"/>
                  <a:pt x="3125" y="4887"/>
                </a:cubicBezTo>
                <a:cubicBezTo>
                  <a:pt x="3114" y="4827"/>
                  <a:pt x="3104" y="4790"/>
                  <a:pt x="3076" y="4738"/>
                </a:cubicBezTo>
                <a:cubicBezTo>
                  <a:pt x="3050" y="4690"/>
                  <a:pt x="3014" y="4625"/>
                  <a:pt x="2952" y="4614"/>
                </a:cubicBezTo>
                <a:cubicBezTo>
                  <a:pt x="2899" y="4605"/>
                  <a:pt x="2822" y="4606"/>
                  <a:pt x="2778" y="4638"/>
                </a:cubicBezTo>
                <a:cubicBezTo>
                  <a:pt x="2716" y="4683"/>
                  <a:pt x="2637" y="4771"/>
                  <a:pt x="2604" y="4837"/>
                </a:cubicBezTo>
                <a:cubicBezTo>
                  <a:pt x="2558" y="4930"/>
                  <a:pt x="2537" y="5037"/>
                  <a:pt x="2505" y="5135"/>
                </a:cubicBezTo>
                <a:cubicBezTo>
                  <a:pt x="2478" y="5218"/>
                  <a:pt x="2443" y="5344"/>
                  <a:pt x="2456" y="5432"/>
                </a:cubicBezTo>
                <a:cubicBezTo>
                  <a:pt x="2467" y="5507"/>
                  <a:pt x="2479" y="5555"/>
                  <a:pt x="2530" y="5606"/>
                </a:cubicBezTo>
                <a:cubicBezTo>
                  <a:pt x="2574" y="5650"/>
                  <a:pt x="2629" y="5635"/>
                  <a:pt x="2679" y="5606"/>
                </a:cubicBezTo>
                <a:cubicBezTo>
                  <a:pt x="2734" y="5574"/>
                  <a:pt x="2821" y="5514"/>
                  <a:pt x="2853" y="5457"/>
                </a:cubicBezTo>
                <a:cubicBezTo>
                  <a:pt x="2899" y="5375"/>
                  <a:pt x="2937" y="5297"/>
                  <a:pt x="2977" y="5209"/>
                </a:cubicBezTo>
                <a:cubicBezTo>
                  <a:pt x="3041" y="5066"/>
                  <a:pt x="3007" y="5144"/>
                  <a:pt x="3026" y="5035"/>
                </a:cubicBezTo>
                <a:cubicBezTo>
                  <a:pt x="3014" y="5060"/>
                  <a:pt x="2987" y="5070"/>
                  <a:pt x="3001" y="5135"/>
                </a:cubicBezTo>
                <a:cubicBezTo>
                  <a:pt x="3017" y="5209"/>
                  <a:pt x="3025" y="5277"/>
                  <a:pt x="3076" y="5333"/>
                </a:cubicBezTo>
                <a:cubicBezTo>
                  <a:pt x="3117" y="5379"/>
                  <a:pt x="3103" y="5428"/>
                  <a:pt x="3175" y="5457"/>
                </a:cubicBezTo>
                <a:cubicBezTo>
                  <a:pt x="3183" y="5457"/>
                  <a:pt x="3192" y="5457"/>
                  <a:pt x="3200" y="5457"/>
                </a:cubicBezTo>
              </a:path>
              <a:path w="8285" h="1861">
                <a:moveTo>
                  <a:pt x="3373" y="5383"/>
                </a:moveTo>
                <a:cubicBezTo>
                  <a:pt x="3373" y="5606"/>
                  <a:pt x="3264" y="6207"/>
                  <a:pt x="3398" y="6028"/>
                </a:cubicBezTo>
                <a:cubicBezTo>
                  <a:pt x="3398" y="6020"/>
                  <a:pt x="3398" y="6011"/>
                  <a:pt x="3398" y="6003"/>
                </a:cubicBezTo>
              </a:path>
              <a:path w="8285" h="1861">
                <a:moveTo>
                  <a:pt x="3646" y="5482"/>
                </a:moveTo>
                <a:cubicBezTo>
                  <a:pt x="3712" y="5497"/>
                  <a:pt x="3751" y="5482"/>
                  <a:pt x="3820" y="5482"/>
                </a:cubicBezTo>
                <a:cubicBezTo>
                  <a:pt x="3828" y="5482"/>
                  <a:pt x="3837" y="5482"/>
                  <a:pt x="3845" y="5482"/>
                </a:cubicBezTo>
              </a:path>
              <a:path w="8285" h="1861">
                <a:moveTo>
                  <a:pt x="3621" y="5581"/>
                </a:moveTo>
                <a:cubicBezTo>
                  <a:pt x="3608" y="5639"/>
                  <a:pt x="3552" y="5717"/>
                  <a:pt x="3597" y="5755"/>
                </a:cubicBezTo>
                <a:cubicBezTo>
                  <a:pt x="3611" y="5767"/>
                  <a:pt x="3652" y="5783"/>
                  <a:pt x="3671" y="5755"/>
                </a:cubicBezTo>
                <a:cubicBezTo>
                  <a:pt x="3683" y="5737"/>
                  <a:pt x="3735" y="5721"/>
                  <a:pt x="3746" y="5705"/>
                </a:cubicBezTo>
                <a:cubicBezTo>
                  <a:pt x="3767" y="5673"/>
                  <a:pt x="3777" y="5667"/>
                  <a:pt x="3820" y="5705"/>
                </a:cubicBezTo>
                <a:cubicBezTo>
                  <a:pt x="3865" y="5745"/>
                  <a:pt x="3873" y="5778"/>
                  <a:pt x="3894" y="5829"/>
                </a:cubicBezTo>
                <a:cubicBezTo>
                  <a:pt x="3917" y="5887"/>
                  <a:pt x="3921" y="5921"/>
                  <a:pt x="3894" y="5978"/>
                </a:cubicBezTo>
                <a:cubicBezTo>
                  <a:pt x="3884" y="5999"/>
                  <a:pt x="3789" y="6047"/>
                  <a:pt x="3770" y="6052"/>
                </a:cubicBezTo>
                <a:cubicBezTo>
                  <a:pt x="3700" y="6070"/>
                  <a:pt x="3628" y="6046"/>
                  <a:pt x="3572" y="6028"/>
                </a:cubicBezTo>
                <a:cubicBezTo>
                  <a:pt x="3527" y="6014"/>
                  <a:pt x="3545" y="5989"/>
                  <a:pt x="3572" y="5953"/>
                </a:cubicBezTo>
              </a:path>
              <a:path w="8285" h="1861">
                <a:moveTo>
                  <a:pt x="4167" y="4812"/>
                </a:moveTo>
                <a:cubicBezTo>
                  <a:pt x="4225" y="4804"/>
                  <a:pt x="4280" y="4800"/>
                  <a:pt x="4341" y="4787"/>
                </a:cubicBezTo>
                <a:cubicBezTo>
                  <a:pt x="4423" y="4769"/>
                  <a:pt x="4478" y="4762"/>
                  <a:pt x="4564" y="4762"/>
                </a:cubicBezTo>
                <a:cubicBezTo>
                  <a:pt x="4597" y="4762"/>
                  <a:pt x="4630" y="4762"/>
                  <a:pt x="4663" y="4762"/>
                </a:cubicBezTo>
              </a:path>
              <a:path w="8285" h="1861">
                <a:moveTo>
                  <a:pt x="4142" y="5035"/>
                </a:moveTo>
                <a:cubicBezTo>
                  <a:pt x="4216" y="5063"/>
                  <a:pt x="4311" y="5082"/>
                  <a:pt x="4390" y="5085"/>
                </a:cubicBezTo>
                <a:cubicBezTo>
                  <a:pt x="4481" y="5089"/>
                  <a:pt x="4572" y="5085"/>
                  <a:pt x="4663" y="5085"/>
                </a:cubicBezTo>
                <a:cubicBezTo>
                  <a:pt x="4615" y="5085"/>
                  <a:pt x="4602" y="5081"/>
                  <a:pt x="4564" y="5110"/>
                </a:cubicBezTo>
              </a:path>
              <a:path w="8285" h="1861">
                <a:moveTo>
                  <a:pt x="5110" y="4762"/>
                </a:moveTo>
                <a:cubicBezTo>
                  <a:pt x="5120" y="4724"/>
                  <a:pt x="5147" y="4699"/>
                  <a:pt x="5159" y="4663"/>
                </a:cubicBezTo>
                <a:cubicBezTo>
                  <a:pt x="5173" y="4621"/>
                  <a:pt x="5231" y="4526"/>
                  <a:pt x="5259" y="4490"/>
                </a:cubicBezTo>
                <a:cubicBezTo>
                  <a:pt x="5280" y="4464"/>
                  <a:pt x="5326" y="4444"/>
                  <a:pt x="5358" y="4440"/>
                </a:cubicBezTo>
                <a:cubicBezTo>
                  <a:pt x="5386" y="4437"/>
                  <a:pt x="5429" y="4453"/>
                  <a:pt x="5432" y="4465"/>
                </a:cubicBezTo>
                <a:cubicBezTo>
                  <a:pt x="5446" y="4514"/>
                  <a:pt x="5465" y="4616"/>
                  <a:pt x="5457" y="4663"/>
                </a:cubicBezTo>
                <a:cubicBezTo>
                  <a:pt x="5437" y="4781"/>
                  <a:pt x="5422" y="4895"/>
                  <a:pt x="5383" y="5011"/>
                </a:cubicBezTo>
                <a:cubicBezTo>
                  <a:pt x="5350" y="5110"/>
                  <a:pt x="5322" y="5199"/>
                  <a:pt x="5259" y="5283"/>
                </a:cubicBezTo>
                <a:cubicBezTo>
                  <a:pt x="5227" y="5326"/>
                  <a:pt x="5165" y="5394"/>
                  <a:pt x="5110" y="5407"/>
                </a:cubicBezTo>
                <a:cubicBezTo>
                  <a:pt x="5059" y="5419"/>
                  <a:pt x="5027" y="5434"/>
                  <a:pt x="4986" y="5407"/>
                </a:cubicBezTo>
                <a:cubicBezTo>
                  <a:pt x="4931" y="5371"/>
                  <a:pt x="4936" y="5382"/>
                  <a:pt x="4936" y="5308"/>
                </a:cubicBezTo>
                <a:cubicBezTo>
                  <a:pt x="4936" y="5264"/>
                  <a:pt x="5013" y="5184"/>
                  <a:pt x="5060" y="5184"/>
                </a:cubicBezTo>
                <a:cubicBezTo>
                  <a:pt x="5090" y="5184"/>
                  <a:pt x="5156" y="5243"/>
                  <a:pt x="5184" y="5259"/>
                </a:cubicBezTo>
                <a:cubicBezTo>
                  <a:pt x="5259" y="5303"/>
                  <a:pt x="5243" y="5317"/>
                  <a:pt x="5283" y="5383"/>
                </a:cubicBezTo>
                <a:cubicBezTo>
                  <a:pt x="5315" y="5436"/>
                  <a:pt x="5350" y="5435"/>
                  <a:pt x="5358" y="5432"/>
                </a:cubicBezTo>
                <a:cubicBezTo>
                  <a:pt x="5366" y="5432"/>
                  <a:pt x="5375" y="5432"/>
                  <a:pt x="5383" y="5432"/>
                </a:cubicBezTo>
              </a:path>
              <a:path w="8285" h="1861">
                <a:moveTo>
                  <a:pt x="5755" y="4539"/>
                </a:moveTo>
                <a:cubicBezTo>
                  <a:pt x="5830" y="4539"/>
                  <a:pt x="5884" y="4526"/>
                  <a:pt x="5953" y="4514"/>
                </a:cubicBezTo>
                <a:cubicBezTo>
                  <a:pt x="6027" y="4502"/>
                  <a:pt x="6165" y="4543"/>
                  <a:pt x="6201" y="4490"/>
                </a:cubicBezTo>
              </a:path>
              <a:path w="8285" h="1861">
                <a:moveTo>
                  <a:pt x="5655" y="4663"/>
                </a:moveTo>
                <a:cubicBezTo>
                  <a:pt x="5634" y="4723"/>
                  <a:pt x="5606" y="4774"/>
                  <a:pt x="5606" y="4837"/>
                </a:cubicBezTo>
                <a:cubicBezTo>
                  <a:pt x="5606" y="4888"/>
                  <a:pt x="5565" y="4867"/>
                  <a:pt x="5606" y="4887"/>
                </a:cubicBezTo>
                <a:cubicBezTo>
                  <a:pt x="5639" y="4879"/>
                  <a:pt x="5701" y="4855"/>
                  <a:pt x="5730" y="4837"/>
                </a:cubicBezTo>
                <a:cubicBezTo>
                  <a:pt x="5782" y="4806"/>
                  <a:pt x="5822" y="4799"/>
                  <a:pt x="5879" y="4837"/>
                </a:cubicBezTo>
                <a:cubicBezTo>
                  <a:pt x="5969" y="4897"/>
                  <a:pt x="5973" y="4923"/>
                  <a:pt x="6003" y="5011"/>
                </a:cubicBezTo>
                <a:cubicBezTo>
                  <a:pt x="6033" y="5099"/>
                  <a:pt x="6023" y="5122"/>
                  <a:pt x="6003" y="5209"/>
                </a:cubicBezTo>
                <a:cubicBezTo>
                  <a:pt x="5989" y="5270"/>
                  <a:pt x="5934" y="5304"/>
                  <a:pt x="5879" y="5333"/>
                </a:cubicBezTo>
                <a:cubicBezTo>
                  <a:pt x="5815" y="5367"/>
                  <a:pt x="5728" y="5379"/>
                  <a:pt x="5655" y="5383"/>
                </a:cubicBezTo>
                <a:cubicBezTo>
                  <a:pt x="5632" y="5384"/>
                  <a:pt x="5538" y="5369"/>
                  <a:pt x="5556" y="5333"/>
                </a:cubicBezTo>
                <a:cubicBezTo>
                  <a:pt x="5564" y="5325"/>
                  <a:pt x="5573" y="5316"/>
                  <a:pt x="5581" y="5308"/>
                </a:cubicBezTo>
              </a:path>
              <a:path w="8285" h="1861">
                <a:moveTo>
                  <a:pt x="6499" y="4688"/>
                </a:moveTo>
                <a:cubicBezTo>
                  <a:pt x="6473" y="4797"/>
                  <a:pt x="6449" y="4875"/>
                  <a:pt x="6449" y="4986"/>
                </a:cubicBezTo>
                <a:cubicBezTo>
                  <a:pt x="6449" y="5065"/>
                  <a:pt x="6427" y="5172"/>
                  <a:pt x="6474" y="5234"/>
                </a:cubicBezTo>
                <a:cubicBezTo>
                  <a:pt x="6427" y="5266"/>
                  <a:pt x="6471" y="5250"/>
                  <a:pt x="6424" y="5234"/>
                </a:cubicBezTo>
              </a:path>
              <a:path w="8285" h="1861">
                <a:moveTo>
                  <a:pt x="6201" y="4936"/>
                </a:moveTo>
                <a:cubicBezTo>
                  <a:pt x="6298" y="4936"/>
                  <a:pt x="6381" y="4921"/>
                  <a:pt x="6474" y="4911"/>
                </a:cubicBezTo>
                <a:cubicBezTo>
                  <a:pt x="6546" y="4903"/>
                  <a:pt x="6625" y="4911"/>
                  <a:pt x="6697" y="4911"/>
                </a:cubicBezTo>
              </a:path>
              <a:path w="8285" h="1861">
                <a:moveTo>
                  <a:pt x="7317" y="4390"/>
                </a:moveTo>
                <a:cubicBezTo>
                  <a:pt x="7245" y="4501"/>
                  <a:pt x="7181" y="4598"/>
                  <a:pt x="7119" y="4713"/>
                </a:cubicBezTo>
                <a:cubicBezTo>
                  <a:pt x="7061" y="4822"/>
                  <a:pt x="6985" y="4934"/>
                  <a:pt x="6970" y="5060"/>
                </a:cubicBezTo>
                <a:cubicBezTo>
                  <a:pt x="6961" y="5132"/>
                  <a:pt x="6952" y="5271"/>
                  <a:pt x="6995" y="5333"/>
                </a:cubicBezTo>
                <a:cubicBezTo>
                  <a:pt x="7040" y="5398"/>
                  <a:pt x="7094" y="5428"/>
                  <a:pt x="7169" y="5432"/>
                </a:cubicBezTo>
                <a:cubicBezTo>
                  <a:pt x="7185" y="5432"/>
                  <a:pt x="7202" y="5432"/>
                  <a:pt x="7218" y="5432"/>
                </a:cubicBezTo>
              </a:path>
              <a:path w="8285" h="1861">
                <a:moveTo>
                  <a:pt x="7565" y="4663"/>
                </a:moveTo>
                <a:cubicBezTo>
                  <a:pt x="7548" y="4787"/>
                  <a:pt x="7530" y="4914"/>
                  <a:pt x="7516" y="5035"/>
                </a:cubicBezTo>
                <a:cubicBezTo>
                  <a:pt x="7506" y="5121"/>
                  <a:pt x="7505" y="5202"/>
                  <a:pt x="7491" y="5283"/>
                </a:cubicBezTo>
                <a:cubicBezTo>
                  <a:pt x="7482" y="5336"/>
                  <a:pt x="7512" y="5368"/>
                  <a:pt x="7466" y="5383"/>
                </a:cubicBezTo>
                <a:cubicBezTo>
                  <a:pt x="7476" y="5341"/>
                  <a:pt x="7484" y="5331"/>
                  <a:pt x="7491" y="5283"/>
                </a:cubicBezTo>
              </a:path>
              <a:path w="8285" h="1861">
                <a:moveTo>
                  <a:pt x="7987" y="4713"/>
                </a:moveTo>
                <a:cubicBezTo>
                  <a:pt x="8044" y="4703"/>
                  <a:pt x="8202" y="4711"/>
                  <a:pt x="8260" y="4688"/>
                </a:cubicBezTo>
                <a:cubicBezTo>
                  <a:pt x="8285" y="4663"/>
                  <a:pt x="8293" y="4655"/>
                  <a:pt x="8310" y="4638"/>
                </a:cubicBezTo>
              </a:path>
              <a:path w="8285" h="1861">
                <a:moveTo>
                  <a:pt x="7838" y="4738"/>
                </a:moveTo>
                <a:cubicBezTo>
                  <a:pt x="7830" y="4756"/>
                  <a:pt x="7718" y="4947"/>
                  <a:pt x="7764" y="5011"/>
                </a:cubicBezTo>
                <a:cubicBezTo>
                  <a:pt x="7771" y="5021"/>
                  <a:pt x="7842" y="5046"/>
                  <a:pt x="7863" y="5035"/>
                </a:cubicBezTo>
                <a:cubicBezTo>
                  <a:pt x="7921" y="5004"/>
                  <a:pt x="7944" y="4919"/>
                  <a:pt x="8012" y="4911"/>
                </a:cubicBezTo>
                <a:cubicBezTo>
                  <a:pt x="8060" y="4906"/>
                  <a:pt x="8107" y="4920"/>
                  <a:pt x="8136" y="4961"/>
                </a:cubicBezTo>
                <a:cubicBezTo>
                  <a:pt x="8169" y="5007"/>
                  <a:pt x="8183" y="5081"/>
                  <a:pt x="8186" y="5135"/>
                </a:cubicBezTo>
                <a:cubicBezTo>
                  <a:pt x="8189" y="5190"/>
                  <a:pt x="8184" y="5263"/>
                  <a:pt x="8161" y="5308"/>
                </a:cubicBezTo>
                <a:cubicBezTo>
                  <a:pt x="8139" y="5352"/>
                  <a:pt x="8057" y="5397"/>
                  <a:pt x="8012" y="5407"/>
                </a:cubicBezTo>
                <a:cubicBezTo>
                  <a:pt x="7960" y="5418"/>
                  <a:pt x="7792" y="5427"/>
                  <a:pt x="7764" y="5383"/>
                </a:cubicBezTo>
                <a:cubicBezTo>
                  <a:pt x="7764" y="5375"/>
                  <a:pt x="7764" y="5366"/>
                  <a:pt x="7764" y="5358"/>
                </a:cubicBezTo>
              </a:path>
              <a:path w="8285" h="1861">
                <a:moveTo>
                  <a:pt x="8434" y="5060"/>
                </a:moveTo>
                <a:cubicBezTo>
                  <a:pt x="8524" y="5054"/>
                  <a:pt x="8606" y="5047"/>
                  <a:pt x="8682" y="5011"/>
                </a:cubicBezTo>
              </a:path>
              <a:path w="8285" h="1861">
                <a:moveTo>
                  <a:pt x="8880" y="4738"/>
                </a:moveTo>
                <a:cubicBezTo>
                  <a:pt x="8848" y="4875"/>
                  <a:pt x="8806" y="4997"/>
                  <a:pt x="8806" y="5135"/>
                </a:cubicBezTo>
                <a:cubicBezTo>
                  <a:pt x="8806" y="5191"/>
                  <a:pt x="8781" y="5228"/>
                  <a:pt x="8781" y="5283"/>
                </a:cubicBezTo>
                <a:cubicBezTo>
                  <a:pt x="8781" y="5345"/>
                  <a:pt x="8772" y="5329"/>
                  <a:pt x="8806" y="5283"/>
                </a:cubicBezTo>
              </a:path>
              <a:path w="8285" h="1861">
                <a:moveTo>
                  <a:pt x="8979" y="4266"/>
                </a:moveTo>
                <a:cubicBezTo>
                  <a:pt x="9084" y="4408"/>
                  <a:pt x="9163" y="4516"/>
                  <a:pt x="9203" y="4688"/>
                </a:cubicBezTo>
                <a:cubicBezTo>
                  <a:pt x="9234" y="4822"/>
                  <a:pt x="9275" y="4971"/>
                  <a:pt x="9252" y="5110"/>
                </a:cubicBezTo>
                <a:cubicBezTo>
                  <a:pt x="9234" y="5220"/>
                  <a:pt x="9177" y="5305"/>
                  <a:pt x="9103" y="5383"/>
                </a:cubicBezTo>
                <a:cubicBezTo>
                  <a:pt x="9028" y="5462"/>
                  <a:pt x="8949" y="5452"/>
                  <a:pt x="8855" y="5482"/>
                </a:cubicBezTo>
                <a:cubicBezTo>
                  <a:pt x="8807" y="5506"/>
                  <a:pt x="8793" y="5515"/>
                  <a:pt x="8756" y="5507"/>
                </a:cubicBezTo>
                <a:cubicBezTo>
                  <a:pt x="8784" y="5478"/>
                  <a:pt x="8841" y="5422"/>
                  <a:pt x="8880" y="5383"/>
                </a:cubicBezTo>
                <a:cubicBezTo>
                  <a:pt x="8946" y="5316"/>
                  <a:pt x="8962" y="5300"/>
                  <a:pt x="9004" y="5259"/>
                </a:cubicBezTo>
              </a:path>
              <a:path w="8285" h="1861">
                <a:moveTo>
                  <a:pt x="9699" y="4341"/>
                </a:moveTo>
                <a:cubicBezTo>
                  <a:pt x="9620" y="4449"/>
                  <a:pt x="9508" y="4595"/>
                  <a:pt x="9451" y="4713"/>
                </a:cubicBezTo>
                <a:cubicBezTo>
                  <a:pt x="9403" y="4811"/>
                  <a:pt x="9339" y="4946"/>
                  <a:pt x="9351" y="5060"/>
                </a:cubicBezTo>
                <a:cubicBezTo>
                  <a:pt x="9363" y="5170"/>
                  <a:pt x="9383" y="5292"/>
                  <a:pt x="9451" y="5383"/>
                </a:cubicBezTo>
                <a:cubicBezTo>
                  <a:pt x="9491" y="5437"/>
                  <a:pt x="9518" y="5478"/>
                  <a:pt x="9550" y="5531"/>
                </a:cubicBezTo>
                <a:cubicBezTo>
                  <a:pt x="9558" y="5539"/>
                  <a:pt x="9567" y="5548"/>
                  <a:pt x="9575" y="5556"/>
                </a:cubicBezTo>
              </a:path>
              <a:path w="8285" h="1861">
                <a:moveTo>
                  <a:pt x="9723" y="4514"/>
                </a:moveTo>
                <a:cubicBezTo>
                  <a:pt x="9757" y="4503"/>
                  <a:pt x="9791" y="4474"/>
                  <a:pt x="9847" y="4465"/>
                </a:cubicBezTo>
                <a:cubicBezTo>
                  <a:pt x="9922" y="4452"/>
                  <a:pt x="9979" y="4479"/>
                  <a:pt x="10046" y="4490"/>
                </a:cubicBezTo>
                <a:cubicBezTo>
                  <a:pt x="10116" y="4502"/>
                  <a:pt x="10152" y="4533"/>
                  <a:pt x="10170" y="4614"/>
                </a:cubicBezTo>
                <a:cubicBezTo>
                  <a:pt x="10185" y="4680"/>
                  <a:pt x="10161" y="4759"/>
                  <a:pt x="10120" y="4812"/>
                </a:cubicBezTo>
                <a:cubicBezTo>
                  <a:pt x="10059" y="4891"/>
                  <a:pt x="10020" y="4962"/>
                  <a:pt x="9947" y="5035"/>
                </a:cubicBezTo>
                <a:cubicBezTo>
                  <a:pt x="9875" y="5107"/>
                  <a:pt x="9796" y="5167"/>
                  <a:pt x="9723" y="5234"/>
                </a:cubicBezTo>
                <a:cubicBezTo>
                  <a:pt x="9701" y="5256"/>
                  <a:pt x="9693" y="5261"/>
                  <a:pt x="9699" y="5283"/>
                </a:cubicBezTo>
                <a:cubicBezTo>
                  <a:pt x="9758" y="5329"/>
                  <a:pt x="9779" y="5294"/>
                  <a:pt x="9847" y="5283"/>
                </a:cubicBezTo>
                <a:cubicBezTo>
                  <a:pt x="9915" y="5272"/>
                  <a:pt x="9978" y="5263"/>
                  <a:pt x="10046" y="5234"/>
                </a:cubicBezTo>
                <a:cubicBezTo>
                  <a:pt x="10130" y="5199"/>
                  <a:pt x="10181" y="5149"/>
                  <a:pt x="10244" y="5085"/>
                </a:cubicBezTo>
              </a:path>
              <a:path w="8285" h="1861">
                <a:moveTo>
                  <a:pt x="10393" y="4192"/>
                </a:moveTo>
                <a:cubicBezTo>
                  <a:pt x="10488" y="4261"/>
                  <a:pt x="10564" y="4331"/>
                  <a:pt x="10616" y="4440"/>
                </a:cubicBezTo>
                <a:cubicBezTo>
                  <a:pt x="10671" y="4554"/>
                  <a:pt x="10724" y="4685"/>
                  <a:pt x="10740" y="4812"/>
                </a:cubicBezTo>
                <a:cubicBezTo>
                  <a:pt x="10751" y="4901"/>
                  <a:pt x="10766" y="5079"/>
                  <a:pt x="10716" y="5159"/>
                </a:cubicBezTo>
                <a:cubicBezTo>
                  <a:pt x="10681" y="5216"/>
                  <a:pt x="10613" y="5267"/>
                  <a:pt x="10567" y="5308"/>
                </a:cubicBezTo>
                <a:cubicBezTo>
                  <a:pt x="10524" y="5347"/>
                  <a:pt x="10470" y="5382"/>
                  <a:pt x="10418" y="5407"/>
                </a:cubicBezTo>
                <a:cubicBezTo>
                  <a:pt x="10369" y="5430"/>
                  <a:pt x="10322" y="5426"/>
                  <a:pt x="10269" y="543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116240" y="1625760"/>
            <a:ext cx="608040" cy="320400"/>
          </a:xfrm>
          <a:custGeom>
            <a:avLst/>
            <a:gdLst/>
            <a:ahLst/>
            <a:rect l="l" t="t" r="r" b="b"/>
            <a:pathLst>
              <a:path w="1688" h="894">
                <a:moveTo>
                  <a:pt x="11435" y="4713"/>
                </a:moveTo>
                <a:cubicBezTo>
                  <a:pt x="11481" y="4713"/>
                  <a:pt x="11494" y="4735"/>
                  <a:pt x="11534" y="4738"/>
                </a:cubicBezTo>
                <a:cubicBezTo>
                  <a:pt x="11595" y="4742"/>
                  <a:pt x="11588" y="4729"/>
                  <a:pt x="11633" y="4762"/>
                </a:cubicBezTo>
              </a:path>
              <a:path w="1688" h="894">
                <a:moveTo>
                  <a:pt x="11460" y="4961"/>
                </a:moveTo>
                <a:cubicBezTo>
                  <a:pt x="11510" y="4983"/>
                  <a:pt x="11556" y="5000"/>
                  <a:pt x="11609" y="5011"/>
                </a:cubicBezTo>
              </a:path>
              <a:path w="1688" h="894">
                <a:moveTo>
                  <a:pt x="12129" y="4589"/>
                </a:moveTo>
                <a:cubicBezTo>
                  <a:pt x="12217" y="4574"/>
                  <a:pt x="12317" y="4545"/>
                  <a:pt x="12402" y="4539"/>
                </a:cubicBezTo>
                <a:cubicBezTo>
                  <a:pt x="12477" y="4534"/>
                  <a:pt x="12455" y="4530"/>
                  <a:pt x="12502" y="4514"/>
                </a:cubicBezTo>
              </a:path>
              <a:path w="1688" h="894">
                <a:moveTo>
                  <a:pt x="12080" y="4589"/>
                </a:moveTo>
                <a:cubicBezTo>
                  <a:pt x="11996" y="4730"/>
                  <a:pt x="11997" y="4702"/>
                  <a:pt x="12005" y="4812"/>
                </a:cubicBezTo>
                <a:cubicBezTo>
                  <a:pt x="12009" y="4864"/>
                  <a:pt x="12022" y="4881"/>
                  <a:pt x="12080" y="4887"/>
                </a:cubicBezTo>
                <a:cubicBezTo>
                  <a:pt x="12122" y="4892"/>
                  <a:pt x="12157" y="4829"/>
                  <a:pt x="12179" y="4812"/>
                </a:cubicBezTo>
                <a:cubicBezTo>
                  <a:pt x="12230" y="4772"/>
                  <a:pt x="12234" y="4793"/>
                  <a:pt x="12278" y="4837"/>
                </a:cubicBezTo>
                <a:cubicBezTo>
                  <a:pt x="12317" y="4877"/>
                  <a:pt x="12366" y="4956"/>
                  <a:pt x="12378" y="5011"/>
                </a:cubicBezTo>
                <a:cubicBezTo>
                  <a:pt x="12391" y="5070"/>
                  <a:pt x="12336" y="5140"/>
                  <a:pt x="12303" y="5184"/>
                </a:cubicBezTo>
                <a:cubicBezTo>
                  <a:pt x="12266" y="5232"/>
                  <a:pt x="12215" y="5273"/>
                  <a:pt x="12154" y="5283"/>
                </a:cubicBezTo>
                <a:cubicBezTo>
                  <a:pt x="12113" y="5290"/>
                  <a:pt x="12013" y="5296"/>
                  <a:pt x="11981" y="5259"/>
                </a:cubicBezTo>
                <a:cubicBezTo>
                  <a:pt x="11981" y="5212"/>
                  <a:pt x="11993" y="5186"/>
                  <a:pt x="12030" y="5159"/>
                </a:cubicBezTo>
              </a:path>
              <a:path w="1688" h="894">
                <a:moveTo>
                  <a:pt x="12750" y="4589"/>
                </a:moveTo>
                <a:cubicBezTo>
                  <a:pt x="12840" y="4559"/>
                  <a:pt x="12969" y="4507"/>
                  <a:pt x="13072" y="4539"/>
                </a:cubicBezTo>
                <a:cubicBezTo>
                  <a:pt x="13180" y="4573"/>
                  <a:pt x="13112" y="4749"/>
                  <a:pt x="13047" y="4787"/>
                </a:cubicBezTo>
                <a:cubicBezTo>
                  <a:pt x="12981" y="4826"/>
                  <a:pt x="12901" y="4888"/>
                  <a:pt x="12824" y="4911"/>
                </a:cubicBezTo>
                <a:cubicBezTo>
                  <a:pt x="12796" y="4919"/>
                  <a:pt x="12779" y="4929"/>
                  <a:pt x="12750" y="4936"/>
                </a:cubicBezTo>
                <a:cubicBezTo>
                  <a:pt x="12796" y="4972"/>
                  <a:pt x="12837" y="4961"/>
                  <a:pt x="12898" y="4961"/>
                </a:cubicBezTo>
                <a:cubicBezTo>
                  <a:pt x="12973" y="4961"/>
                  <a:pt x="13050" y="4999"/>
                  <a:pt x="13097" y="5060"/>
                </a:cubicBezTo>
                <a:cubicBezTo>
                  <a:pt x="13145" y="5123"/>
                  <a:pt x="13125" y="5243"/>
                  <a:pt x="13097" y="5308"/>
                </a:cubicBezTo>
                <a:cubicBezTo>
                  <a:pt x="13083" y="5340"/>
                  <a:pt x="12981" y="5396"/>
                  <a:pt x="12948" y="5407"/>
                </a:cubicBezTo>
                <a:cubicBezTo>
                  <a:pt x="12831" y="5445"/>
                  <a:pt x="12622" y="5407"/>
                  <a:pt x="12502" y="540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847800" y="2419200"/>
            <a:ext cx="5054400" cy="849600"/>
          </a:xfrm>
          <a:custGeom>
            <a:avLst/>
            <a:gdLst/>
            <a:ahLst/>
            <a:rect l="l" t="t" r="r" b="b"/>
            <a:pathLst>
              <a:path w="14041" h="2358">
                <a:moveTo>
                  <a:pt x="3820" y="7020"/>
                </a:moveTo>
                <a:cubicBezTo>
                  <a:pt x="3831" y="7065"/>
                  <a:pt x="3831" y="7126"/>
                  <a:pt x="3845" y="7169"/>
                </a:cubicBezTo>
                <a:cubicBezTo>
                  <a:pt x="3856" y="7204"/>
                  <a:pt x="3853" y="7185"/>
                  <a:pt x="3870" y="7218"/>
                </a:cubicBezTo>
                <a:cubicBezTo>
                  <a:pt x="3837" y="7169"/>
                  <a:pt x="3804" y="7118"/>
                  <a:pt x="3770" y="7069"/>
                </a:cubicBezTo>
                <a:cubicBezTo>
                  <a:pt x="3729" y="7009"/>
                  <a:pt x="3601" y="6866"/>
                  <a:pt x="3522" y="6846"/>
                </a:cubicBezTo>
                <a:cubicBezTo>
                  <a:pt x="3426" y="6822"/>
                  <a:pt x="3275" y="6806"/>
                  <a:pt x="3175" y="6821"/>
                </a:cubicBezTo>
                <a:cubicBezTo>
                  <a:pt x="3020" y="6845"/>
                  <a:pt x="2841" y="6892"/>
                  <a:pt x="2704" y="6970"/>
                </a:cubicBezTo>
                <a:cubicBezTo>
                  <a:pt x="2627" y="7014"/>
                  <a:pt x="2511" y="7072"/>
                  <a:pt x="2456" y="7144"/>
                </a:cubicBezTo>
                <a:cubicBezTo>
                  <a:pt x="2433" y="7174"/>
                  <a:pt x="2378" y="7274"/>
                  <a:pt x="2406" y="7317"/>
                </a:cubicBezTo>
                <a:cubicBezTo>
                  <a:pt x="2450" y="7386"/>
                  <a:pt x="2533" y="7403"/>
                  <a:pt x="2604" y="7441"/>
                </a:cubicBezTo>
                <a:cubicBezTo>
                  <a:pt x="2732" y="7510"/>
                  <a:pt x="2868" y="7577"/>
                  <a:pt x="3001" y="7640"/>
                </a:cubicBezTo>
                <a:cubicBezTo>
                  <a:pt x="3224" y="7746"/>
                  <a:pt x="3360" y="7868"/>
                  <a:pt x="3522" y="8062"/>
                </a:cubicBezTo>
                <a:cubicBezTo>
                  <a:pt x="3579" y="8130"/>
                  <a:pt x="3623" y="8244"/>
                  <a:pt x="3597" y="8334"/>
                </a:cubicBezTo>
                <a:cubicBezTo>
                  <a:pt x="3559" y="8465"/>
                  <a:pt x="3400" y="8463"/>
                  <a:pt x="3299" y="8483"/>
                </a:cubicBezTo>
                <a:cubicBezTo>
                  <a:pt x="3137" y="8515"/>
                  <a:pt x="3014" y="8495"/>
                  <a:pt x="2853" y="8483"/>
                </a:cubicBezTo>
                <a:cubicBezTo>
                  <a:pt x="2721" y="8473"/>
                  <a:pt x="2620" y="8496"/>
                  <a:pt x="2505" y="8409"/>
                </a:cubicBezTo>
                <a:cubicBezTo>
                  <a:pt x="2465" y="8379"/>
                  <a:pt x="2396" y="8337"/>
                  <a:pt x="2381" y="8310"/>
                </a:cubicBezTo>
                <a:cubicBezTo>
                  <a:pt x="2353" y="8310"/>
                  <a:pt x="2347" y="8308"/>
                  <a:pt x="2381" y="8285"/>
                </a:cubicBezTo>
              </a:path>
              <a:path w="14041" h="2358">
                <a:moveTo>
                  <a:pt x="3696" y="8508"/>
                </a:moveTo>
                <a:cubicBezTo>
                  <a:pt x="3716" y="8629"/>
                  <a:pt x="3721" y="8733"/>
                  <a:pt x="3721" y="8855"/>
                </a:cubicBezTo>
                <a:cubicBezTo>
                  <a:pt x="3721" y="8898"/>
                  <a:pt x="3721" y="9144"/>
                  <a:pt x="3721" y="9029"/>
                </a:cubicBezTo>
                <a:cubicBezTo>
                  <a:pt x="3721" y="9021"/>
                  <a:pt x="3721" y="9012"/>
                  <a:pt x="3721" y="9004"/>
                </a:cubicBezTo>
              </a:path>
              <a:path w="14041" h="2358">
                <a:moveTo>
                  <a:pt x="3919" y="8508"/>
                </a:moveTo>
                <a:cubicBezTo>
                  <a:pt x="3983" y="8502"/>
                  <a:pt x="4031" y="8483"/>
                  <a:pt x="4093" y="8483"/>
                </a:cubicBezTo>
                <a:cubicBezTo>
                  <a:pt x="4101" y="8483"/>
                  <a:pt x="4110" y="8483"/>
                  <a:pt x="4118" y="8483"/>
                </a:cubicBezTo>
              </a:path>
              <a:path w="14041" h="2358">
                <a:moveTo>
                  <a:pt x="3894" y="8632"/>
                </a:moveTo>
                <a:cubicBezTo>
                  <a:pt x="3872" y="8670"/>
                  <a:pt x="3875" y="8771"/>
                  <a:pt x="3894" y="8731"/>
                </a:cubicBezTo>
                <a:cubicBezTo>
                  <a:pt x="3911" y="8696"/>
                  <a:pt x="3921" y="8706"/>
                  <a:pt x="3969" y="8706"/>
                </a:cubicBezTo>
                <a:cubicBezTo>
                  <a:pt x="4112" y="8706"/>
                  <a:pt x="4103" y="8722"/>
                  <a:pt x="4192" y="8781"/>
                </a:cubicBezTo>
                <a:cubicBezTo>
                  <a:pt x="4231" y="8807"/>
                  <a:pt x="4262" y="8883"/>
                  <a:pt x="4242" y="8930"/>
                </a:cubicBezTo>
                <a:cubicBezTo>
                  <a:pt x="4216" y="8993"/>
                  <a:pt x="4172" y="9005"/>
                  <a:pt x="4118" y="9029"/>
                </a:cubicBezTo>
                <a:cubicBezTo>
                  <a:pt x="4080" y="9046"/>
                  <a:pt x="3926" y="9122"/>
                  <a:pt x="3870" y="9079"/>
                </a:cubicBezTo>
                <a:cubicBezTo>
                  <a:pt x="3835" y="9052"/>
                  <a:pt x="3845" y="8990"/>
                  <a:pt x="3845" y="8954"/>
                </a:cubicBezTo>
              </a:path>
              <a:path w="14041" h="2358">
                <a:moveTo>
                  <a:pt x="4539" y="8012"/>
                </a:moveTo>
                <a:cubicBezTo>
                  <a:pt x="4622" y="8012"/>
                  <a:pt x="4704" y="8012"/>
                  <a:pt x="4787" y="8012"/>
                </a:cubicBezTo>
              </a:path>
              <a:path w="14041" h="2358">
                <a:moveTo>
                  <a:pt x="4490" y="8186"/>
                </a:moveTo>
                <a:cubicBezTo>
                  <a:pt x="4589" y="8212"/>
                  <a:pt x="4616" y="8214"/>
                  <a:pt x="4713" y="8186"/>
                </a:cubicBezTo>
              </a:path>
              <a:path w="14041" h="2358">
                <a:moveTo>
                  <a:pt x="5507" y="6772"/>
                </a:moveTo>
                <a:cubicBezTo>
                  <a:pt x="5530" y="6873"/>
                  <a:pt x="5531" y="6965"/>
                  <a:pt x="5531" y="7069"/>
                </a:cubicBezTo>
                <a:cubicBezTo>
                  <a:pt x="5531" y="7142"/>
                  <a:pt x="5541" y="7496"/>
                  <a:pt x="5556" y="7466"/>
                </a:cubicBezTo>
                <a:cubicBezTo>
                  <a:pt x="5556" y="7458"/>
                  <a:pt x="5556" y="7449"/>
                  <a:pt x="5556" y="7441"/>
                </a:cubicBezTo>
              </a:path>
              <a:path w="14041" h="2358">
                <a:moveTo>
                  <a:pt x="5779" y="6846"/>
                </a:moveTo>
                <a:cubicBezTo>
                  <a:pt x="5878" y="6831"/>
                  <a:pt x="5981" y="6801"/>
                  <a:pt x="6077" y="6796"/>
                </a:cubicBezTo>
                <a:cubicBezTo>
                  <a:pt x="6116" y="6794"/>
                  <a:pt x="6173" y="6815"/>
                  <a:pt x="6176" y="6772"/>
                </a:cubicBezTo>
                <a:cubicBezTo>
                  <a:pt x="6176" y="6755"/>
                  <a:pt x="6176" y="6739"/>
                  <a:pt x="6176" y="6722"/>
                </a:cubicBezTo>
              </a:path>
              <a:path w="14041" h="2358">
                <a:moveTo>
                  <a:pt x="5755" y="6896"/>
                </a:moveTo>
                <a:cubicBezTo>
                  <a:pt x="5746" y="6930"/>
                  <a:pt x="5706" y="7027"/>
                  <a:pt x="5730" y="7069"/>
                </a:cubicBezTo>
                <a:cubicBezTo>
                  <a:pt x="5758" y="7118"/>
                  <a:pt x="5784" y="7094"/>
                  <a:pt x="5804" y="7119"/>
                </a:cubicBezTo>
                <a:cubicBezTo>
                  <a:pt x="5817" y="7135"/>
                  <a:pt x="5854" y="7157"/>
                  <a:pt x="5879" y="7119"/>
                </a:cubicBezTo>
                <a:cubicBezTo>
                  <a:pt x="5891" y="7101"/>
                  <a:pt x="5906" y="7025"/>
                  <a:pt x="5953" y="7045"/>
                </a:cubicBezTo>
                <a:cubicBezTo>
                  <a:pt x="5997" y="7064"/>
                  <a:pt x="6047" y="7101"/>
                  <a:pt x="6077" y="7144"/>
                </a:cubicBezTo>
                <a:cubicBezTo>
                  <a:pt x="6112" y="7193"/>
                  <a:pt x="6124" y="7284"/>
                  <a:pt x="6127" y="7342"/>
                </a:cubicBezTo>
                <a:cubicBezTo>
                  <a:pt x="6129" y="7370"/>
                  <a:pt x="6130" y="7481"/>
                  <a:pt x="6102" y="7491"/>
                </a:cubicBezTo>
                <a:cubicBezTo>
                  <a:pt x="6058" y="7507"/>
                  <a:pt x="6002" y="7529"/>
                  <a:pt x="5953" y="7541"/>
                </a:cubicBezTo>
                <a:cubicBezTo>
                  <a:pt x="5894" y="7556"/>
                  <a:pt x="5815" y="7541"/>
                  <a:pt x="5755" y="7541"/>
                </a:cubicBezTo>
              </a:path>
              <a:path w="14041" h="2358">
                <a:moveTo>
                  <a:pt x="5259" y="7665"/>
                </a:moveTo>
                <a:cubicBezTo>
                  <a:pt x="5395" y="7687"/>
                  <a:pt x="5517" y="7689"/>
                  <a:pt x="5655" y="7689"/>
                </a:cubicBezTo>
                <a:cubicBezTo>
                  <a:pt x="5840" y="7689"/>
                  <a:pt x="6018" y="7693"/>
                  <a:pt x="6201" y="7714"/>
                </a:cubicBezTo>
                <a:cubicBezTo>
                  <a:pt x="6240" y="7719"/>
                  <a:pt x="6207" y="7716"/>
                  <a:pt x="6176" y="7739"/>
                </a:cubicBezTo>
              </a:path>
              <a:path w="14041" h="2358">
                <a:moveTo>
                  <a:pt x="5358" y="8037"/>
                </a:moveTo>
                <a:cubicBezTo>
                  <a:pt x="5422" y="8000"/>
                  <a:pt x="5464" y="7984"/>
                  <a:pt x="5531" y="7962"/>
                </a:cubicBezTo>
                <a:cubicBezTo>
                  <a:pt x="5602" y="7939"/>
                  <a:pt x="5654" y="7938"/>
                  <a:pt x="5730" y="7938"/>
                </a:cubicBezTo>
                <a:cubicBezTo>
                  <a:pt x="5778" y="7938"/>
                  <a:pt x="5828" y="7971"/>
                  <a:pt x="5854" y="8012"/>
                </a:cubicBezTo>
                <a:cubicBezTo>
                  <a:pt x="5901" y="8085"/>
                  <a:pt x="5867" y="8123"/>
                  <a:pt x="5854" y="8186"/>
                </a:cubicBezTo>
                <a:cubicBezTo>
                  <a:pt x="5833" y="8288"/>
                  <a:pt x="5766" y="8288"/>
                  <a:pt x="5705" y="8359"/>
                </a:cubicBezTo>
                <a:cubicBezTo>
                  <a:pt x="5653" y="8419"/>
                  <a:pt x="5592" y="8446"/>
                  <a:pt x="5531" y="8508"/>
                </a:cubicBezTo>
                <a:cubicBezTo>
                  <a:pt x="5475" y="8565"/>
                  <a:pt x="5461" y="8543"/>
                  <a:pt x="5407" y="8582"/>
                </a:cubicBezTo>
                <a:cubicBezTo>
                  <a:pt x="5535" y="8582"/>
                  <a:pt x="5617" y="8599"/>
                  <a:pt x="5730" y="8632"/>
                </a:cubicBezTo>
                <a:cubicBezTo>
                  <a:pt x="5842" y="8664"/>
                  <a:pt x="6008" y="8632"/>
                  <a:pt x="6127" y="8632"/>
                </a:cubicBezTo>
              </a:path>
              <a:path w="14041" h="2358">
                <a:moveTo>
                  <a:pt x="6747" y="7069"/>
                </a:moveTo>
                <a:cubicBezTo>
                  <a:pt x="6683" y="7133"/>
                  <a:pt x="6630" y="7207"/>
                  <a:pt x="6598" y="7293"/>
                </a:cubicBezTo>
                <a:cubicBezTo>
                  <a:pt x="6548" y="7427"/>
                  <a:pt x="6474" y="7599"/>
                  <a:pt x="6449" y="7739"/>
                </a:cubicBezTo>
                <a:cubicBezTo>
                  <a:pt x="6425" y="7870"/>
                  <a:pt x="6435" y="7984"/>
                  <a:pt x="6449" y="8111"/>
                </a:cubicBezTo>
                <a:cubicBezTo>
                  <a:pt x="6459" y="8201"/>
                  <a:pt x="6462" y="8264"/>
                  <a:pt x="6524" y="8334"/>
                </a:cubicBezTo>
                <a:cubicBezTo>
                  <a:pt x="6587" y="8405"/>
                  <a:pt x="6579" y="8442"/>
                  <a:pt x="6648" y="8359"/>
                </a:cubicBezTo>
              </a:path>
              <a:path w="14041" h="2358">
                <a:moveTo>
                  <a:pt x="6945" y="7516"/>
                </a:moveTo>
                <a:cubicBezTo>
                  <a:pt x="6972" y="7480"/>
                  <a:pt x="6970" y="7447"/>
                  <a:pt x="7020" y="7441"/>
                </a:cubicBezTo>
                <a:cubicBezTo>
                  <a:pt x="7064" y="7436"/>
                  <a:pt x="7091" y="7417"/>
                  <a:pt x="7144" y="7417"/>
                </a:cubicBezTo>
                <a:cubicBezTo>
                  <a:pt x="7205" y="7417"/>
                  <a:pt x="7294" y="7396"/>
                  <a:pt x="7342" y="7441"/>
                </a:cubicBezTo>
                <a:cubicBezTo>
                  <a:pt x="7443" y="7535"/>
                  <a:pt x="7489" y="7702"/>
                  <a:pt x="7466" y="7838"/>
                </a:cubicBezTo>
                <a:cubicBezTo>
                  <a:pt x="7450" y="7934"/>
                  <a:pt x="7397" y="8032"/>
                  <a:pt x="7342" y="8111"/>
                </a:cubicBezTo>
                <a:cubicBezTo>
                  <a:pt x="7283" y="8197"/>
                  <a:pt x="7244" y="8228"/>
                  <a:pt x="7144" y="8235"/>
                </a:cubicBezTo>
                <a:cubicBezTo>
                  <a:pt x="7094" y="8238"/>
                  <a:pt x="7028" y="8229"/>
                  <a:pt x="6995" y="8186"/>
                </a:cubicBezTo>
                <a:cubicBezTo>
                  <a:pt x="6958" y="8139"/>
                  <a:pt x="6986" y="8106"/>
                  <a:pt x="6995" y="8062"/>
                </a:cubicBezTo>
                <a:cubicBezTo>
                  <a:pt x="7010" y="7989"/>
                  <a:pt x="7014" y="7951"/>
                  <a:pt x="7094" y="7938"/>
                </a:cubicBezTo>
                <a:cubicBezTo>
                  <a:pt x="7146" y="7929"/>
                  <a:pt x="7181" y="7954"/>
                  <a:pt x="7218" y="7987"/>
                </a:cubicBezTo>
                <a:cubicBezTo>
                  <a:pt x="7271" y="8035"/>
                  <a:pt x="7307" y="8045"/>
                  <a:pt x="7342" y="8111"/>
                </a:cubicBezTo>
                <a:cubicBezTo>
                  <a:pt x="7364" y="8152"/>
                  <a:pt x="7368" y="8213"/>
                  <a:pt x="7417" y="8235"/>
                </a:cubicBezTo>
                <a:cubicBezTo>
                  <a:pt x="7456" y="8253"/>
                  <a:pt x="7477" y="8278"/>
                  <a:pt x="7491" y="8235"/>
                </a:cubicBezTo>
              </a:path>
              <a:path w="14041" h="2358">
                <a:moveTo>
                  <a:pt x="7789" y="7516"/>
                </a:moveTo>
                <a:cubicBezTo>
                  <a:pt x="7876" y="7492"/>
                  <a:pt x="7948" y="7472"/>
                  <a:pt x="8037" y="7466"/>
                </a:cubicBezTo>
                <a:cubicBezTo>
                  <a:pt x="8073" y="7464"/>
                  <a:pt x="8101" y="7448"/>
                  <a:pt x="8136" y="7441"/>
                </a:cubicBezTo>
              </a:path>
              <a:path w="14041" h="2358">
                <a:moveTo>
                  <a:pt x="7789" y="7491"/>
                </a:moveTo>
                <a:cubicBezTo>
                  <a:pt x="7733" y="7562"/>
                  <a:pt x="7662" y="7627"/>
                  <a:pt x="7640" y="7714"/>
                </a:cubicBezTo>
                <a:cubicBezTo>
                  <a:pt x="7630" y="7755"/>
                  <a:pt x="7640" y="7785"/>
                  <a:pt x="7665" y="7813"/>
                </a:cubicBezTo>
                <a:cubicBezTo>
                  <a:pt x="7695" y="7847"/>
                  <a:pt x="7732" y="7817"/>
                  <a:pt x="7764" y="7789"/>
                </a:cubicBezTo>
                <a:cubicBezTo>
                  <a:pt x="7817" y="7742"/>
                  <a:pt x="7814" y="7739"/>
                  <a:pt x="7888" y="7739"/>
                </a:cubicBezTo>
                <a:cubicBezTo>
                  <a:pt x="7924" y="7739"/>
                  <a:pt x="7990" y="7782"/>
                  <a:pt x="8012" y="7813"/>
                </a:cubicBezTo>
                <a:cubicBezTo>
                  <a:pt x="8072" y="7897"/>
                  <a:pt x="8118" y="7980"/>
                  <a:pt x="8136" y="8086"/>
                </a:cubicBezTo>
                <a:cubicBezTo>
                  <a:pt x="8145" y="8140"/>
                  <a:pt x="8107" y="8228"/>
                  <a:pt x="8062" y="8260"/>
                </a:cubicBezTo>
                <a:cubicBezTo>
                  <a:pt x="7999" y="8305"/>
                  <a:pt x="7965" y="8310"/>
                  <a:pt x="7888" y="8310"/>
                </a:cubicBezTo>
                <a:cubicBezTo>
                  <a:pt x="7819" y="8310"/>
                  <a:pt x="7749" y="8325"/>
                  <a:pt x="7689" y="8285"/>
                </a:cubicBezTo>
                <a:cubicBezTo>
                  <a:pt x="7653" y="8261"/>
                  <a:pt x="7654" y="8210"/>
                  <a:pt x="7689" y="8186"/>
                </a:cubicBezTo>
                <a:cubicBezTo>
                  <a:pt x="7706" y="8178"/>
                  <a:pt x="7722" y="8169"/>
                  <a:pt x="7739" y="8161"/>
                </a:cubicBezTo>
              </a:path>
              <a:path w="14041" h="2358">
                <a:moveTo>
                  <a:pt x="8607" y="7590"/>
                </a:moveTo>
                <a:cubicBezTo>
                  <a:pt x="8601" y="7734"/>
                  <a:pt x="8582" y="7847"/>
                  <a:pt x="8582" y="7987"/>
                </a:cubicBezTo>
                <a:cubicBezTo>
                  <a:pt x="8582" y="8061"/>
                  <a:pt x="8582" y="8136"/>
                  <a:pt x="8582" y="8210"/>
                </a:cubicBezTo>
              </a:path>
              <a:path w="14041" h="2358">
                <a:moveTo>
                  <a:pt x="8384" y="7913"/>
                </a:moveTo>
                <a:cubicBezTo>
                  <a:pt x="8494" y="7897"/>
                  <a:pt x="8623" y="7909"/>
                  <a:pt x="8731" y="7888"/>
                </a:cubicBezTo>
                <a:cubicBezTo>
                  <a:pt x="8756" y="7880"/>
                  <a:pt x="8781" y="7871"/>
                  <a:pt x="8806" y="7863"/>
                </a:cubicBezTo>
              </a:path>
              <a:path w="14041" h="2358">
                <a:moveTo>
                  <a:pt x="9128" y="7565"/>
                </a:moveTo>
                <a:cubicBezTo>
                  <a:pt x="9249" y="7585"/>
                  <a:pt x="9353" y="7590"/>
                  <a:pt x="9475" y="7590"/>
                </a:cubicBezTo>
                <a:cubicBezTo>
                  <a:pt x="9530" y="7590"/>
                  <a:pt x="9570" y="7572"/>
                  <a:pt x="9624" y="7565"/>
                </a:cubicBezTo>
              </a:path>
              <a:path w="14041" h="2358">
                <a:moveTo>
                  <a:pt x="9178" y="7541"/>
                </a:moveTo>
                <a:cubicBezTo>
                  <a:pt x="9098" y="7609"/>
                  <a:pt x="9037" y="7638"/>
                  <a:pt x="9029" y="7739"/>
                </a:cubicBezTo>
                <a:cubicBezTo>
                  <a:pt x="9025" y="7790"/>
                  <a:pt x="9027" y="7793"/>
                  <a:pt x="9054" y="7813"/>
                </a:cubicBezTo>
                <a:cubicBezTo>
                  <a:pt x="9099" y="7847"/>
                  <a:pt x="9104" y="7833"/>
                  <a:pt x="9153" y="7813"/>
                </a:cubicBezTo>
                <a:cubicBezTo>
                  <a:pt x="9211" y="7789"/>
                  <a:pt x="9256" y="7736"/>
                  <a:pt x="9327" y="7764"/>
                </a:cubicBezTo>
                <a:cubicBezTo>
                  <a:pt x="9379" y="7784"/>
                  <a:pt x="9421" y="7811"/>
                  <a:pt x="9451" y="7863"/>
                </a:cubicBezTo>
                <a:cubicBezTo>
                  <a:pt x="9488" y="7927"/>
                  <a:pt x="9521" y="7990"/>
                  <a:pt x="9525" y="8062"/>
                </a:cubicBezTo>
                <a:cubicBezTo>
                  <a:pt x="9530" y="8153"/>
                  <a:pt x="9488" y="8206"/>
                  <a:pt x="9426" y="8235"/>
                </a:cubicBezTo>
                <a:cubicBezTo>
                  <a:pt x="9362" y="8265"/>
                  <a:pt x="9275" y="8275"/>
                  <a:pt x="9203" y="8260"/>
                </a:cubicBezTo>
                <a:cubicBezTo>
                  <a:pt x="9154" y="8250"/>
                  <a:pt x="9070" y="8210"/>
                  <a:pt x="9054" y="8186"/>
                </a:cubicBezTo>
                <a:cubicBezTo>
                  <a:pt x="9063" y="8149"/>
                  <a:pt x="9082" y="8124"/>
                  <a:pt x="9103" y="8086"/>
                </a:cubicBezTo>
              </a:path>
              <a:path w="14041" h="2358">
                <a:moveTo>
                  <a:pt x="9798" y="7491"/>
                </a:moveTo>
                <a:cubicBezTo>
                  <a:pt x="9943" y="7434"/>
                  <a:pt x="9993" y="7378"/>
                  <a:pt x="10120" y="7466"/>
                </a:cubicBezTo>
                <a:cubicBezTo>
                  <a:pt x="10162" y="7496"/>
                  <a:pt x="10185" y="7565"/>
                  <a:pt x="10170" y="7615"/>
                </a:cubicBezTo>
                <a:cubicBezTo>
                  <a:pt x="10146" y="7698"/>
                  <a:pt x="10105" y="7716"/>
                  <a:pt x="10046" y="7764"/>
                </a:cubicBezTo>
                <a:cubicBezTo>
                  <a:pt x="9985" y="7813"/>
                  <a:pt x="9966" y="7810"/>
                  <a:pt x="9897" y="7838"/>
                </a:cubicBezTo>
                <a:cubicBezTo>
                  <a:pt x="9853" y="7855"/>
                  <a:pt x="9811" y="7894"/>
                  <a:pt x="9847" y="7838"/>
                </a:cubicBezTo>
                <a:cubicBezTo>
                  <a:pt x="9921" y="7838"/>
                  <a:pt x="10033" y="7814"/>
                  <a:pt x="10096" y="7863"/>
                </a:cubicBezTo>
                <a:cubicBezTo>
                  <a:pt x="10170" y="7921"/>
                  <a:pt x="10269" y="8008"/>
                  <a:pt x="10269" y="8111"/>
                </a:cubicBezTo>
                <a:cubicBezTo>
                  <a:pt x="10269" y="8183"/>
                  <a:pt x="10229" y="8229"/>
                  <a:pt x="10170" y="8260"/>
                </a:cubicBezTo>
                <a:cubicBezTo>
                  <a:pt x="10099" y="8297"/>
                  <a:pt x="10007" y="8334"/>
                  <a:pt x="9922" y="8310"/>
                </a:cubicBezTo>
                <a:cubicBezTo>
                  <a:pt x="9886" y="8300"/>
                  <a:pt x="9768" y="8275"/>
                  <a:pt x="9748" y="8235"/>
                </a:cubicBezTo>
                <a:cubicBezTo>
                  <a:pt x="9748" y="8186"/>
                  <a:pt x="9748" y="8169"/>
                  <a:pt x="9748" y="8136"/>
                </a:cubicBezTo>
              </a:path>
              <a:path w="14041" h="2358">
                <a:moveTo>
                  <a:pt x="10269" y="6846"/>
                </a:moveTo>
                <a:cubicBezTo>
                  <a:pt x="10473" y="6999"/>
                  <a:pt x="10550" y="7090"/>
                  <a:pt x="10666" y="7317"/>
                </a:cubicBezTo>
                <a:cubicBezTo>
                  <a:pt x="10751" y="7485"/>
                  <a:pt x="10832" y="7644"/>
                  <a:pt x="10815" y="7838"/>
                </a:cubicBezTo>
                <a:cubicBezTo>
                  <a:pt x="10802" y="7979"/>
                  <a:pt x="10717" y="8160"/>
                  <a:pt x="10616" y="8260"/>
                </a:cubicBezTo>
                <a:cubicBezTo>
                  <a:pt x="10493" y="8383"/>
                  <a:pt x="10334" y="8528"/>
                  <a:pt x="10195" y="8632"/>
                </a:cubicBezTo>
                <a:cubicBezTo>
                  <a:pt x="10154" y="8657"/>
                  <a:pt x="10112" y="8681"/>
                  <a:pt x="10071" y="8706"/>
                </a:cubicBezTo>
              </a:path>
              <a:path w="14041" h="2358">
                <a:moveTo>
                  <a:pt x="11212" y="7913"/>
                </a:moveTo>
                <a:cubicBezTo>
                  <a:pt x="11257" y="7913"/>
                  <a:pt x="11271" y="7935"/>
                  <a:pt x="11311" y="7938"/>
                </a:cubicBezTo>
                <a:cubicBezTo>
                  <a:pt x="11352" y="7938"/>
                  <a:pt x="11360" y="7938"/>
                  <a:pt x="11385" y="7938"/>
                </a:cubicBezTo>
              </a:path>
              <a:path w="14041" h="2358">
                <a:moveTo>
                  <a:pt x="11162" y="7665"/>
                </a:moveTo>
                <a:cubicBezTo>
                  <a:pt x="11286" y="7665"/>
                  <a:pt x="11410" y="7665"/>
                  <a:pt x="11534" y="7665"/>
                </a:cubicBezTo>
              </a:path>
              <a:path w="14041" h="2358">
                <a:moveTo>
                  <a:pt x="11956" y="7293"/>
                </a:moveTo>
                <a:cubicBezTo>
                  <a:pt x="12065" y="7305"/>
                  <a:pt x="12126" y="7293"/>
                  <a:pt x="12229" y="7293"/>
                </a:cubicBezTo>
                <a:cubicBezTo>
                  <a:pt x="12254" y="7293"/>
                  <a:pt x="12262" y="7293"/>
                  <a:pt x="12278" y="7293"/>
                </a:cubicBezTo>
              </a:path>
              <a:path w="14041" h="2358">
                <a:moveTo>
                  <a:pt x="11881" y="7367"/>
                </a:moveTo>
                <a:cubicBezTo>
                  <a:pt x="11852" y="7444"/>
                  <a:pt x="11846" y="7564"/>
                  <a:pt x="11832" y="7615"/>
                </a:cubicBezTo>
                <a:cubicBezTo>
                  <a:pt x="11823" y="7648"/>
                  <a:pt x="11793" y="7670"/>
                  <a:pt x="11832" y="7689"/>
                </a:cubicBezTo>
                <a:cubicBezTo>
                  <a:pt x="11840" y="7689"/>
                  <a:pt x="11849" y="7689"/>
                  <a:pt x="11857" y="7689"/>
                </a:cubicBezTo>
                <a:cubicBezTo>
                  <a:pt x="11860" y="7680"/>
                  <a:pt x="11911" y="7625"/>
                  <a:pt x="11931" y="7615"/>
                </a:cubicBezTo>
                <a:cubicBezTo>
                  <a:pt x="11963" y="7599"/>
                  <a:pt x="11990" y="7590"/>
                  <a:pt x="12030" y="7590"/>
                </a:cubicBezTo>
                <a:cubicBezTo>
                  <a:pt x="12082" y="7590"/>
                  <a:pt x="12112" y="7602"/>
                  <a:pt x="12154" y="7615"/>
                </a:cubicBezTo>
                <a:cubicBezTo>
                  <a:pt x="12202" y="7629"/>
                  <a:pt x="12227" y="7668"/>
                  <a:pt x="12254" y="7714"/>
                </a:cubicBezTo>
                <a:cubicBezTo>
                  <a:pt x="12278" y="7754"/>
                  <a:pt x="12336" y="7840"/>
                  <a:pt x="12328" y="7888"/>
                </a:cubicBezTo>
                <a:cubicBezTo>
                  <a:pt x="12318" y="7947"/>
                  <a:pt x="12284" y="8047"/>
                  <a:pt x="12229" y="8086"/>
                </a:cubicBezTo>
                <a:cubicBezTo>
                  <a:pt x="12188" y="8115"/>
                  <a:pt x="12105" y="8152"/>
                  <a:pt x="12055" y="8161"/>
                </a:cubicBezTo>
                <a:cubicBezTo>
                  <a:pt x="11981" y="8174"/>
                  <a:pt x="11893" y="8154"/>
                  <a:pt x="11857" y="8136"/>
                </a:cubicBezTo>
                <a:cubicBezTo>
                  <a:pt x="11829" y="8136"/>
                  <a:pt x="11823" y="8134"/>
                  <a:pt x="11857" y="8111"/>
                </a:cubicBezTo>
              </a:path>
              <a:path w="14041" h="2358">
                <a:moveTo>
                  <a:pt x="12750" y="7392"/>
                </a:moveTo>
                <a:cubicBezTo>
                  <a:pt x="12663" y="7392"/>
                  <a:pt x="12636" y="7382"/>
                  <a:pt x="12576" y="7441"/>
                </a:cubicBezTo>
                <a:cubicBezTo>
                  <a:pt x="12544" y="7473"/>
                  <a:pt x="12507" y="7497"/>
                  <a:pt x="12502" y="7541"/>
                </a:cubicBezTo>
                <a:cubicBezTo>
                  <a:pt x="12498" y="7580"/>
                  <a:pt x="12547" y="7688"/>
                  <a:pt x="12576" y="7714"/>
                </a:cubicBezTo>
                <a:cubicBezTo>
                  <a:pt x="12639" y="7772"/>
                  <a:pt x="12718" y="7827"/>
                  <a:pt x="12750" y="7913"/>
                </a:cubicBezTo>
                <a:cubicBezTo>
                  <a:pt x="12768" y="7960"/>
                  <a:pt x="12789" y="8060"/>
                  <a:pt x="12774" y="8111"/>
                </a:cubicBezTo>
                <a:cubicBezTo>
                  <a:pt x="12760" y="8159"/>
                  <a:pt x="12724" y="8205"/>
                  <a:pt x="12675" y="8210"/>
                </a:cubicBezTo>
                <a:cubicBezTo>
                  <a:pt x="12611" y="8217"/>
                  <a:pt x="12594" y="8204"/>
                  <a:pt x="12551" y="8161"/>
                </a:cubicBezTo>
                <a:cubicBezTo>
                  <a:pt x="12523" y="8133"/>
                  <a:pt x="12492" y="8079"/>
                  <a:pt x="12502" y="8037"/>
                </a:cubicBezTo>
                <a:cubicBezTo>
                  <a:pt x="12513" y="7987"/>
                  <a:pt x="12567" y="7901"/>
                  <a:pt x="12601" y="7863"/>
                </a:cubicBezTo>
                <a:cubicBezTo>
                  <a:pt x="12687" y="7766"/>
                  <a:pt x="12786" y="7678"/>
                  <a:pt x="12849" y="7565"/>
                </a:cubicBezTo>
                <a:cubicBezTo>
                  <a:pt x="12873" y="7522"/>
                  <a:pt x="12929" y="7483"/>
                  <a:pt x="12948" y="7441"/>
                </a:cubicBezTo>
                <a:cubicBezTo>
                  <a:pt x="12948" y="7433"/>
                  <a:pt x="12948" y="7425"/>
                  <a:pt x="12948" y="7417"/>
                </a:cubicBezTo>
              </a:path>
              <a:path w="14041" h="2358">
                <a:moveTo>
                  <a:pt x="13221" y="7441"/>
                </a:moveTo>
                <a:cubicBezTo>
                  <a:pt x="13305" y="7441"/>
                  <a:pt x="13367" y="7429"/>
                  <a:pt x="13444" y="7417"/>
                </a:cubicBezTo>
                <a:cubicBezTo>
                  <a:pt x="13498" y="7408"/>
                  <a:pt x="13563" y="7417"/>
                  <a:pt x="13618" y="7417"/>
                </a:cubicBezTo>
              </a:path>
              <a:path w="14041" h="2358">
                <a:moveTo>
                  <a:pt x="13221" y="7392"/>
                </a:moveTo>
                <a:cubicBezTo>
                  <a:pt x="13062" y="7514"/>
                  <a:pt x="13157" y="7446"/>
                  <a:pt x="13097" y="7565"/>
                </a:cubicBezTo>
                <a:cubicBezTo>
                  <a:pt x="13076" y="7607"/>
                  <a:pt x="13072" y="7614"/>
                  <a:pt x="13072" y="7665"/>
                </a:cubicBezTo>
                <a:cubicBezTo>
                  <a:pt x="13072" y="7673"/>
                  <a:pt x="13072" y="7681"/>
                  <a:pt x="13072" y="7689"/>
                </a:cubicBezTo>
                <a:cubicBezTo>
                  <a:pt x="13129" y="7717"/>
                  <a:pt x="13114" y="7683"/>
                  <a:pt x="13171" y="7665"/>
                </a:cubicBezTo>
                <a:cubicBezTo>
                  <a:pt x="13187" y="7660"/>
                  <a:pt x="13260" y="7614"/>
                  <a:pt x="13271" y="7615"/>
                </a:cubicBezTo>
                <a:cubicBezTo>
                  <a:pt x="13339" y="7622"/>
                  <a:pt x="13375" y="7645"/>
                  <a:pt x="13419" y="7689"/>
                </a:cubicBezTo>
                <a:cubicBezTo>
                  <a:pt x="13460" y="7730"/>
                  <a:pt x="13506" y="7779"/>
                  <a:pt x="13519" y="7838"/>
                </a:cubicBezTo>
                <a:cubicBezTo>
                  <a:pt x="13538" y="7921"/>
                  <a:pt x="13532" y="7957"/>
                  <a:pt x="13519" y="8037"/>
                </a:cubicBezTo>
                <a:cubicBezTo>
                  <a:pt x="13510" y="8093"/>
                  <a:pt x="13492" y="8169"/>
                  <a:pt x="13444" y="8210"/>
                </a:cubicBezTo>
                <a:cubicBezTo>
                  <a:pt x="13404" y="8244"/>
                  <a:pt x="13320" y="8257"/>
                  <a:pt x="13271" y="8260"/>
                </a:cubicBezTo>
                <a:cubicBezTo>
                  <a:pt x="13189" y="8265"/>
                  <a:pt x="13111" y="8233"/>
                  <a:pt x="13047" y="8186"/>
                </a:cubicBezTo>
                <a:cubicBezTo>
                  <a:pt x="13001" y="8152"/>
                  <a:pt x="13044" y="8139"/>
                  <a:pt x="13072" y="8111"/>
                </a:cubicBezTo>
              </a:path>
              <a:path w="14041" h="2358">
                <a:moveTo>
                  <a:pt x="14560" y="7615"/>
                </a:moveTo>
                <a:cubicBezTo>
                  <a:pt x="14554" y="7589"/>
                  <a:pt x="14540" y="7530"/>
                  <a:pt x="14511" y="7516"/>
                </a:cubicBezTo>
                <a:cubicBezTo>
                  <a:pt x="14465" y="7493"/>
                  <a:pt x="14394" y="7531"/>
                  <a:pt x="14362" y="7541"/>
                </a:cubicBezTo>
                <a:cubicBezTo>
                  <a:pt x="14309" y="7557"/>
                  <a:pt x="14259" y="7580"/>
                  <a:pt x="14213" y="7615"/>
                </a:cubicBezTo>
                <a:cubicBezTo>
                  <a:pt x="14159" y="7655"/>
                  <a:pt x="14200" y="7675"/>
                  <a:pt x="14213" y="7714"/>
                </a:cubicBezTo>
                <a:cubicBezTo>
                  <a:pt x="14231" y="7768"/>
                  <a:pt x="14377" y="7850"/>
                  <a:pt x="14412" y="7888"/>
                </a:cubicBezTo>
                <a:cubicBezTo>
                  <a:pt x="14436" y="7914"/>
                  <a:pt x="14496" y="8027"/>
                  <a:pt x="14486" y="8062"/>
                </a:cubicBezTo>
                <a:cubicBezTo>
                  <a:pt x="14474" y="8107"/>
                  <a:pt x="14432" y="8158"/>
                  <a:pt x="14387" y="8161"/>
                </a:cubicBezTo>
                <a:cubicBezTo>
                  <a:pt x="14300" y="8167"/>
                  <a:pt x="14274" y="8181"/>
                  <a:pt x="14188" y="8161"/>
                </a:cubicBezTo>
                <a:cubicBezTo>
                  <a:pt x="14152" y="8153"/>
                  <a:pt x="14085" y="8172"/>
                  <a:pt x="14089" y="8136"/>
                </a:cubicBezTo>
                <a:cubicBezTo>
                  <a:pt x="14097" y="8119"/>
                  <a:pt x="14106" y="8103"/>
                  <a:pt x="14114" y="8086"/>
                </a:cubicBezTo>
              </a:path>
              <a:path w="14041" h="2358">
                <a:moveTo>
                  <a:pt x="14436" y="7938"/>
                </a:moveTo>
                <a:cubicBezTo>
                  <a:pt x="14509" y="7918"/>
                  <a:pt x="14588" y="7900"/>
                  <a:pt x="14660" y="7888"/>
                </a:cubicBezTo>
                <a:cubicBezTo>
                  <a:pt x="14733" y="7876"/>
                  <a:pt x="14787" y="7829"/>
                  <a:pt x="14858" y="7813"/>
                </a:cubicBezTo>
                <a:cubicBezTo>
                  <a:pt x="14940" y="7795"/>
                  <a:pt x="14937" y="7786"/>
                  <a:pt x="14957" y="7689"/>
                </a:cubicBezTo>
                <a:cubicBezTo>
                  <a:pt x="14963" y="7660"/>
                  <a:pt x="14911" y="7643"/>
                  <a:pt x="14883" y="7640"/>
                </a:cubicBezTo>
                <a:cubicBezTo>
                  <a:pt x="14813" y="7632"/>
                  <a:pt x="14789" y="7656"/>
                  <a:pt x="14734" y="7689"/>
                </a:cubicBezTo>
                <a:cubicBezTo>
                  <a:pt x="14679" y="7721"/>
                  <a:pt x="14601" y="7784"/>
                  <a:pt x="14560" y="7838"/>
                </a:cubicBezTo>
                <a:cubicBezTo>
                  <a:pt x="14527" y="7881"/>
                  <a:pt x="14514" y="7961"/>
                  <a:pt x="14511" y="8012"/>
                </a:cubicBezTo>
                <a:cubicBezTo>
                  <a:pt x="14508" y="8068"/>
                  <a:pt x="14502" y="8118"/>
                  <a:pt x="14536" y="8161"/>
                </a:cubicBezTo>
                <a:cubicBezTo>
                  <a:pt x="14576" y="8213"/>
                  <a:pt x="14625" y="8210"/>
                  <a:pt x="14684" y="8210"/>
                </a:cubicBezTo>
                <a:cubicBezTo>
                  <a:pt x="14743" y="8210"/>
                  <a:pt x="14769" y="8207"/>
                  <a:pt x="14808" y="8186"/>
                </a:cubicBezTo>
              </a:path>
              <a:path w="14041" h="2358">
                <a:moveTo>
                  <a:pt x="15205" y="7714"/>
                </a:moveTo>
                <a:cubicBezTo>
                  <a:pt x="15107" y="7714"/>
                  <a:pt x="15102" y="7719"/>
                  <a:pt x="15032" y="7789"/>
                </a:cubicBezTo>
                <a:cubicBezTo>
                  <a:pt x="14970" y="7851"/>
                  <a:pt x="14924" y="7909"/>
                  <a:pt x="14883" y="7987"/>
                </a:cubicBezTo>
                <a:cubicBezTo>
                  <a:pt x="14866" y="8019"/>
                  <a:pt x="14835" y="8122"/>
                  <a:pt x="14858" y="8161"/>
                </a:cubicBezTo>
                <a:cubicBezTo>
                  <a:pt x="14877" y="8193"/>
                  <a:pt x="14939" y="8233"/>
                  <a:pt x="14982" y="8210"/>
                </a:cubicBezTo>
                <a:cubicBezTo>
                  <a:pt x="15037" y="8181"/>
                  <a:pt x="15041" y="8164"/>
                  <a:pt x="15081" y="8111"/>
                </a:cubicBezTo>
                <a:cubicBezTo>
                  <a:pt x="15113" y="8069"/>
                  <a:pt x="15146" y="8016"/>
                  <a:pt x="15156" y="7962"/>
                </a:cubicBezTo>
                <a:cubicBezTo>
                  <a:pt x="15164" y="7918"/>
                  <a:pt x="15180" y="7793"/>
                  <a:pt x="15180" y="7838"/>
                </a:cubicBezTo>
                <a:cubicBezTo>
                  <a:pt x="15180" y="7846"/>
                  <a:pt x="15180" y="7855"/>
                  <a:pt x="15180" y="7863"/>
                </a:cubicBezTo>
                <a:cubicBezTo>
                  <a:pt x="15180" y="7938"/>
                  <a:pt x="15174" y="7994"/>
                  <a:pt x="15205" y="8062"/>
                </a:cubicBezTo>
                <a:cubicBezTo>
                  <a:pt x="15236" y="8130"/>
                  <a:pt x="15276" y="8166"/>
                  <a:pt x="15329" y="8210"/>
                </a:cubicBezTo>
                <a:cubicBezTo>
                  <a:pt x="15366" y="8241"/>
                  <a:pt x="15423" y="8283"/>
                  <a:pt x="15478" y="8260"/>
                </a:cubicBezTo>
                <a:cubicBezTo>
                  <a:pt x="15503" y="8235"/>
                  <a:pt x="15511" y="8227"/>
                  <a:pt x="15528" y="8210"/>
                </a:cubicBezTo>
              </a:path>
              <a:path w="14041" h="2358">
                <a:moveTo>
                  <a:pt x="15726" y="7367"/>
                </a:moveTo>
                <a:cubicBezTo>
                  <a:pt x="15721" y="7514"/>
                  <a:pt x="15701" y="7644"/>
                  <a:pt x="15701" y="7789"/>
                </a:cubicBezTo>
                <a:cubicBezTo>
                  <a:pt x="15701" y="7941"/>
                  <a:pt x="15861" y="8305"/>
                  <a:pt x="15726" y="8235"/>
                </a:cubicBezTo>
                <a:cubicBezTo>
                  <a:pt x="15698" y="8207"/>
                  <a:pt x="15689" y="8194"/>
                  <a:pt x="15701" y="8161"/>
                </a:cubicBezTo>
              </a:path>
              <a:path w="14041" h="2358">
                <a:moveTo>
                  <a:pt x="15379" y="7739"/>
                </a:moveTo>
                <a:cubicBezTo>
                  <a:pt x="15577" y="7739"/>
                  <a:pt x="15776" y="7739"/>
                  <a:pt x="15974" y="7739"/>
                </a:cubicBezTo>
              </a:path>
              <a:path w="14041" h="2358">
                <a:moveTo>
                  <a:pt x="16321" y="7640"/>
                </a:moveTo>
                <a:cubicBezTo>
                  <a:pt x="16259" y="7640"/>
                  <a:pt x="16196" y="7634"/>
                  <a:pt x="16148" y="7665"/>
                </a:cubicBezTo>
                <a:cubicBezTo>
                  <a:pt x="16126" y="7679"/>
                  <a:pt x="16060" y="7734"/>
                  <a:pt x="16073" y="7764"/>
                </a:cubicBezTo>
                <a:cubicBezTo>
                  <a:pt x="16093" y="7808"/>
                  <a:pt x="16121" y="7845"/>
                  <a:pt x="16173" y="7863"/>
                </a:cubicBezTo>
                <a:cubicBezTo>
                  <a:pt x="16197" y="7871"/>
                  <a:pt x="16300" y="7935"/>
                  <a:pt x="16321" y="7962"/>
                </a:cubicBezTo>
                <a:cubicBezTo>
                  <a:pt x="16401" y="8068"/>
                  <a:pt x="16428" y="8105"/>
                  <a:pt x="16346" y="8186"/>
                </a:cubicBezTo>
                <a:cubicBezTo>
                  <a:pt x="16288" y="8243"/>
                  <a:pt x="16215" y="8195"/>
                  <a:pt x="16148" y="8186"/>
                </a:cubicBezTo>
                <a:cubicBezTo>
                  <a:pt x="16088" y="8178"/>
                  <a:pt x="16020" y="8173"/>
                  <a:pt x="15974" y="8136"/>
                </a:cubicBezTo>
                <a:cubicBezTo>
                  <a:pt x="15940" y="8109"/>
                  <a:pt x="15891" y="8096"/>
                  <a:pt x="15850" y="808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89.  Each hour, a grandfather clock strikes the number of times corresponding to the hour of the day.  How many times does the clock strike in a day?</a:t>
            </a:r>
            <a:endParaRPr b="0" lang="en-US" sz="2400" spc="-1" strike="noStrike">
              <a:solidFill>
                <a:srgbClr val="e3ebf1"/>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a:off x="7086600" y="2971800"/>
            <a:ext cx="1592280" cy="3166920"/>
          </a:xfrm>
          <a:prstGeom prst="rect">
            <a:avLst/>
          </a:prstGeom>
          <a:ln w="0">
            <a:noFill/>
          </a:ln>
        </p:spPr>
      </p:pic>
      <p:sp>
        <p:nvSpPr>
          <p:cNvPr id="122" name=""/>
          <p:cNvSpPr/>
          <p:nvPr/>
        </p:nvSpPr>
        <p:spPr>
          <a:xfrm>
            <a:off x="741240" y="1598760"/>
            <a:ext cx="2322720" cy="1027080"/>
          </a:xfrm>
          <a:custGeom>
            <a:avLst/>
            <a:gdLst/>
            <a:ahLst/>
            <a:rect l="l" t="t" r="r" b="b"/>
            <a:pathLst>
              <a:path w="6450" h="2854">
                <a:moveTo>
                  <a:pt x="3795" y="5110"/>
                </a:moveTo>
                <a:cubicBezTo>
                  <a:pt x="3795" y="5391"/>
                  <a:pt x="3943" y="6149"/>
                  <a:pt x="3770" y="5928"/>
                </a:cubicBezTo>
                <a:cubicBezTo>
                  <a:pt x="3770" y="5920"/>
                  <a:pt x="3770" y="5912"/>
                  <a:pt x="3770" y="5904"/>
                </a:cubicBezTo>
              </a:path>
              <a:path w="6450" h="2854">
                <a:moveTo>
                  <a:pt x="4043" y="5184"/>
                </a:moveTo>
                <a:cubicBezTo>
                  <a:pt x="4056" y="5146"/>
                  <a:pt x="4065" y="5156"/>
                  <a:pt x="4093" y="5135"/>
                </a:cubicBezTo>
                <a:cubicBezTo>
                  <a:pt x="4125" y="5111"/>
                  <a:pt x="4163" y="5105"/>
                  <a:pt x="4192" y="5085"/>
                </a:cubicBezTo>
                <a:cubicBezTo>
                  <a:pt x="4237" y="5055"/>
                  <a:pt x="4272" y="5056"/>
                  <a:pt x="4316" y="5085"/>
                </a:cubicBezTo>
                <a:cubicBezTo>
                  <a:pt x="4369" y="5121"/>
                  <a:pt x="4366" y="5150"/>
                  <a:pt x="4366" y="5209"/>
                </a:cubicBezTo>
                <a:cubicBezTo>
                  <a:pt x="4366" y="5288"/>
                  <a:pt x="4319" y="5336"/>
                  <a:pt x="4291" y="5407"/>
                </a:cubicBezTo>
                <a:cubicBezTo>
                  <a:pt x="4257" y="5492"/>
                  <a:pt x="4218" y="5583"/>
                  <a:pt x="4167" y="5655"/>
                </a:cubicBezTo>
                <a:cubicBezTo>
                  <a:pt x="4114" y="5730"/>
                  <a:pt x="4056" y="5811"/>
                  <a:pt x="3994" y="5879"/>
                </a:cubicBezTo>
                <a:cubicBezTo>
                  <a:pt x="3970" y="5905"/>
                  <a:pt x="3905" y="5962"/>
                  <a:pt x="3894" y="5978"/>
                </a:cubicBezTo>
                <a:cubicBezTo>
                  <a:pt x="3894" y="5986"/>
                  <a:pt x="3894" y="5995"/>
                  <a:pt x="3894" y="6003"/>
                </a:cubicBezTo>
                <a:cubicBezTo>
                  <a:pt x="3918" y="5995"/>
                  <a:pt x="3942" y="5971"/>
                  <a:pt x="3969" y="5953"/>
                </a:cubicBezTo>
                <a:cubicBezTo>
                  <a:pt x="4005" y="5929"/>
                  <a:pt x="4050" y="5909"/>
                  <a:pt x="4093" y="5904"/>
                </a:cubicBezTo>
                <a:cubicBezTo>
                  <a:pt x="4141" y="5899"/>
                  <a:pt x="4172" y="5925"/>
                  <a:pt x="4217" y="5928"/>
                </a:cubicBezTo>
                <a:cubicBezTo>
                  <a:pt x="4275" y="5932"/>
                  <a:pt x="4490" y="5928"/>
                  <a:pt x="4465" y="5928"/>
                </a:cubicBezTo>
              </a:path>
              <a:path w="6450" h="2854">
                <a:moveTo>
                  <a:pt x="3448" y="6127"/>
                </a:moveTo>
                <a:cubicBezTo>
                  <a:pt x="3495" y="6127"/>
                  <a:pt x="3527" y="6149"/>
                  <a:pt x="3572" y="6152"/>
                </a:cubicBezTo>
                <a:cubicBezTo>
                  <a:pt x="3736" y="6163"/>
                  <a:pt x="3911" y="6118"/>
                  <a:pt x="4068" y="6127"/>
                </a:cubicBezTo>
                <a:cubicBezTo>
                  <a:pt x="4184" y="6133"/>
                  <a:pt x="4296" y="6152"/>
                  <a:pt x="4415" y="6152"/>
                </a:cubicBezTo>
                <a:cubicBezTo>
                  <a:pt x="4429" y="6152"/>
                  <a:pt x="4582" y="6152"/>
                  <a:pt x="4514" y="6152"/>
                </a:cubicBezTo>
                <a:cubicBezTo>
                  <a:pt x="4506" y="6152"/>
                  <a:pt x="4498" y="6152"/>
                  <a:pt x="4490" y="6152"/>
                </a:cubicBezTo>
              </a:path>
              <a:path w="6450" h="2854">
                <a:moveTo>
                  <a:pt x="3621" y="6424"/>
                </a:moveTo>
                <a:cubicBezTo>
                  <a:pt x="3661" y="6414"/>
                  <a:pt x="3685" y="6387"/>
                  <a:pt x="3721" y="6375"/>
                </a:cubicBezTo>
                <a:cubicBezTo>
                  <a:pt x="3775" y="6357"/>
                  <a:pt x="3813" y="6328"/>
                  <a:pt x="3870" y="6325"/>
                </a:cubicBezTo>
                <a:cubicBezTo>
                  <a:pt x="3921" y="6322"/>
                  <a:pt x="3958" y="6316"/>
                  <a:pt x="3994" y="6350"/>
                </a:cubicBezTo>
                <a:cubicBezTo>
                  <a:pt x="4071" y="6422"/>
                  <a:pt x="4036" y="6458"/>
                  <a:pt x="3994" y="6548"/>
                </a:cubicBezTo>
                <a:cubicBezTo>
                  <a:pt x="3962" y="6617"/>
                  <a:pt x="3932" y="6699"/>
                  <a:pt x="3870" y="6747"/>
                </a:cubicBezTo>
                <a:cubicBezTo>
                  <a:pt x="3813" y="6791"/>
                  <a:pt x="3775" y="6842"/>
                  <a:pt x="3721" y="6896"/>
                </a:cubicBezTo>
                <a:cubicBezTo>
                  <a:pt x="3695" y="6922"/>
                  <a:pt x="3613" y="6929"/>
                  <a:pt x="3646" y="6945"/>
                </a:cubicBezTo>
                <a:cubicBezTo>
                  <a:pt x="3688" y="6965"/>
                  <a:pt x="3741" y="6927"/>
                  <a:pt x="3770" y="6921"/>
                </a:cubicBezTo>
                <a:cubicBezTo>
                  <a:pt x="3841" y="6907"/>
                  <a:pt x="3925" y="6907"/>
                  <a:pt x="3994" y="6896"/>
                </a:cubicBezTo>
                <a:cubicBezTo>
                  <a:pt x="4067" y="6884"/>
                  <a:pt x="4123" y="6916"/>
                  <a:pt x="4192" y="6921"/>
                </a:cubicBezTo>
                <a:cubicBezTo>
                  <a:pt x="4228" y="6924"/>
                  <a:pt x="4256" y="6953"/>
                  <a:pt x="4291" y="6945"/>
                </a:cubicBezTo>
                <a:cubicBezTo>
                  <a:pt x="4299" y="6937"/>
                  <a:pt x="4308" y="6929"/>
                  <a:pt x="4316" y="6921"/>
                </a:cubicBezTo>
              </a:path>
              <a:path w="6450" h="2854">
                <a:moveTo>
                  <a:pt x="5011" y="5085"/>
                </a:moveTo>
                <a:cubicBezTo>
                  <a:pt x="4955" y="5180"/>
                  <a:pt x="4873" y="5303"/>
                  <a:pt x="4837" y="5407"/>
                </a:cubicBezTo>
                <a:cubicBezTo>
                  <a:pt x="4753" y="5648"/>
                  <a:pt x="4698" y="5883"/>
                  <a:pt x="4638" y="6127"/>
                </a:cubicBezTo>
                <a:cubicBezTo>
                  <a:pt x="4614" y="6225"/>
                  <a:pt x="4595" y="6348"/>
                  <a:pt x="4614" y="6449"/>
                </a:cubicBezTo>
                <a:cubicBezTo>
                  <a:pt x="4624" y="6501"/>
                  <a:pt x="4638" y="6582"/>
                  <a:pt x="4663" y="6623"/>
                </a:cubicBezTo>
                <a:cubicBezTo>
                  <a:pt x="4702" y="6686"/>
                  <a:pt x="4716" y="6658"/>
                  <a:pt x="4738" y="6648"/>
                </a:cubicBezTo>
              </a:path>
              <a:path w="6450" h="2854">
                <a:moveTo>
                  <a:pt x="5407" y="5407"/>
                </a:moveTo>
                <a:cubicBezTo>
                  <a:pt x="5407" y="5494"/>
                  <a:pt x="5393" y="5573"/>
                  <a:pt x="5383" y="5655"/>
                </a:cubicBezTo>
                <a:cubicBezTo>
                  <a:pt x="5371" y="5753"/>
                  <a:pt x="5368" y="5857"/>
                  <a:pt x="5358" y="5953"/>
                </a:cubicBezTo>
                <a:cubicBezTo>
                  <a:pt x="5347" y="6051"/>
                  <a:pt x="5359" y="6156"/>
                  <a:pt x="5333" y="6251"/>
                </a:cubicBezTo>
                <a:cubicBezTo>
                  <a:pt x="5313" y="6322"/>
                  <a:pt x="5308" y="6372"/>
                  <a:pt x="5308" y="6449"/>
                </a:cubicBezTo>
                <a:cubicBezTo>
                  <a:pt x="5308" y="6460"/>
                  <a:pt x="5308" y="6566"/>
                  <a:pt x="5308" y="6499"/>
                </a:cubicBezTo>
                <a:cubicBezTo>
                  <a:pt x="5308" y="6471"/>
                  <a:pt x="5310" y="6460"/>
                  <a:pt x="5333" y="6449"/>
                </a:cubicBezTo>
              </a:path>
              <a:path w="6450" h="2854">
                <a:moveTo>
                  <a:pt x="6152" y="5581"/>
                </a:moveTo>
                <a:cubicBezTo>
                  <a:pt x="6114" y="5656"/>
                  <a:pt x="6102" y="5696"/>
                  <a:pt x="6102" y="5779"/>
                </a:cubicBezTo>
                <a:cubicBezTo>
                  <a:pt x="6102" y="5857"/>
                  <a:pt x="6142" y="6254"/>
                  <a:pt x="6077" y="6276"/>
                </a:cubicBezTo>
              </a:path>
              <a:path w="6450" h="2854">
                <a:moveTo>
                  <a:pt x="5779" y="6003"/>
                </a:moveTo>
                <a:cubicBezTo>
                  <a:pt x="5948" y="6003"/>
                  <a:pt x="6115" y="6005"/>
                  <a:pt x="6276" y="5978"/>
                </a:cubicBezTo>
                <a:cubicBezTo>
                  <a:pt x="6292" y="5978"/>
                  <a:pt x="6309" y="5978"/>
                  <a:pt x="6325" y="5978"/>
                </a:cubicBezTo>
              </a:path>
              <a:path w="6450" h="2854">
                <a:moveTo>
                  <a:pt x="6747" y="5556"/>
                </a:moveTo>
                <a:cubicBezTo>
                  <a:pt x="6747" y="5623"/>
                  <a:pt x="6732" y="5669"/>
                  <a:pt x="6722" y="5730"/>
                </a:cubicBezTo>
                <a:cubicBezTo>
                  <a:pt x="6709" y="5807"/>
                  <a:pt x="6706" y="5901"/>
                  <a:pt x="6697" y="5978"/>
                </a:cubicBezTo>
                <a:cubicBezTo>
                  <a:pt x="6682" y="6103"/>
                  <a:pt x="6691" y="6225"/>
                  <a:pt x="6672" y="6350"/>
                </a:cubicBezTo>
                <a:cubicBezTo>
                  <a:pt x="6666" y="6392"/>
                  <a:pt x="6637" y="6489"/>
                  <a:pt x="6648" y="6449"/>
                </a:cubicBezTo>
                <a:cubicBezTo>
                  <a:pt x="6656" y="6441"/>
                  <a:pt x="6664" y="6432"/>
                  <a:pt x="6672" y="6424"/>
                </a:cubicBezTo>
              </a:path>
              <a:path w="6450" h="2854">
                <a:moveTo>
                  <a:pt x="7020" y="5779"/>
                </a:moveTo>
                <a:cubicBezTo>
                  <a:pt x="7106" y="5667"/>
                  <a:pt x="7097" y="5682"/>
                  <a:pt x="7193" y="5631"/>
                </a:cubicBezTo>
                <a:cubicBezTo>
                  <a:pt x="7234" y="5609"/>
                  <a:pt x="7318" y="5588"/>
                  <a:pt x="7367" y="5606"/>
                </a:cubicBezTo>
                <a:cubicBezTo>
                  <a:pt x="7400" y="5618"/>
                  <a:pt x="7439" y="5675"/>
                  <a:pt x="7441" y="5705"/>
                </a:cubicBezTo>
                <a:cubicBezTo>
                  <a:pt x="7446" y="5782"/>
                  <a:pt x="7408" y="5809"/>
                  <a:pt x="7392" y="5879"/>
                </a:cubicBezTo>
                <a:cubicBezTo>
                  <a:pt x="7372" y="5969"/>
                  <a:pt x="7305" y="6054"/>
                  <a:pt x="7243" y="6127"/>
                </a:cubicBezTo>
                <a:cubicBezTo>
                  <a:pt x="7186" y="6194"/>
                  <a:pt x="7124" y="6259"/>
                  <a:pt x="7069" y="6325"/>
                </a:cubicBezTo>
                <a:cubicBezTo>
                  <a:pt x="7061" y="6335"/>
                  <a:pt x="6976" y="6445"/>
                  <a:pt x="6970" y="6449"/>
                </a:cubicBezTo>
                <a:cubicBezTo>
                  <a:pt x="6945" y="6449"/>
                  <a:pt x="6937" y="6449"/>
                  <a:pt x="6945" y="6474"/>
                </a:cubicBezTo>
                <a:cubicBezTo>
                  <a:pt x="6983" y="6461"/>
                  <a:pt x="6974" y="6452"/>
                  <a:pt x="6995" y="6424"/>
                </a:cubicBezTo>
                <a:cubicBezTo>
                  <a:pt x="7006" y="6410"/>
                  <a:pt x="7014" y="6365"/>
                  <a:pt x="7045" y="6375"/>
                </a:cubicBezTo>
                <a:cubicBezTo>
                  <a:pt x="7097" y="6391"/>
                  <a:pt x="7130" y="6400"/>
                  <a:pt x="7193" y="6400"/>
                </a:cubicBezTo>
                <a:cubicBezTo>
                  <a:pt x="7259" y="6400"/>
                  <a:pt x="7351" y="6410"/>
                  <a:pt x="7417" y="6424"/>
                </a:cubicBezTo>
                <a:cubicBezTo>
                  <a:pt x="7498" y="6441"/>
                  <a:pt x="7556" y="6449"/>
                  <a:pt x="7640" y="6449"/>
                </a:cubicBezTo>
                <a:cubicBezTo>
                  <a:pt x="7686" y="6449"/>
                  <a:pt x="7676" y="6447"/>
                  <a:pt x="7714" y="6424"/>
                </a:cubicBezTo>
              </a:path>
              <a:path w="6450" h="2854">
                <a:moveTo>
                  <a:pt x="7665" y="4961"/>
                </a:moveTo>
                <a:cubicBezTo>
                  <a:pt x="7809" y="5091"/>
                  <a:pt x="7893" y="5188"/>
                  <a:pt x="7987" y="5358"/>
                </a:cubicBezTo>
                <a:cubicBezTo>
                  <a:pt x="8074" y="5516"/>
                  <a:pt x="8097" y="5681"/>
                  <a:pt x="8136" y="5854"/>
                </a:cubicBezTo>
                <a:cubicBezTo>
                  <a:pt x="8167" y="5991"/>
                  <a:pt x="8171" y="6113"/>
                  <a:pt x="8136" y="6251"/>
                </a:cubicBezTo>
                <a:cubicBezTo>
                  <a:pt x="8089" y="6433"/>
                  <a:pt x="8038" y="6473"/>
                  <a:pt x="7913" y="6598"/>
                </a:cubicBezTo>
                <a:cubicBezTo>
                  <a:pt x="7852" y="6659"/>
                  <a:pt x="7786" y="6678"/>
                  <a:pt x="7714" y="6722"/>
                </a:cubicBezTo>
                <a:cubicBezTo>
                  <a:pt x="7674" y="6746"/>
                  <a:pt x="7615" y="6750"/>
                  <a:pt x="7615" y="6796"/>
                </a:cubicBezTo>
                <a:cubicBezTo>
                  <a:pt x="7615" y="6821"/>
                  <a:pt x="7615" y="6829"/>
                  <a:pt x="7640" y="6821"/>
                </a:cubicBezTo>
              </a:path>
              <a:path w="6450" h="2854">
                <a:moveTo>
                  <a:pt x="3820" y="4738"/>
                </a:moveTo>
                <a:cubicBezTo>
                  <a:pt x="3782" y="4727"/>
                  <a:pt x="3764" y="4717"/>
                  <a:pt x="3721" y="4713"/>
                </a:cubicBezTo>
                <a:cubicBezTo>
                  <a:pt x="3626" y="4703"/>
                  <a:pt x="3535" y="4732"/>
                  <a:pt x="3448" y="4738"/>
                </a:cubicBezTo>
                <a:cubicBezTo>
                  <a:pt x="3376" y="4743"/>
                  <a:pt x="3316" y="4742"/>
                  <a:pt x="3249" y="4762"/>
                </a:cubicBezTo>
                <a:cubicBezTo>
                  <a:pt x="3198" y="4777"/>
                  <a:pt x="3139" y="4798"/>
                  <a:pt x="3101" y="4837"/>
                </a:cubicBezTo>
                <a:cubicBezTo>
                  <a:pt x="3062" y="4876"/>
                  <a:pt x="3078" y="4938"/>
                  <a:pt x="3076" y="4986"/>
                </a:cubicBezTo>
                <a:cubicBezTo>
                  <a:pt x="3061" y="5450"/>
                  <a:pt x="3090" y="5915"/>
                  <a:pt x="3051" y="6375"/>
                </a:cubicBezTo>
                <a:cubicBezTo>
                  <a:pt x="3040" y="6508"/>
                  <a:pt x="3048" y="6641"/>
                  <a:pt x="3026" y="6772"/>
                </a:cubicBezTo>
                <a:cubicBezTo>
                  <a:pt x="3008" y="6878"/>
                  <a:pt x="2959" y="6969"/>
                  <a:pt x="2927" y="7069"/>
                </a:cubicBezTo>
                <a:cubicBezTo>
                  <a:pt x="2907" y="7134"/>
                  <a:pt x="2873" y="7207"/>
                  <a:pt x="2853" y="7268"/>
                </a:cubicBezTo>
                <a:cubicBezTo>
                  <a:pt x="2853" y="7276"/>
                  <a:pt x="2853" y="7285"/>
                  <a:pt x="2853" y="7293"/>
                </a:cubicBezTo>
                <a:cubicBezTo>
                  <a:pt x="3062" y="7293"/>
                  <a:pt x="3267" y="7285"/>
                  <a:pt x="3473" y="7268"/>
                </a:cubicBezTo>
                <a:cubicBezTo>
                  <a:pt x="3608" y="7257"/>
                  <a:pt x="3834" y="7315"/>
                  <a:pt x="3944" y="7293"/>
                </a:cubicBezTo>
                <a:cubicBezTo>
                  <a:pt x="3944" y="7285"/>
                  <a:pt x="3944" y="7276"/>
                  <a:pt x="3944" y="7268"/>
                </a:cubicBezTo>
              </a:path>
              <a:path w="6450" h="2854">
                <a:moveTo>
                  <a:pt x="7466" y="4490"/>
                </a:moveTo>
                <a:cubicBezTo>
                  <a:pt x="7516" y="4479"/>
                  <a:pt x="7531" y="4467"/>
                  <a:pt x="7590" y="4465"/>
                </a:cubicBezTo>
                <a:cubicBezTo>
                  <a:pt x="7708" y="4460"/>
                  <a:pt x="7818" y="4440"/>
                  <a:pt x="7938" y="4440"/>
                </a:cubicBezTo>
                <a:cubicBezTo>
                  <a:pt x="8106" y="4440"/>
                  <a:pt x="8331" y="4437"/>
                  <a:pt x="8458" y="4465"/>
                </a:cubicBezTo>
                <a:cubicBezTo>
                  <a:pt x="8466" y="4465"/>
                  <a:pt x="8475" y="4465"/>
                  <a:pt x="8483" y="4465"/>
                </a:cubicBezTo>
                <a:cubicBezTo>
                  <a:pt x="8472" y="4511"/>
                  <a:pt x="8463" y="4541"/>
                  <a:pt x="8458" y="4589"/>
                </a:cubicBezTo>
                <a:cubicBezTo>
                  <a:pt x="8444" y="4732"/>
                  <a:pt x="8469" y="4872"/>
                  <a:pt x="8483" y="5011"/>
                </a:cubicBezTo>
                <a:cubicBezTo>
                  <a:pt x="8496" y="5144"/>
                  <a:pt x="8508" y="5272"/>
                  <a:pt x="8508" y="5407"/>
                </a:cubicBezTo>
                <a:cubicBezTo>
                  <a:pt x="8508" y="5683"/>
                  <a:pt x="8501" y="5954"/>
                  <a:pt x="8483" y="6226"/>
                </a:cubicBezTo>
                <a:cubicBezTo>
                  <a:pt x="8464" y="6512"/>
                  <a:pt x="8522" y="6819"/>
                  <a:pt x="8458" y="7094"/>
                </a:cubicBezTo>
                <a:cubicBezTo>
                  <a:pt x="8446" y="7146"/>
                  <a:pt x="8464" y="7168"/>
                  <a:pt x="8409" y="7193"/>
                </a:cubicBezTo>
                <a:cubicBezTo>
                  <a:pt x="8374" y="7209"/>
                  <a:pt x="8299" y="7214"/>
                  <a:pt x="8260" y="7218"/>
                </a:cubicBezTo>
                <a:cubicBezTo>
                  <a:pt x="8077" y="7235"/>
                  <a:pt x="7893" y="7206"/>
                  <a:pt x="7714" y="7193"/>
                </a:cubicBezTo>
                <a:cubicBezTo>
                  <a:pt x="7549" y="7181"/>
                  <a:pt x="7382" y="7183"/>
                  <a:pt x="7218" y="7169"/>
                </a:cubicBezTo>
                <a:cubicBezTo>
                  <a:pt x="7121" y="7161"/>
                  <a:pt x="7019" y="7169"/>
                  <a:pt x="6921" y="7169"/>
                </a:cubicBezTo>
              </a:path>
              <a:path w="6450" h="2854">
                <a:moveTo>
                  <a:pt x="2133" y="5779"/>
                </a:moveTo>
                <a:cubicBezTo>
                  <a:pt x="2133" y="5787"/>
                  <a:pt x="2133" y="5796"/>
                  <a:pt x="2133" y="5804"/>
                </a:cubicBezTo>
                <a:cubicBezTo>
                  <a:pt x="2150" y="5771"/>
                  <a:pt x="2151" y="5791"/>
                  <a:pt x="2158" y="5755"/>
                </a:cubicBezTo>
                <a:cubicBezTo>
                  <a:pt x="2169" y="5703"/>
                  <a:pt x="2165" y="5677"/>
                  <a:pt x="2183" y="5631"/>
                </a:cubicBezTo>
                <a:cubicBezTo>
                  <a:pt x="2207" y="5571"/>
                  <a:pt x="2217" y="5564"/>
                  <a:pt x="2257" y="5531"/>
                </a:cubicBezTo>
                <a:cubicBezTo>
                  <a:pt x="2298" y="5497"/>
                  <a:pt x="2316" y="5499"/>
                  <a:pt x="2356" y="5531"/>
                </a:cubicBezTo>
                <a:cubicBezTo>
                  <a:pt x="2416" y="5579"/>
                  <a:pt x="2427" y="5636"/>
                  <a:pt x="2456" y="5705"/>
                </a:cubicBezTo>
                <a:cubicBezTo>
                  <a:pt x="2492" y="5791"/>
                  <a:pt x="2490" y="5909"/>
                  <a:pt x="2480" y="6003"/>
                </a:cubicBezTo>
                <a:cubicBezTo>
                  <a:pt x="2464" y="6151"/>
                  <a:pt x="2424" y="6249"/>
                  <a:pt x="2356" y="6375"/>
                </a:cubicBezTo>
                <a:cubicBezTo>
                  <a:pt x="2320" y="6442"/>
                  <a:pt x="2272" y="6486"/>
                  <a:pt x="2208" y="6524"/>
                </a:cubicBezTo>
                <a:cubicBezTo>
                  <a:pt x="2155" y="6555"/>
                  <a:pt x="2128" y="6559"/>
                  <a:pt x="2084" y="6524"/>
                </a:cubicBezTo>
                <a:cubicBezTo>
                  <a:pt x="2045" y="6493"/>
                  <a:pt x="2059" y="6446"/>
                  <a:pt x="2059" y="6400"/>
                </a:cubicBezTo>
                <a:cubicBezTo>
                  <a:pt x="2059" y="6358"/>
                  <a:pt x="2066" y="6312"/>
                  <a:pt x="2084" y="6276"/>
                </a:cubicBezTo>
                <a:cubicBezTo>
                  <a:pt x="2096" y="6253"/>
                  <a:pt x="2122" y="6221"/>
                  <a:pt x="2133" y="6201"/>
                </a:cubicBezTo>
                <a:cubicBezTo>
                  <a:pt x="2190" y="6209"/>
                  <a:pt x="2202" y="6221"/>
                  <a:pt x="2257" y="6251"/>
                </a:cubicBezTo>
                <a:cubicBezTo>
                  <a:pt x="2317" y="6283"/>
                  <a:pt x="2370" y="6319"/>
                  <a:pt x="2431" y="6350"/>
                </a:cubicBezTo>
                <a:cubicBezTo>
                  <a:pt x="2489" y="6379"/>
                  <a:pt x="2545" y="6381"/>
                  <a:pt x="2604" y="6400"/>
                </a:cubicBezTo>
                <a:cubicBezTo>
                  <a:pt x="2658" y="6418"/>
                  <a:pt x="2674" y="6421"/>
                  <a:pt x="2729" y="6424"/>
                </a:cubicBezTo>
                <a:cubicBezTo>
                  <a:pt x="2753" y="6424"/>
                  <a:pt x="2762" y="6424"/>
                  <a:pt x="2778" y="642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928800" y="2820960"/>
            <a:ext cx="1179360" cy="554040"/>
          </a:xfrm>
          <a:custGeom>
            <a:avLst/>
            <a:gdLst/>
            <a:ahLst/>
            <a:rect l="l" t="t" r="r" b="b"/>
            <a:pathLst>
              <a:path w="3275" h="1539">
                <a:moveTo>
                  <a:pt x="2778" y="8186"/>
                </a:moveTo>
                <a:cubicBezTo>
                  <a:pt x="2761" y="8203"/>
                  <a:pt x="2746" y="8218"/>
                  <a:pt x="2729" y="8235"/>
                </a:cubicBezTo>
                <a:cubicBezTo>
                  <a:pt x="2704" y="8235"/>
                  <a:pt x="2696" y="8235"/>
                  <a:pt x="2704" y="8260"/>
                </a:cubicBezTo>
                <a:cubicBezTo>
                  <a:pt x="2704" y="8203"/>
                  <a:pt x="2705" y="8182"/>
                  <a:pt x="2729" y="8136"/>
                </a:cubicBezTo>
                <a:cubicBezTo>
                  <a:pt x="2747" y="8102"/>
                  <a:pt x="2762" y="8063"/>
                  <a:pt x="2803" y="8037"/>
                </a:cubicBezTo>
                <a:cubicBezTo>
                  <a:pt x="2853" y="8005"/>
                  <a:pt x="2870" y="8015"/>
                  <a:pt x="2927" y="8037"/>
                </a:cubicBezTo>
                <a:cubicBezTo>
                  <a:pt x="2985" y="8059"/>
                  <a:pt x="3027" y="8129"/>
                  <a:pt x="3051" y="8186"/>
                </a:cubicBezTo>
                <a:cubicBezTo>
                  <a:pt x="3090" y="8280"/>
                  <a:pt x="3117" y="8380"/>
                  <a:pt x="3101" y="8483"/>
                </a:cubicBezTo>
                <a:cubicBezTo>
                  <a:pt x="3083" y="8599"/>
                  <a:pt x="3036" y="8753"/>
                  <a:pt x="2977" y="8855"/>
                </a:cubicBezTo>
                <a:cubicBezTo>
                  <a:pt x="2924" y="8945"/>
                  <a:pt x="2862" y="8971"/>
                  <a:pt x="2778" y="9004"/>
                </a:cubicBezTo>
                <a:cubicBezTo>
                  <a:pt x="2737" y="9020"/>
                  <a:pt x="2676" y="9047"/>
                  <a:pt x="2629" y="9029"/>
                </a:cubicBezTo>
                <a:cubicBezTo>
                  <a:pt x="2572" y="9007"/>
                  <a:pt x="2585" y="8986"/>
                  <a:pt x="2580" y="8930"/>
                </a:cubicBezTo>
                <a:cubicBezTo>
                  <a:pt x="2576" y="8891"/>
                  <a:pt x="2610" y="8796"/>
                  <a:pt x="2654" y="8781"/>
                </a:cubicBezTo>
                <a:cubicBezTo>
                  <a:pt x="2697" y="8766"/>
                  <a:pt x="2765" y="8696"/>
                  <a:pt x="2828" y="8731"/>
                </a:cubicBezTo>
                <a:cubicBezTo>
                  <a:pt x="2878" y="8759"/>
                  <a:pt x="2969" y="8796"/>
                  <a:pt x="3001" y="8855"/>
                </a:cubicBezTo>
                <a:cubicBezTo>
                  <a:pt x="3039" y="8925"/>
                  <a:pt x="3075" y="9002"/>
                  <a:pt x="3101" y="9079"/>
                </a:cubicBezTo>
                <a:cubicBezTo>
                  <a:pt x="3120" y="9136"/>
                  <a:pt x="3110" y="9161"/>
                  <a:pt x="3150" y="9153"/>
                </a:cubicBezTo>
              </a:path>
              <a:path w="3275" h="1539">
                <a:moveTo>
                  <a:pt x="3547" y="7888"/>
                </a:moveTo>
                <a:cubicBezTo>
                  <a:pt x="3632" y="7851"/>
                  <a:pt x="3697" y="7863"/>
                  <a:pt x="3795" y="7863"/>
                </a:cubicBezTo>
                <a:cubicBezTo>
                  <a:pt x="3885" y="7863"/>
                  <a:pt x="3960" y="7851"/>
                  <a:pt x="4043" y="7838"/>
                </a:cubicBezTo>
                <a:cubicBezTo>
                  <a:pt x="4073" y="7833"/>
                  <a:pt x="4111" y="7838"/>
                  <a:pt x="4142" y="7838"/>
                </a:cubicBezTo>
              </a:path>
              <a:path w="3275" h="1539">
                <a:moveTo>
                  <a:pt x="3473" y="7938"/>
                </a:moveTo>
                <a:cubicBezTo>
                  <a:pt x="3455" y="8098"/>
                  <a:pt x="3448" y="8249"/>
                  <a:pt x="3448" y="8409"/>
                </a:cubicBezTo>
                <a:cubicBezTo>
                  <a:pt x="3448" y="8593"/>
                  <a:pt x="3454" y="8789"/>
                  <a:pt x="3423" y="8954"/>
                </a:cubicBezTo>
                <a:cubicBezTo>
                  <a:pt x="3415" y="8998"/>
                  <a:pt x="3403" y="9064"/>
                  <a:pt x="3398" y="9079"/>
                </a:cubicBezTo>
                <a:cubicBezTo>
                  <a:pt x="3388" y="9109"/>
                  <a:pt x="3404" y="9079"/>
                  <a:pt x="3448" y="9079"/>
                </a:cubicBezTo>
                <a:cubicBezTo>
                  <a:pt x="3487" y="9079"/>
                  <a:pt x="3569" y="9086"/>
                  <a:pt x="3597" y="9103"/>
                </a:cubicBezTo>
                <a:cubicBezTo>
                  <a:pt x="3685" y="9157"/>
                  <a:pt x="3708" y="9153"/>
                  <a:pt x="3820" y="9153"/>
                </a:cubicBezTo>
                <a:cubicBezTo>
                  <a:pt x="3906" y="9153"/>
                  <a:pt x="3947" y="9167"/>
                  <a:pt x="4018" y="9153"/>
                </a:cubicBezTo>
                <a:cubicBezTo>
                  <a:pt x="4035" y="9153"/>
                  <a:pt x="4051" y="9153"/>
                  <a:pt x="4068" y="9153"/>
                </a:cubicBezTo>
              </a:path>
              <a:path w="3275" h="1539">
                <a:moveTo>
                  <a:pt x="3969" y="8210"/>
                </a:moveTo>
                <a:cubicBezTo>
                  <a:pt x="4114" y="8210"/>
                  <a:pt x="4250" y="8208"/>
                  <a:pt x="4390" y="8235"/>
                </a:cubicBezTo>
                <a:cubicBezTo>
                  <a:pt x="4429" y="8242"/>
                  <a:pt x="4474" y="8235"/>
                  <a:pt x="4514" y="8235"/>
                </a:cubicBezTo>
                <a:cubicBezTo>
                  <a:pt x="4478" y="8244"/>
                  <a:pt x="4453" y="8273"/>
                  <a:pt x="4440" y="8310"/>
                </a:cubicBezTo>
                <a:cubicBezTo>
                  <a:pt x="4421" y="8365"/>
                  <a:pt x="4409" y="8419"/>
                  <a:pt x="4390" y="8483"/>
                </a:cubicBezTo>
                <a:cubicBezTo>
                  <a:pt x="4366" y="8563"/>
                  <a:pt x="4352" y="8650"/>
                  <a:pt x="4341" y="8731"/>
                </a:cubicBezTo>
                <a:cubicBezTo>
                  <a:pt x="4331" y="8803"/>
                  <a:pt x="4317" y="8886"/>
                  <a:pt x="4291" y="8954"/>
                </a:cubicBezTo>
                <a:cubicBezTo>
                  <a:pt x="4267" y="9017"/>
                  <a:pt x="4266" y="9012"/>
                  <a:pt x="4266" y="9079"/>
                </a:cubicBezTo>
              </a:path>
              <a:path w="3275" h="1539">
                <a:moveTo>
                  <a:pt x="4762" y="8161"/>
                </a:moveTo>
                <a:cubicBezTo>
                  <a:pt x="4762" y="8225"/>
                  <a:pt x="4743" y="8272"/>
                  <a:pt x="4738" y="8334"/>
                </a:cubicBezTo>
                <a:cubicBezTo>
                  <a:pt x="4734" y="8390"/>
                  <a:pt x="4718" y="8517"/>
                  <a:pt x="4762" y="8558"/>
                </a:cubicBezTo>
                <a:cubicBezTo>
                  <a:pt x="4800" y="8593"/>
                  <a:pt x="4860" y="8588"/>
                  <a:pt x="4911" y="8582"/>
                </a:cubicBezTo>
                <a:cubicBezTo>
                  <a:pt x="5005" y="8571"/>
                  <a:pt x="4994" y="8520"/>
                  <a:pt x="5060" y="8483"/>
                </a:cubicBezTo>
                <a:cubicBezTo>
                  <a:pt x="5085" y="8469"/>
                  <a:pt x="5148" y="8382"/>
                  <a:pt x="5135" y="8334"/>
                </a:cubicBezTo>
                <a:cubicBezTo>
                  <a:pt x="5119" y="8277"/>
                  <a:pt x="5054" y="8191"/>
                  <a:pt x="5011" y="8161"/>
                </a:cubicBezTo>
                <a:cubicBezTo>
                  <a:pt x="4976" y="8136"/>
                  <a:pt x="4854" y="8120"/>
                  <a:pt x="4812" y="8136"/>
                </a:cubicBezTo>
                <a:cubicBezTo>
                  <a:pt x="4753" y="8176"/>
                  <a:pt x="4742" y="8180"/>
                  <a:pt x="4713" y="8210"/>
                </a:cubicBezTo>
              </a:path>
              <a:path w="3275" h="1539">
                <a:moveTo>
                  <a:pt x="4862" y="8558"/>
                </a:moveTo>
                <a:cubicBezTo>
                  <a:pt x="4829" y="8630"/>
                  <a:pt x="4810" y="8641"/>
                  <a:pt x="4762" y="8706"/>
                </a:cubicBezTo>
                <a:cubicBezTo>
                  <a:pt x="4739" y="8738"/>
                  <a:pt x="4665" y="8848"/>
                  <a:pt x="4663" y="8855"/>
                </a:cubicBezTo>
                <a:cubicBezTo>
                  <a:pt x="4651" y="8909"/>
                  <a:pt x="4688" y="8997"/>
                  <a:pt x="4738" y="9029"/>
                </a:cubicBezTo>
                <a:cubicBezTo>
                  <a:pt x="4806" y="9072"/>
                  <a:pt x="4951" y="9117"/>
                  <a:pt x="5035" y="9103"/>
                </a:cubicBezTo>
                <a:cubicBezTo>
                  <a:pt x="5115" y="9090"/>
                  <a:pt x="5186" y="9076"/>
                  <a:pt x="5234" y="9004"/>
                </a:cubicBezTo>
                <a:cubicBezTo>
                  <a:pt x="5260" y="8965"/>
                  <a:pt x="5286" y="8844"/>
                  <a:pt x="5259" y="8806"/>
                </a:cubicBezTo>
                <a:cubicBezTo>
                  <a:pt x="5214" y="8744"/>
                  <a:pt x="5129" y="8743"/>
                  <a:pt x="5085" y="8706"/>
                </a:cubicBezTo>
                <a:cubicBezTo>
                  <a:pt x="5049" y="8676"/>
                  <a:pt x="5003" y="8675"/>
                  <a:pt x="4986" y="8632"/>
                </a:cubicBezTo>
                <a:cubicBezTo>
                  <a:pt x="4986" y="8615"/>
                  <a:pt x="4986" y="8599"/>
                  <a:pt x="4986" y="8582"/>
                </a:cubicBezTo>
              </a:path>
              <a:path w="3275" h="1539">
                <a:moveTo>
                  <a:pt x="5259" y="7838"/>
                </a:moveTo>
                <a:cubicBezTo>
                  <a:pt x="5392" y="7838"/>
                  <a:pt x="5719" y="7782"/>
                  <a:pt x="5829" y="7863"/>
                </a:cubicBezTo>
                <a:cubicBezTo>
                  <a:pt x="5854" y="7881"/>
                  <a:pt x="5869" y="7907"/>
                  <a:pt x="5854" y="7962"/>
                </a:cubicBezTo>
                <a:cubicBezTo>
                  <a:pt x="5831" y="8046"/>
                  <a:pt x="5807" y="8119"/>
                  <a:pt x="5804" y="8210"/>
                </a:cubicBezTo>
                <a:cubicBezTo>
                  <a:pt x="5800" y="8316"/>
                  <a:pt x="5819" y="8405"/>
                  <a:pt x="5829" y="8508"/>
                </a:cubicBezTo>
                <a:cubicBezTo>
                  <a:pt x="5841" y="8624"/>
                  <a:pt x="5854" y="8737"/>
                  <a:pt x="5854" y="8855"/>
                </a:cubicBezTo>
                <a:cubicBezTo>
                  <a:pt x="5854" y="8953"/>
                  <a:pt x="5872" y="9062"/>
                  <a:pt x="5829" y="9153"/>
                </a:cubicBezTo>
                <a:cubicBezTo>
                  <a:pt x="5798" y="9219"/>
                  <a:pt x="5732" y="9275"/>
                  <a:pt x="5680" y="9327"/>
                </a:cubicBezTo>
              </a:path>
              <a:path w="3275" h="1539">
                <a:moveTo>
                  <a:pt x="5730" y="9327"/>
                </a:moveTo>
                <a:cubicBezTo>
                  <a:pt x="5650" y="9327"/>
                  <a:pt x="5630" y="9370"/>
                  <a:pt x="5556" y="9376"/>
                </a:cubicBezTo>
                <a:cubicBezTo>
                  <a:pt x="5434" y="9386"/>
                  <a:pt x="5306" y="9376"/>
                  <a:pt x="5184" y="937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1268280" y="3562200"/>
            <a:ext cx="500040" cy="366840"/>
          </a:xfrm>
          <a:custGeom>
            <a:avLst/>
            <a:gdLst/>
            <a:ahLst/>
            <a:rect l="l" t="t" r="r" b="b"/>
            <a:pathLst>
              <a:path w="1390" h="1018">
                <a:moveTo>
                  <a:pt x="3547" y="9922"/>
                </a:moveTo>
                <a:cubicBezTo>
                  <a:pt x="3611" y="9921"/>
                  <a:pt x="3550" y="9976"/>
                  <a:pt x="3547" y="10046"/>
                </a:cubicBezTo>
                <a:cubicBezTo>
                  <a:pt x="3542" y="10149"/>
                  <a:pt x="3533" y="10244"/>
                  <a:pt x="3522" y="10344"/>
                </a:cubicBezTo>
                <a:cubicBezTo>
                  <a:pt x="3502" y="10524"/>
                  <a:pt x="3522" y="11021"/>
                  <a:pt x="3522" y="10840"/>
                </a:cubicBezTo>
              </a:path>
              <a:path w="1390" h="1018">
                <a:moveTo>
                  <a:pt x="3870" y="9996"/>
                </a:moveTo>
                <a:cubicBezTo>
                  <a:pt x="4002" y="9996"/>
                  <a:pt x="4134" y="9996"/>
                  <a:pt x="4266" y="9996"/>
                </a:cubicBezTo>
              </a:path>
              <a:path w="1390" h="1018">
                <a:moveTo>
                  <a:pt x="3845" y="9996"/>
                </a:moveTo>
                <a:cubicBezTo>
                  <a:pt x="3818" y="10071"/>
                  <a:pt x="3795" y="10117"/>
                  <a:pt x="3795" y="10195"/>
                </a:cubicBezTo>
                <a:cubicBezTo>
                  <a:pt x="3795" y="10228"/>
                  <a:pt x="3795" y="10244"/>
                  <a:pt x="3795" y="10269"/>
                </a:cubicBezTo>
                <a:cubicBezTo>
                  <a:pt x="3876" y="10269"/>
                  <a:pt x="3834" y="10260"/>
                  <a:pt x="3894" y="10220"/>
                </a:cubicBezTo>
                <a:cubicBezTo>
                  <a:pt x="3921" y="10202"/>
                  <a:pt x="3957" y="10195"/>
                  <a:pt x="3994" y="10195"/>
                </a:cubicBezTo>
                <a:cubicBezTo>
                  <a:pt x="4061" y="10195"/>
                  <a:pt x="4077" y="10237"/>
                  <a:pt x="4118" y="10269"/>
                </a:cubicBezTo>
                <a:cubicBezTo>
                  <a:pt x="4168" y="10308"/>
                  <a:pt x="4188" y="10392"/>
                  <a:pt x="4217" y="10443"/>
                </a:cubicBezTo>
                <a:cubicBezTo>
                  <a:pt x="4268" y="10532"/>
                  <a:pt x="4231" y="10604"/>
                  <a:pt x="4217" y="10691"/>
                </a:cubicBezTo>
                <a:cubicBezTo>
                  <a:pt x="4206" y="10763"/>
                  <a:pt x="4187" y="10783"/>
                  <a:pt x="4118" y="10815"/>
                </a:cubicBezTo>
                <a:cubicBezTo>
                  <a:pt x="4055" y="10844"/>
                  <a:pt x="4014" y="10840"/>
                  <a:pt x="3944" y="10840"/>
                </a:cubicBezTo>
                <a:cubicBezTo>
                  <a:pt x="3903" y="10840"/>
                  <a:pt x="3838" y="10806"/>
                  <a:pt x="3820" y="10765"/>
                </a:cubicBezTo>
                <a:cubicBezTo>
                  <a:pt x="3820" y="10732"/>
                  <a:pt x="3820" y="10716"/>
                  <a:pt x="3820" y="10691"/>
                </a:cubicBezTo>
              </a:path>
              <a:path w="1390" h="1018">
                <a:moveTo>
                  <a:pt x="4539" y="9897"/>
                </a:moveTo>
                <a:cubicBezTo>
                  <a:pt x="4532" y="10001"/>
                  <a:pt x="4520" y="10094"/>
                  <a:pt x="4490" y="10195"/>
                </a:cubicBezTo>
                <a:cubicBezTo>
                  <a:pt x="4458" y="10303"/>
                  <a:pt x="4440" y="10378"/>
                  <a:pt x="4440" y="10492"/>
                </a:cubicBezTo>
                <a:cubicBezTo>
                  <a:pt x="4440" y="10577"/>
                  <a:pt x="4440" y="10635"/>
                  <a:pt x="4465" y="10716"/>
                </a:cubicBezTo>
                <a:cubicBezTo>
                  <a:pt x="4484" y="10777"/>
                  <a:pt x="4547" y="10869"/>
                  <a:pt x="4614" y="10889"/>
                </a:cubicBezTo>
                <a:cubicBezTo>
                  <a:pt x="4710" y="10917"/>
                  <a:pt x="4741" y="10922"/>
                  <a:pt x="4837" y="10864"/>
                </a:cubicBezTo>
                <a:cubicBezTo>
                  <a:pt x="4894" y="10830"/>
                  <a:pt x="4907" y="10776"/>
                  <a:pt x="4911" y="10716"/>
                </a:cubicBezTo>
                <a:cubicBezTo>
                  <a:pt x="4915" y="10665"/>
                  <a:pt x="4915" y="10596"/>
                  <a:pt x="4862" y="10567"/>
                </a:cubicBezTo>
                <a:cubicBezTo>
                  <a:pt x="4832" y="10550"/>
                  <a:pt x="4795" y="10530"/>
                  <a:pt x="4762" y="10517"/>
                </a:cubicBezTo>
                <a:cubicBezTo>
                  <a:pt x="4738" y="10529"/>
                  <a:pt x="4683" y="10563"/>
                  <a:pt x="4663" y="10592"/>
                </a:cubicBezTo>
                <a:cubicBezTo>
                  <a:pt x="4626" y="10644"/>
                  <a:pt x="4638" y="10705"/>
                  <a:pt x="4638" y="10765"/>
                </a:cubicBezTo>
                <a:cubicBezTo>
                  <a:pt x="4638" y="10838"/>
                  <a:pt x="4652" y="10830"/>
                  <a:pt x="4713" y="108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990800" y="3625920"/>
            <a:ext cx="1046160" cy="366480"/>
          </a:xfrm>
          <a:custGeom>
            <a:avLst/>
            <a:gdLst/>
            <a:ahLst/>
            <a:rect l="l" t="t" r="r" b="b"/>
            <a:pathLst>
              <a:path w="2904" h="1018">
                <a:moveTo>
                  <a:pt x="5804" y="10443"/>
                </a:moveTo>
                <a:cubicBezTo>
                  <a:pt x="5791" y="10405"/>
                  <a:pt x="5775" y="10418"/>
                  <a:pt x="5730" y="10418"/>
                </a:cubicBezTo>
                <a:cubicBezTo>
                  <a:pt x="5664" y="10418"/>
                  <a:pt x="5597" y="10418"/>
                  <a:pt x="5531" y="10418"/>
                </a:cubicBezTo>
                <a:cubicBezTo>
                  <a:pt x="5546" y="10493"/>
                  <a:pt x="5552" y="10472"/>
                  <a:pt x="5606" y="10492"/>
                </a:cubicBezTo>
                <a:cubicBezTo>
                  <a:pt x="5676" y="10517"/>
                  <a:pt x="5728" y="10590"/>
                  <a:pt x="5779" y="10641"/>
                </a:cubicBezTo>
                <a:cubicBezTo>
                  <a:pt x="5856" y="10718"/>
                  <a:pt x="5863" y="10724"/>
                  <a:pt x="5904" y="10815"/>
                </a:cubicBezTo>
                <a:cubicBezTo>
                  <a:pt x="5922" y="10854"/>
                  <a:pt x="5943" y="10886"/>
                  <a:pt x="5879" y="10914"/>
                </a:cubicBezTo>
                <a:cubicBezTo>
                  <a:pt x="5834" y="10934"/>
                  <a:pt x="5769" y="10907"/>
                  <a:pt x="5730" y="10889"/>
                </a:cubicBezTo>
                <a:cubicBezTo>
                  <a:pt x="5671" y="10861"/>
                  <a:pt x="5608" y="10829"/>
                  <a:pt x="5556" y="10790"/>
                </a:cubicBezTo>
                <a:cubicBezTo>
                  <a:pt x="5523" y="10766"/>
                  <a:pt x="5531" y="10751"/>
                  <a:pt x="5531" y="10716"/>
                </a:cubicBezTo>
              </a:path>
              <a:path w="2904" h="1018">
                <a:moveTo>
                  <a:pt x="6201" y="10071"/>
                </a:moveTo>
                <a:cubicBezTo>
                  <a:pt x="6201" y="10281"/>
                  <a:pt x="6201" y="10485"/>
                  <a:pt x="6226" y="10691"/>
                </a:cubicBezTo>
                <a:cubicBezTo>
                  <a:pt x="6233" y="10749"/>
                  <a:pt x="6249" y="10838"/>
                  <a:pt x="6276" y="10889"/>
                </a:cubicBezTo>
                <a:cubicBezTo>
                  <a:pt x="6296" y="10927"/>
                  <a:pt x="6300" y="10919"/>
                  <a:pt x="6300" y="10964"/>
                </a:cubicBezTo>
              </a:path>
              <a:path w="2904" h="1018">
                <a:moveTo>
                  <a:pt x="5978" y="10443"/>
                </a:moveTo>
                <a:cubicBezTo>
                  <a:pt x="6052" y="10443"/>
                  <a:pt x="6066" y="10476"/>
                  <a:pt x="6127" y="10492"/>
                </a:cubicBezTo>
                <a:cubicBezTo>
                  <a:pt x="6208" y="10513"/>
                  <a:pt x="6291" y="10494"/>
                  <a:pt x="6375" y="10517"/>
                </a:cubicBezTo>
              </a:path>
              <a:path w="2904" h="1018">
                <a:moveTo>
                  <a:pt x="6499" y="10641"/>
                </a:moveTo>
                <a:cubicBezTo>
                  <a:pt x="6518" y="10712"/>
                  <a:pt x="6544" y="10772"/>
                  <a:pt x="6548" y="10840"/>
                </a:cubicBezTo>
                <a:cubicBezTo>
                  <a:pt x="6549" y="10856"/>
                  <a:pt x="6573" y="10976"/>
                  <a:pt x="6573" y="10914"/>
                </a:cubicBezTo>
                <a:cubicBezTo>
                  <a:pt x="6573" y="10856"/>
                  <a:pt x="6565" y="10793"/>
                  <a:pt x="6548" y="10740"/>
                </a:cubicBezTo>
                <a:cubicBezTo>
                  <a:pt x="6525" y="10669"/>
                  <a:pt x="6517" y="10590"/>
                  <a:pt x="6548" y="10517"/>
                </a:cubicBezTo>
                <a:cubicBezTo>
                  <a:pt x="6567" y="10472"/>
                  <a:pt x="6658" y="10492"/>
                  <a:pt x="6697" y="10492"/>
                </a:cubicBezTo>
                <a:cubicBezTo>
                  <a:pt x="6739" y="10492"/>
                  <a:pt x="6747" y="10492"/>
                  <a:pt x="6772" y="10492"/>
                </a:cubicBezTo>
              </a:path>
              <a:path w="2904" h="1018">
                <a:moveTo>
                  <a:pt x="6871" y="10517"/>
                </a:moveTo>
                <a:cubicBezTo>
                  <a:pt x="6885" y="10623"/>
                  <a:pt x="6904" y="10717"/>
                  <a:pt x="6921" y="10815"/>
                </a:cubicBezTo>
                <a:cubicBezTo>
                  <a:pt x="6929" y="10862"/>
                  <a:pt x="7013" y="10960"/>
                  <a:pt x="6970" y="10939"/>
                </a:cubicBezTo>
                <a:cubicBezTo>
                  <a:pt x="6962" y="10931"/>
                  <a:pt x="6953" y="10922"/>
                  <a:pt x="6945" y="10914"/>
                </a:cubicBezTo>
              </a:path>
              <a:path w="2904" h="1018">
                <a:moveTo>
                  <a:pt x="6896" y="10220"/>
                </a:moveTo>
                <a:cubicBezTo>
                  <a:pt x="6896" y="10212"/>
                  <a:pt x="6896" y="10203"/>
                  <a:pt x="6896" y="10195"/>
                </a:cubicBezTo>
              </a:path>
              <a:path w="2904" h="1018">
                <a:moveTo>
                  <a:pt x="7243" y="10071"/>
                </a:moveTo>
                <a:cubicBezTo>
                  <a:pt x="7269" y="10166"/>
                  <a:pt x="7268" y="10244"/>
                  <a:pt x="7268" y="10344"/>
                </a:cubicBezTo>
                <a:cubicBezTo>
                  <a:pt x="7268" y="10437"/>
                  <a:pt x="7279" y="10548"/>
                  <a:pt x="7293" y="10641"/>
                </a:cubicBezTo>
                <a:cubicBezTo>
                  <a:pt x="7307" y="10734"/>
                  <a:pt x="7337" y="10823"/>
                  <a:pt x="7342" y="10914"/>
                </a:cubicBezTo>
                <a:cubicBezTo>
                  <a:pt x="7343" y="10924"/>
                  <a:pt x="7342" y="11080"/>
                  <a:pt x="7342" y="11013"/>
                </a:cubicBezTo>
                <a:cubicBezTo>
                  <a:pt x="7342" y="10972"/>
                  <a:pt x="7342" y="10964"/>
                  <a:pt x="7342" y="10939"/>
                </a:cubicBezTo>
              </a:path>
              <a:path w="2904" h="1018">
                <a:moveTo>
                  <a:pt x="7441" y="10418"/>
                </a:moveTo>
                <a:cubicBezTo>
                  <a:pt x="7420" y="10445"/>
                  <a:pt x="7349" y="10494"/>
                  <a:pt x="7342" y="10517"/>
                </a:cubicBezTo>
                <a:cubicBezTo>
                  <a:pt x="7329" y="10559"/>
                  <a:pt x="7298" y="10642"/>
                  <a:pt x="7317" y="10691"/>
                </a:cubicBezTo>
                <a:cubicBezTo>
                  <a:pt x="7340" y="10750"/>
                  <a:pt x="7366" y="10789"/>
                  <a:pt x="7417" y="10840"/>
                </a:cubicBezTo>
                <a:cubicBezTo>
                  <a:pt x="7465" y="10888"/>
                  <a:pt x="7519" y="10948"/>
                  <a:pt x="7590" y="10964"/>
                </a:cubicBezTo>
                <a:cubicBezTo>
                  <a:pt x="7607" y="10964"/>
                  <a:pt x="7623" y="10964"/>
                  <a:pt x="7640" y="10964"/>
                </a:cubicBezTo>
              </a:path>
              <a:path w="2904" h="1018">
                <a:moveTo>
                  <a:pt x="7640" y="10716"/>
                </a:moveTo>
                <a:cubicBezTo>
                  <a:pt x="7710" y="10716"/>
                  <a:pt x="7918" y="10748"/>
                  <a:pt x="7962" y="10691"/>
                </a:cubicBezTo>
                <a:cubicBezTo>
                  <a:pt x="8001" y="10639"/>
                  <a:pt x="7998" y="10589"/>
                  <a:pt x="7962" y="10567"/>
                </a:cubicBezTo>
                <a:cubicBezTo>
                  <a:pt x="7908" y="10534"/>
                  <a:pt x="7860" y="10468"/>
                  <a:pt x="7789" y="10492"/>
                </a:cubicBezTo>
                <a:cubicBezTo>
                  <a:pt x="7738" y="10509"/>
                  <a:pt x="7693" y="10521"/>
                  <a:pt x="7665" y="10567"/>
                </a:cubicBezTo>
                <a:cubicBezTo>
                  <a:pt x="7619" y="10643"/>
                  <a:pt x="7632" y="10741"/>
                  <a:pt x="7665" y="10815"/>
                </a:cubicBezTo>
                <a:cubicBezTo>
                  <a:pt x="7689" y="10870"/>
                  <a:pt x="7738" y="10930"/>
                  <a:pt x="7789" y="10964"/>
                </a:cubicBezTo>
                <a:cubicBezTo>
                  <a:pt x="7829" y="10984"/>
                  <a:pt x="7836" y="10992"/>
                  <a:pt x="7863" y="10988"/>
                </a:cubicBezTo>
              </a:path>
              <a:path w="2904" h="1018">
                <a:moveTo>
                  <a:pt x="8310" y="10443"/>
                </a:moveTo>
                <a:cubicBezTo>
                  <a:pt x="8192" y="10425"/>
                  <a:pt x="8224" y="10443"/>
                  <a:pt x="8136" y="10443"/>
                </a:cubicBezTo>
                <a:cubicBezTo>
                  <a:pt x="8136" y="10502"/>
                  <a:pt x="8148" y="10539"/>
                  <a:pt x="8161" y="10567"/>
                </a:cubicBezTo>
                <a:cubicBezTo>
                  <a:pt x="8200" y="10650"/>
                  <a:pt x="8251" y="10719"/>
                  <a:pt x="8310" y="10790"/>
                </a:cubicBezTo>
                <a:cubicBezTo>
                  <a:pt x="8360" y="10851"/>
                  <a:pt x="8426" y="10921"/>
                  <a:pt x="8434" y="10988"/>
                </a:cubicBezTo>
                <a:cubicBezTo>
                  <a:pt x="8439" y="11028"/>
                  <a:pt x="8431" y="11077"/>
                  <a:pt x="8409" y="11088"/>
                </a:cubicBezTo>
                <a:cubicBezTo>
                  <a:pt x="8380" y="11103"/>
                  <a:pt x="8265" y="11058"/>
                  <a:pt x="8235" y="11038"/>
                </a:cubicBezTo>
                <a:cubicBezTo>
                  <a:pt x="8188" y="11007"/>
                  <a:pt x="8159" y="11005"/>
                  <a:pt x="8111" y="10988"/>
                </a:cubicBezTo>
                <a:cubicBezTo>
                  <a:pt x="8061" y="10971"/>
                  <a:pt x="8060" y="10964"/>
                  <a:pt x="8012" y="109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um of a finite geometric sequence</a:t>
            </a:r>
            <a:endParaRPr b="0" lang="en-US" sz="4000" spc="-1" strike="noStrike">
              <a:solidFill>
                <a:srgbClr val="e3ebf1"/>
              </a:solidFill>
              <a:latin typeface="Arial"/>
            </a:endParaRPr>
          </a:p>
        </p:txBody>
      </p:sp>
      <p:graphicFrame>
        <p:nvGraphicFramePr>
          <p:cNvPr id="127" name=""/>
          <p:cNvGraphicFramePr/>
          <p:nvPr/>
        </p:nvGraphicFramePr>
        <p:xfrm>
          <a:off x="2133720" y="1981080"/>
          <a:ext cx="3962160" cy="1816200"/>
        </p:xfrm>
        <a:graphic>
          <a:graphicData uri="http://schemas.openxmlformats.org/presentationml/2006/ole">
            <p:oleObj r:id="rId1" spid="">
              <p:embed/>
              <p:pic>
                <p:nvPicPr>
                  <p:cNvPr id="128" name="" descr=""/>
                  <p:cNvPicPr/>
                  <p:nvPr/>
                </p:nvPicPr>
                <p:blipFill>
                  <a:blip r:embed="rId2"/>
                  <a:stretch/>
                </p:blipFill>
                <p:spPr>
                  <a:xfrm>
                    <a:off x="2133720" y="1981080"/>
                    <a:ext cx="3962160" cy="181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2:28:11Z</dcterms:created>
  <dc:creator>abeason</dc:creator>
  <dc:description/>
  <dc:language>en-US</dc:language>
  <cp:lastModifiedBy>abeason</cp:lastModifiedBy>
  <dcterms:modified xsi:type="dcterms:W3CDTF">2009-03-24T16:53:28Z</dcterms:modified>
  <cp:revision>4</cp:revision>
  <dc:subject/>
  <dc:title>Sum of a Finite Geometric Sequence</dc:title>
</cp:coreProperties>
</file>